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media/image1.png" ContentType="image/png"/>
  <Override PartName="/ppt/media/image28.wmf" ContentType="image/x-wmf"/>
  <Override PartName="/ppt/media/image16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A6AC8-7830-46C3-9DC3-FFAE7C2300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493FF-1B91-4700-AEAE-D18464A1F6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37954-A90A-4D14-B2C7-3E3C348619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1F065-D323-4344-A879-0C1DE38D89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6DBEA4-2013-480D-8394-F485972950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591582-D697-45AE-A6CD-4954D458F1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226A7F-B0CF-4C93-886A-4119B06D22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FEB8A7-C27B-4282-8E88-45ADEE44DA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1071D-59F7-496D-8482-364BE08F38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EF5A30-9D28-49B2-89EF-23CAA14A2D0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60E97-3480-466D-9A84-3E2203C064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4502F-C67C-406C-8A08-A007CFB945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FAC481-C066-4922-9D6A-51A31F5A2F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4262B-FBAE-4FE9-AFFE-6FAEC14237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73F54-9E73-4FE6-A71E-01507AB8F3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241FC-1E85-4931-BCF7-8359E2A2A6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ADC78-FD2A-4FFF-B551-013B2C652E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F2484-0F75-4D88-8347-52DE86E5C2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0B362-2B77-4BE0-9B48-9084C1030B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6F689-98EF-4B79-A779-7853E7EA65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FDD23-25ED-438C-B9A2-CDEBCA4F43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5739F-CF35-4840-8C61-1C4EDDAF3D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DF23F-7678-47AC-8ECE-327D41F128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10420-DE6C-4A94-9BFD-0F9C2CED31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1574F126-A7B8-404D-B223-35A76312AD39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E8E6EE56-6D1E-410B-83E7-58CAC11227E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7E2EAEA1-0B2A-42B2-AC96-7D187DB49835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06FF007C-74F9-474C-8B24-F6E143C5341E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-class.unl.edu/psycrs/statpage/comp.html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ndependent.academia.edu/JohnFHall/Talks" TargetMode="External"/><Relationship Id="rId2" Type="http://schemas.openxmlformats.org/officeDocument/2006/relationships/hyperlink" Target="http://independent.academia.edu/JohnFHall/Talks" TargetMode="Externa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Verdana"/>
              </a:rPr>
              <a:t>2 REGRESSION ANALYSI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a044b"/>
                </a:solidFill>
                <a:latin typeface="Tahoma"/>
              </a:rPr>
              <a:t>OR Mixing the ingredient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ahoma"/>
              </a:rPr>
              <a:t>Peter Wats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reg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6779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OUR DATA SETS (ANSCOMB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has outcome, Y and a predictor,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ll fou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= 3.002  +   1.124*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between X and Y=0.8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 of points very important - don’t be fooled by a regression line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O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1187280" y="184464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W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116000" y="1628640"/>
          <a:ext cx="77724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772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HRE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042920" y="1628640"/>
          <a:ext cx="79250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925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FOU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1187280" y="1773360"/>
          <a:ext cx="76964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7696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HECK FOR GROUP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= 0.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-0.05 + 0.96*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atterplot shows existence of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4648320" y="198108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gnoring groups can ignore a correl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01, p=0.98 (N=11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Group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1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9, p&lt;0.01 (N=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8, p&lt;0.001 (N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e group as a “third party” in explaining Y, X1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8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rcel strings (Joseph Petrucell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lity control (breaking strengths of strings) Manufacturers claim that breaking strengths of strings are 20lb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arcel string tested every five minutes consecutively on each of 3 day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1029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ing sequence into account (Days 1 &amp; 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0" y="2133720"/>
          <a:ext cx="4435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43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6"/>
          <p:cNvGraphicFramePr/>
          <p:nvPr/>
        </p:nvGraphicFramePr>
        <p:xfrm>
          <a:off x="4419720" y="2209680"/>
          <a:ext cx="4435200" cy="364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09680"/>
                    <a:ext cx="44352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ay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lude - breaking strengths vary differently over time on each da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5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bababa"/>
                </a:solidFill>
                <a:latin typeface="Tahoma"/>
              </a:rPr>
              <a:t>What is regression?</a:t>
            </a:r>
            <a:endParaRPr b="1" lang="en-US" sz="4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Regression is a common technique in behavioural and social scienc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Explores relationship between 2 or more variabl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Aim is to find best fitting mode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tinuous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thods available for categorical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tegorical predictors need special cod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inearity of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error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l shaped centred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outcome the same for all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omoscedasticit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precision of model for all 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rcentile Bend r=0.24, (downweights outliers; Alternative to nonparametric correlations)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arson r = -0.0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85" name="Picture 5" descr="U:\My Documents\PERCENTAGE BEND R\pbdat.jpeg"/>
          <p:cNvPicPr/>
          <p:nvPr/>
        </p:nvPicPr>
        <p:blipFill>
          <a:blip r:embed="rId1"/>
          <a:stretch/>
        </p:blipFill>
        <p:spPr>
          <a:xfrm>
            <a:off x="1619280" y="2133720"/>
            <a:ext cx="64087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constant variance (Funne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8" name="Object 0"/>
          <p:cNvGraphicFramePr/>
          <p:nvPr/>
        </p:nvGraphicFramePr>
        <p:xfrm>
          <a:off x="1403280" y="1700280"/>
          <a:ext cx="66880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688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Line 5"/>
          <p:cNvSpPr/>
          <p:nvPr/>
        </p:nvSpPr>
        <p:spPr>
          <a:xfrm flipV="1">
            <a:off x="3059280" y="1557000"/>
            <a:ext cx="312408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2771640" y="4076640"/>
            <a:ext cx="3276720" cy="152424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-linear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ansform predictor or respon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 give a random pl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a curv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5" name="Object 0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equal residual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 is observed - expected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or difference between regression line and actual va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y a log transfor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EGRESSION CRITERIA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4648320" y="2341440"/>
          <a:ext cx="4038480" cy="32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1440"/>
                    <a:ext cx="40384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a pair of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507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199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Semi-Partial***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(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 / path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Williams-Hotelling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t-test/ SPSS M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vailable using ‘equalcor’ UNIX program or a downloadable program, FZT.EXE, at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-class.unl.edu/psycrs/statpage/comp.htm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hich also does an alternative to Williams test due to Steiger(198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SPSS syntax for Williams-Hotelling test (rAX=rAY), Pearson-Filon (rAB=rXY) and Fisher’s test a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 cbu.cam.ac.uk/statswiki/FAQ/WilliamsSPSS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 WILLIAMS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* Partials may also be used (Dugard, Todman &amp; Staines, 201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omparing regression coefficients in the same sample using a single  regression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ing semi-partial correlations is equivalent to comparing regression coefficients (Cohen, 198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…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1: Dep=Crime rate; Indep=age, education get B(Cr1,A|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2: Dep=Crime rate; Indep=age, education get B(Cr2,A|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of coefficients B(Cr1, A|E) = B(Cr2, A|E) is test o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Interaction (site x age) given site, age and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the correlation of Crime rate and age adjusted for years in education in the two loc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 age and education have similar effects on crime rate when adjusted for each other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(df) = (Difference in Bs) /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[V(B1) + V(B2) – 2Cov(B1,B2))]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gression assump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does not imply caus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ndles linear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apply outside rang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t leas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5 tim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s many subjects as variables (Hair et al,199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st make psychological se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ultiple 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re than one predictor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uared semi-partial correlations (R-square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criterion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0&lt;= R-squared &lt;= 1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.g. R-sq(X2, Y | X1, X3) = A/area of Y circ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4"/>
          <p:cNvGraphicFramePr/>
          <p:nvPr/>
        </p:nvGraphicFramePr>
        <p:xfrm>
          <a:off x="4572000" y="1916280"/>
          <a:ext cx="4038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4038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ext Box 5"/>
          <p:cNvSpPr/>
          <p:nvPr/>
        </p:nvSpPr>
        <p:spPr>
          <a:xfrm>
            <a:off x="651672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of -1; 180 degre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Picture 5" descr="corrs_r=-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ere to draw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ion of y at x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lop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*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value of y when x=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(plotted on y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dependent</a:t>
            </a:r>
            <a:r>
              <a:rPr b="0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(plotted on  x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general : slope = Pearson correlation * sd(y) / sd(x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ow we fit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estimated from x by Least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s sum of </a:t>
            </a:r>
            <a:r>
              <a:rPr b="0" i="1" lang="en-GB" sz="1600" spc="-1" strike="noStrike">
                <a:solidFill>
                  <a:srgbClr val="3299cc"/>
                </a:solidFill>
                <a:latin typeface="Verdana"/>
              </a:rPr>
              <a:t>squared</a:t>
            </a:r>
            <a:r>
              <a:rPr b="0" i="1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differences between observed y and predicted 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s r(predicted y, observed 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 are least squares estimat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4 Scores of Y with values 1,2,4,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m of Squared distances (D) from th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a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s always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inimum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= 16/4=4; D=(4-1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2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9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3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(2+4)/2=3; D=4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atterplotting the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,Y means marked by cross minimize total length of red lines and total length of green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4" descr="means"/>
          <p:cNvPicPr/>
          <p:nvPr/>
        </p:nvPicPr>
        <p:blipFill>
          <a:blip r:embed="rId1"/>
          <a:stretch/>
        </p:blipFill>
        <p:spPr>
          <a:xfrm>
            <a:off x="4648320" y="2014560"/>
            <a:ext cx="4038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eta=correlation (one predicto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outcome = beta x 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predictor + residu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nd beta to minimize sum of squared residuals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 - Beta x predictor i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(observations i=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a                                     ( for observations i = 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or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{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 }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{predictor i x predictor i} x {outcome i x outcome i}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Pearson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becaus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predictor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Venn Diagram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Total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Reg(ression) + SS Res(idual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SS Reg / SS Tot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From ANOVA tab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% &lt;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lt;= 10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6" name="Object 5"/>
          <p:cNvGraphicFramePr/>
          <p:nvPr/>
        </p:nvGraphicFramePr>
        <p:xfrm>
          <a:off x="4648320" y="1676520"/>
          <a:ext cx="4267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67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7280" y="11970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SS(Reg)/SS(Total)=squared correlation 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(Simple regression)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0" name="Object 4"/>
          <p:cNvGraphicFramePr/>
          <p:nvPr/>
        </p:nvGraphicFramePr>
        <p:xfrm>
          <a:off x="457200" y="2617920"/>
          <a:ext cx="8229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7920"/>
                    <a:ext cx="8229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Oval 5"/>
          <p:cNvSpPr/>
          <p:nvPr/>
        </p:nvSpPr>
        <p:spPr>
          <a:xfrm>
            <a:off x="2590920" y="358128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2514600" y="419112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4495320" y="541008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t(14) =6.76, p&lt;0.001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4495680" y="3886200"/>
            <a:ext cx="381240" cy="3808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4648320" y="4114800"/>
            <a:ext cx="304560" cy="12952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it criteria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457200" y="2362320"/>
          <a:ext cx="822960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Oval 6"/>
          <p:cNvSpPr/>
          <p:nvPr/>
        </p:nvSpPr>
        <p:spPr>
          <a:xfrm>
            <a:off x="2057400" y="3352680"/>
            <a:ext cx="1600200" cy="1447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Line 7"/>
          <p:cNvSpPr/>
          <p:nvPr/>
        </p:nvSpPr>
        <p:spPr>
          <a:xfrm flipH="1" flipV="1">
            <a:off x="2895120" y="4419360"/>
            <a:ext cx="228600" cy="144756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9051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=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 flipV="1">
            <a:off x="4419720" y="411480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 flipV="1">
            <a:off x="6172200" y="403848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38098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Squared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hecks predictors are pulling their weigh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ndardised residual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0" name="Object 0"/>
          <p:cNvGraphicFramePr/>
          <p:nvPr/>
        </p:nvGraphicFramePr>
        <p:xfrm>
          <a:off x="2484360" y="1628640"/>
          <a:ext cx="590256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628640"/>
                    <a:ext cx="59025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Line 5"/>
          <p:cNvSpPr/>
          <p:nvPr/>
        </p:nvSpPr>
        <p:spPr>
          <a:xfrm flipV="1">
            <a:off x="2411280" y="1988640"/>
            <a:ext cx="914400" cy="228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bs(SR) &gt; 2 - influenti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1547640" y="2852640"/>
            <a:ext cx="1371600" cy="2514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arsimony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- obtain fewest number of important featur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variables in a model independently associated with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htatland ES et al(2003)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iticise the over-reliance of stepwise on p-values and suggest a best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RS (Least Angle regression) available in R is another alternative to stepwise choosing the most parsimonious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+1; 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0" name="Picture 5" descr="corrs_r=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2 kinds of 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Bottom Down (Back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move lea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Top up (For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d mo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makes a good model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re are various methods which are used to identify good model fi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F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regression option in SPSS: find best one-variable model (according to hypothesis test), then best two-variable model with that first variable included, etc., until no additional variables are significan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schemes do not necessarily find the best model among all the possible variable combina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Akaike’s Information Criter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Mallows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good model if its Mallows Cp is close to 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difference between Mallows Cp and AIC  is explained in Venables &amp; Ripley(1999) Chapter 6 for linear models, and is usually not great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are these fit criteria?</a:t>
            </a: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R Using lm() with Step():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n ln(RSS/n) + 2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ing all possible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p  =  [RSS / MSE(full model)] + 2 number of terms in model – 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 RSS = unexplained variance (Residual Sum of Squa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RSS fitting all possible predictors / its df(err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of form: model lack of fit term +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 want to minimize AIC and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 tests vs model selection cr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and Cp choose between models balancing goodness of fit with simplic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pwise F tests do not directly compare all models and focus on statistical significance and goodness of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REGRESSION LINE.SPS, ALL POSSIBLE 13.SPS AND MODEL SELECTION.TX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Kuiper, RM and Hoijtink (2010) Comparison of means using exploratory and confirmatory approaches. Psychological Methods 15(1) 69-86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erba and Pek (2012) Individual Influence on model selection.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sychological Methods 17(4) 582-299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Facilitator Variable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Median) Income (in dolla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le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 rates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0-64 years)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nd,1994)                              (Median Years in)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fter removing effect of income a longer time in education has a lower rate; education has no effect on suicide rate on its ow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to take both income &amp; education into account when explaining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ample of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ynergistic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Line 4"/>
          <p:cNvSpPr/>
          <p:nvPr/>
        </p:nvSpPr>
        <p:spPr>
          <a:xfrm flipH="1">
            <a:off x="2361960" y="2057400"/>
            <a:ext cx="1904760" cy="6858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 flipH="1" flipV="1">
            <a:off x="2438280" y="2895480"/>
            <a:ext cx="190512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ynergy - verbal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tal verbal score = score left brain  + score right brain (deterministic); negative left,right brain correlation = -0.7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eft brain (score A)  right brain (score B)  total verbal score (A+B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                              4                                   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                               6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                               5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                               2                                   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                             1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3%, score B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score B = 100%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.03*INCOME-2.17*EDUCATION correlates with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OME, EDUCATION themselves do no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untain racing…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of footwear, temperature predicting time to race up and down a mountai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 (deg C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(roughness coeff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ce time (minut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.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0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8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ter gripping soles tended to be worn in lower temperatures…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(temp,grip) = -0.93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badly designed study!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98, p=0.38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19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2.04, p=0.11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1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&amp; 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OGE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95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5.04, p=0.01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6.63, p=0.00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and grip predict race time together but not separatel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 synergistic relationship again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have occurred if greater range of grips used at each tempera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mory - collinearit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rrelation in IQ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time1, time2)=0.98; both  correlate &gt; 0.5 with memory (y)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llinearity (highly correlated predictors)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olerance &lt; 0.1, VIF &gt; 10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ould combine times or use one time to predict memory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4"/>
          <p:cNvSpPr/>
          <p:nvPr/>
        </p:nvSpPr>
        <p:spPr>
          <a:xfrm>
            <a:off x="4495680" y="1981080"/>
            <a:ext cx="3886200" cy="152424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5410080" y="2438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Times New Roman"/>
              </a:rPr>
              <a:t>Can give inflated Std errors, wrongly signed regression estimates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5468040" y="2022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ollinearity: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8458200" cy="1904760"/>
          </a:xfrm>
          <a:prstGeom prst="rect">
            <a:avLst/>
          </a:prstGeom>
          <a:ln w="0">
            <a:noFill/>
          </a:ln>
        </p:spPr>
      </p:pic>
      <p:sp>
        <p:nvSpPr>
          <p:cNvPr id="302" name="Oval 8"/>
          <p:cNvSpPr/>
          <p:nvPr/>
        </p:nvSpPr>
        <p:spPr>
          <a:xfrm>
            <a:off x="6781680" y="4191120"/>
            <a:ext cx="1905120" cy="22860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133720" y="5029200"/>
            <a:ext cx="1981080" cy="12952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Line 10"/>
          <p:cNvSpPr/>
          <p:nvPr/>
        </p:nvSpPr>
        <p:spPr>
          <a:xfrm>
            <a:off x="3657600" y="3200400"/>
            <a:ext cx="3352680" cy="16765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Line 11"/>
          <p:cNvSpPr/>
          <p:nvPr/>
        </p:nvSpPr>
        <p:spPr>
          <a:xfrm flipH="1">
            <a:off x="3733560" y="3352680"/>
            <a:ext cx="1600200" cy="2133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llinearity and syner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ountains example tolerance = 0.12, VIF=8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, just outside range indicative of collinearit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general synergy may result from highly correlated predi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the correlations will usually not be high enough to cause collinearity problem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check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COLLINEARITY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sso and Ridge Regression can reduce collinear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Zero correlation; 9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3" name="Picture 3" descr="corrs_r=0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hanks</a:t>
            </a: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o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&amp; Michaela Cotte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ohn Hall/ Joseph Petrucelli</a:t>
            </a: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Ref: Hair JF, Anderson RE, Tatham RL, Black WC (1998, 2006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99cc"/>
                </a:solidFill>
                <a:latin typeface="Verdana"/>
              </a:rPr>
              <a:t>Multivariate Data Analysis Fifth, Sixth Edition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Both in CBU library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John F Hall | Independent Researcher | Talks - Academia.edu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ndependent.academia.edu/JohnFHall/Talk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“Crash Course in R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n TWO weeks…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he General Linea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bababa"/>
                </a:solidFill>
                <a:latin typeface="Tahoma"/>
              </a:rPr>
              <a:t>Quadrant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3" descr="quadrant"/>
          <p:cNvPicPr/>
          <p:nvPr/>
        </p:nvPicPr>
        <p:blipFill>
          <a:blip r:embed="rId1"/>
          <a:stretch/>
        </p:blipFill>
        <p:spPr>
          <a:xfrm>
            <a:off x="395280" y="1989000"/>
            <a:ext cx="8229600" cy="440064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>
            <a:off x="3962520" y="2743200"/>
            <a:ext cx="0" cy="6094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9625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rrelation - Need a range of values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quantity of the correlation is inversely proportional to the density of the control (the fewer the facts, the smoother the curves).”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correlate pairs of continuous variables that can take a lot of value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issing variabl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owning &amp; ice cream consumption are positively correlated.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triction of ran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underestimate a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ll range of values 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86, p&lt;0.00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rehension values 34 or 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 b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38, p=0.2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bababa"/>
                </a:solidFill>
                <a:latin typeface="Tahoma"/>
              </a:rPr>
              <a:t>Scatterplots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the relationship between X and Y i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line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for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aw Scatterplot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for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you do a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ANSCOMBE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shara AJ and Hittner JB (2012) suggest a rank based transformation if outliers are a proble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1:36:36Z</dcterms:created>
  <dc:creator>peter</dc:creator>
  <dc:description/>
  <dc:language>en-US</dc:language>
  <cp:lastModifiedBy>Peter Watson</cp:lastModifiedBy>
  <dcterms:modified xsi:type="dcterms:W3CDTF">2016-05-03T14:43:52Z</dcterms:modified>
  <cp:revision>310</cp:revision>
  <dc:subject/>
  <dc:title>REGRESSION ANALYSIS</dc:title>
</cp:coreProperties>
</file>