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4ECDE-8354-48D1-A779-152FBF78C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A2BCA-BAD9-43E3-9452-D0B2EAE8F4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0985D-5AB5-42DF-980B-B48BC06FE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16ACD-D2D4-4D53-B7D2-D2812311E9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BAB1C-DBCB-4613-BCFA-28253B1139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3CA33-0A80-4AC1-82E1-2B34C3DD79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BB8AE3-8C56-4823-8B8F-B8678BF358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320DA-F704-444B-929A-066CA419B7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8E1E7-31E9-4B38-BB48-7146C75B47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CB6C0-76CE-4990-B6A8-6EB12809EC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DFA98-3E73-4246-8AB2-E6A7B988C4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79201-530F-4AE5-83C7-D0856411CB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22A9B-BDCC-4360-A088-B00B565FF4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EE28F3-E2F4-4F3B-BEA5-8A5C2DC0A2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C01733-6D79-453B-AB01-C514EABF59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A8F8A-9FE3-44AC-A0C1-DEE51A075E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B50F5-8A09-4940-84CD-2BE0DB823B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59C51-D3E1-41E9-A77A-005F4CFF6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0FFDB-B263-42B9-B1BD-B0C6B5BD6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E3BFA-7AEA-4611-9326-0CEC77396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F8133-DD0E-4288-94D5-F7FDE116C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983A6-684A-46BC-80F9-B01DCFD88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4D1D1-0D09-4E8A-B028-C1558C47B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B9684-39B4-454B-8A77-0B0A59365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317A2BF-6152-4A56-8C5D-87FF6A651D89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40F4F61-B5CF-439E-8E79-DFD1DEBC922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FB1E5AA-33C1-4B39-80F1-B6850AD3C6EB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1AE5FC6-F14D-4560-9765-34665CA13A9E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n TWO weeks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6-05-03T14:43:52Z</dcterms:modified>
  <cp:revision>310</cp:revision>
  <dc:subject/>
  <dc:title>REGRESSION ANALYSIS</dc:title>
</cp:coreProperties>
</file>