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24B6-F934-4F85-B80D-DCFB11514BB5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5A85-5BF6-4479-B925-4FD9A5A3D9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E58-BBA7-4AE4-B815-40F3180C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4AD-5250-4A70-895F-351CAA00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533-4C3D-49DA-9FB9-D23E2186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B3D-40B2-4403-AE64-7D123DF2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AB1-6A6E-440E-B5DA-27C18518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3E5-902A-4242-A2A2-5C37CC05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821-FE96-4FF3-99F0-8EC6E977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F28-3D9A-4AFC-BBF1-9537431D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803-850A-4AA0-A017-C85E77CF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FB1-9A7D-4CB8-A910-4BBF858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73C-E3F0-4825-879D-57105FC2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FB8-1876-4935-AAD2-CC9472C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28C5-7EDE-4F18-BBDA-08E94F419A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12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7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7" name="AutoShape 16"/>
          <p:cNvCxnSpPr>
            <a:stCxn id="172" idx="2"/>
            <a:endCxn id="173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8" name="AutoShape 17"/>
          <p:cNvCxnSpPr>
            <a:stCxn id="172" idx="2"/>
            <a:endCxn id="174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9" name="AutoShape 18"/>
          <p:cNvCxnSpPr>
            <a:stCxn id="172" idx="2"/>
            <a:endCxn id="175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0" name="AutoShape 19"/>
          <p:cNvCxnSpPr>
            <a:stCxn id="172" idx="2"/>
            <a:endCxn id="176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1" name="AutoShape 20"/>
          <p:cNvCxnSpPr>
            <a:stCxn id="170" idx="2"/>
            <a:endCxn id="171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2" name="AutoShape 21"/>
          <p:cNvCxnSpPr>
            <a:stCxn id="170" idx="2"/>
            <a:endCxn id="172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83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4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20" name="AutoShape 9"/>
          <p:cNvCxnSpPr>
            <a:stCxn id="219" idx="2"/>
            <a:endCxn id="215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1" name="AutoShape 10"/>
          <p:cNvCxnSpPr>
            <a:stCxn id="219" idx="2"/>
            <a:endCxn id="216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6" idx="2"/>
            <a:endCxn id="217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3" name="AutoShape 12"/>
          <p:cNvCxnSpPr>
            <a:stCxn id="216" idx="2"/>
            <a:endCxn id="218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24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8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46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53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66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6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8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8" name="AutoShape 7"/>
          <p:cNvCxnSpPr>
            <a:stCxn id="297" idx="2"/>
            <a:endCxn id="293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9" name="AutoShape 8"/>
          <p:cNvCxnSpPr>
            <a:stCxn id="297" idx="2"/>
            <a:endCxn id="294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00" name="AutoShape 9"/>
          <p:cNvCxnSpPr>
            <a:stCxn id="294" idx="2"/>
            <a:endCxn id="295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01" name="AutoShape 10"/>
          <p:cNvCxnSpPr>
            <a:stCxn id="294" idx="2"/>
            <a:endCxn id="296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02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65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9" name="AutoShape 4"/>
          <p:cNvCxnSpPr>
            <a:endCxn id="380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1" name="AutoShape 5"/>
          <p:cNvCxnSpPr>
            <a:stCxn id="378" idx="3"/>
            <a:endCxn id="382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3" name="AutoShape 6"/>
          <p:cNvCxnSpPr>
            <a:stCxn id="378" idx="3"/>
            <a:endCxn id="384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80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5" name="AutoShape 7"/>
          <p:cNvCxnSpPr>
            <a:stCxn id="394" idx="2"/>
            <a:endCxn id="390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6" name="AutoShape 8"/>
          <p:cNvCxnSpPr>
            <a:stCxn id="394" idx="2"/>
            <a:endCxn id="391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7" name="AutoShape 9"/>
          <p:cNvCxnSpPr>
            <a:stCxn id="391" idx="2"/>
            <a:endCxn id="392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8" name="AutoShape 10"/>
          <p:cNvCxnSpPr>
            <a:stCxn id="391" idx="2"/>
            <a:endCxn id="393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9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05" name="AutoShape 18"/>
          <p:cNvCxnSpPr>
            <a:stCxn id="392" idx="2"/>
            <a:endCxn id="399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6" name="AutoShape 19"/>
          <p:cNvCxnSpPr>
            <a:stCxn id="392" idx="2"/>
            <a:endCxn id="400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7" name="AutoShape 20"/>
          <p:cNvCxnSpPr>
            <a:stCxn id="392" idx="2"/>
            <a:endCxn id="401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8" name="AutoShape 21"/>
          <p:cNvCxnSpPr>
            <a:stCxn id="393" idx="2"/>
            <a:endCxn id="402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9" name="AutoShape 22"/>
          <p:cNvCxnSpPr>
            <a:stCxn id="393" idx="2"/>
            <a:endCxn id="403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10" name="AutoShape 23"/>
          <p:cNvCxnSpPr>
            <a:stCxn id="393" idx="2"/>
            <a:endCxn id="404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4" name="AutoShape 7"/>
          <p:cNvCxnSpPr>
            <a:stCxn id="443" idx="2"/>
            <a:endCxn id="439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5" name="AutoShape 8"/>
          <p:cNvCxnSpPr>
            <a:stCxn id="443" idx="2"/>
            <a:endCxn id="440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9"/>
          <p:cNvCxnSpPr>
            <a:stCxn id="440" idx="2"/>
            <a:endCxn id="441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10"/>
          <p:cNvCxnSpPr>
            <a:stCxn id="440" idx="2"/>
            <a:endCxn id="442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8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2" name="AutoShape 24"/>
          <p:cNvCxnSpPr>
            <a:stCxn id="439" idx="2"/>
            <a:endCxn id="451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25"/>
          <p:cNvCxnSpPr>
            <a:stCxn id="439" idx="2"/>
            <a:endCxn id="450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26"/>
          <p:cNvCxnSpPr>
            <a:stCxn id="442" idx="2"/>
            <a:endCxn id="448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5" name="AutoShape 27"/>
          <p:cNvCxnSpPr>
            <a:stCxn id="442" idx="2"/>
            <a:endCxn id="449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6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7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3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24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7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1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4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7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6-05-03T14:52:09Z</dcterms:modified>
  <cp:revision>85</cp:revision>
  <dc:subject/>
  <dc:title>No Slide Title</dc:title>
</cp:coreProperties>
</file>