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42BF0-F0B9-43B1-9836-ACA3C446F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A0DD9-0F4A-4199-870E-720710AE5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2957-74E7-42E0-AAF1-CE5BEF602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3FD9A-3CAC-4DF9-9C9C-AEE98F296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3D6E2-E650-4C50-888A-A3DCA150F2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145E7-7879-4D28-A241-7EA38B0B2F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7C49F-8992-47F7-A8F7-AA5D90A17B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2DA3F-86D3-4290-BDA1-D4ECC8330E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B699F-514F-4C36-817B-D269C22B18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A3BF9-0F7C-49C4-AEB2-6855D933C3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EDD39-A945-4D65-A8E5-B5EB852026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B1DD0-228D-447F-A555-50AA80AF3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3A865-0F9A-4B40-897D-B8385A1EA7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1DAE7-9772-4BB3-8112-EAB0613B23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AE72A-72E9-48C9-924E-658C07BC1A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1D288-D2C5-4B1B-9D6C-AA93A667D1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1D4FC-CC7B-44A1-B24E-FB265A5032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F655-1E39-4619-A5AC-20575CD1A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27DB8-8CB4-455D-B909-151793261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B2B88-DB54-45ED-B82A-E9C6DA57C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B9901-2DCD-494A-AE6C-56F95563A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2BAE-2CC1-418E-B477-EE7BC3867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29A3-B10C-4C75-96FA-B1E87DA39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FE892-44A6-4E79-9863-0EE5B869F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8EAF792-CA08-4B70-8E96-76971222F65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704C7A1-9C6A-4690-AD24-FF13406212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583240" y="208080"/>
            <a:ext cx="3565440" cy="53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003640" y="490680"/>
            <a:ext cx="3567240" cy="536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BE6E5E42-4E25-4BEE-A98A-471E6A79A6C4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FA342EB1-D74E-4FF8-AC7E-74A262F543E4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7-07-03T09:01:17Z</dcterms:modified>
  <cp:revision>367</cp:revision>
  <dc:subject/>
  <dc:title>No Slide Title</dc:title>
</cp:coreProperties>
</file>