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985A7-A619-462A-87CE-99C270EEE2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6D7AE3-67C7-4FFD-825A-519D77068C3B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E78033-4EF1-4C37-A6D6-8ACD9AA4CA3D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954-7198-4CCC-9F52-045CDAB0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A03-2623-4FDD-B240-6A0D1EE5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14EE3-9A0F-4463-AE88-1E711D8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D8CF6-0616-443F-97E3-6418D5B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380C9-A03C-40BB-8A59-28DD6172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0118E-E08C-45F9-82CA-CAD7A04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6DC5-E80A-4C88-9FB2-2DB8552E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633B6-4E5B-4E7A-AEBB-151E3287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2721B-69A4-4A77-BBDB-3F05D1E9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74E05-C3E4-443D-907F-348B5B2C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5C6E8-CD62-4E04-9EF1-866AEABE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1C83C-2868-40FA-B4B1-CEF9A5F3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C6B-1A9B-4672-AF71-630F2EE1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A8865-DB4F-4CFB-BC7B-EDB58112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F3369-DBD1-4486-817A-87B0057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AFD44-EB59-44C5-8C40-DA856276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47721-22CC-43B3-9DCD-911D8821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2BCE3-0B29-41D2-AD69-75BD1024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19B71-833B-4332-BA98-D079CF11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B7480-D8AB-45A5-8A95-D361FFD8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ED718-A240-4DF6-B9E2-A31EF1AF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EFE0F-9E79-4977-A88C-EB21087E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09F16-400B-47D7-B824-D17AC2E6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B9E-68E9-4D26-9D79-0EF07AD3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5B15A-3E11-4E64-9BFC-1EA2422F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F41EC-24AF-4F1B-A623-4F9754FC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C8ADA-8A7C-4E67-AEAF-55E0302C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A7346-CFAA-41E1-9F44-97676403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F6810-CB5D-4EFF-8F2B-41A1AE25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87AD2-4F99-42A4-ADA5-2C60EF13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39CD3-6E41-41CA-8B7D-8AA8DD85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23249-0CB0-4D02-B934-EF14833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302F0-AFCC-4F2F-ADDD-E1D35428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B32E5-93A0-4D26-B92F-B3273F80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05221-6D38-451A-822E-D63A8EAA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03955-AAC5-4E5C-9181-78DD41E3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92710-F2C7-4D3D-BC2D-CB89A305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5A615-679B-4AC5-82CA-9D590FE5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DEA4B-7A4A-4AEE-826D-4D640426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265D2-382D-4C03-8375-296A4DB8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F284C-F474-4635-86C5-4FCAA42F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D42C2-B26E-40E9-B5A3-F620EF2D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A193F-4207-488D-B60E-D3686C27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90D3D-26E3-40FF-9FF3-A9C40014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2B1D3-9C69-44B9-8ECF-B45A0DD0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4DE6A-E0D2-4403-B7EC-626E93C1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B1B62-D2DE-4118-A340-D0A580D2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5F970-CC17-444F-BC01-80BAF4C2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2CB7A-9242-4EC6-813E-2C4E51C5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14F44-01C3-4E5E-BFB0-EDF488B0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E1776-3564-4919-AE4B-5A72D6B6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8DF60-84E2-4838-AC90-08974D55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6FC9E-DEE8-47D1-BFC1-82A15B00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4F908-D64C-4E46-BBE4-D8E66FF9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8F189-2A3A-4F5B-A129-995FB32C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CC589-B06C-44A5-BB29-F25B53E1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EC870-824E-4900-813E-D2448D55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3A4F5-2639-4C7B-8F37-E8EA48C6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5355A-EDD7-4A26-9DD7-1157439B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89B2C-D1FB-4F61-AE50-99514A8A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67448-6FA9-46FA-8245-01BEA6A7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22455-DD70-4F96-B7F6-A8C0D025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7C884-DABB-4505-AB09-23D0BA71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910A5-B8A3-45A6-8098-59201705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D7A2B-A2DA-4D5C-9E6C-15D2E09E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1481B-A3C2-4FBC-AAF7-AAFD54CF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CD59C-BB33-4FC8-B828-386D28D3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8CAC6-D6D5-48F0-8231-4105671B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434C2-C875-4113-9ABD-1511C2F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1B9BB-19EA-42D5-BE3B-656E0A48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CE1B5-67A2-4E4C-8D69-F873F0D6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5E1D2-D6A5-429B-8B29-B6583308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1A704-8447-4780-9D4C-DB2F02A9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7AA92-0761-474A-9FCA-21FBFB42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F2B19-6FFE-4F98-8378-F49B146C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098A2-E59B-436C-A44F-23CC6F2D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7978B-10A8-4CB6-9B3F-FA7A51AD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27CA5-2960-4EC9-8E46-0A108D36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5D6CA-4A07-4C27-9DAD-DF5A5CE8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23416-FF4D-4B5D-B445-42BA7598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A48BE-590B-409F-9DC4-DB4A2845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37EAA-D95E-460F-B1C7-1FEF5064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9D6AF-628A-4B8D-8797-00B667CE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946BC-28B1-4467-9D86-A121F1FE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6D3EE-65B6-4EF2-8D9B-511B6669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5E627-D7EF-4DFB-AB24-39017085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6ECBD4-B545-4967-AE90-3E1853E0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40D6B-9FCD-44EE-A5EA-0270355B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1F89E-CB6B-4D3C-A2DF-D4C3D53D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88A1C-CD7C-4FE4-8C05-201F5ED3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B34EF-30AA-48C2-9754-A24CA203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9DC88-5EC6-4322-A209-3799960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38237-B740-4401-B3DB-4EA0ED04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F1A4A-FA2C-47F7-85C4-F7FA184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1A1B4-D13C-49D3-A648-E13C94F0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A91C1-C2B4-4229-B90A-4B7F4224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97105-EA3B-4E38-918D-FE095A5D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E5C5B-53D5-4978-B380-D39876D4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F7C63-65B2-4576-B123-343EFB12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6F6C1-79A2-4EB6-8375-078DF553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E389E-EA88-40D3-80CD-4CDA7AF1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9C072-86CC-4727-9BDC-8797CEA0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DD4BF-ED74-495F-A058-CA1A8242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0427C-C980-4E9C-A16C-C2D3BA1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1B5-D2FE-4B6B-AF98-C5E86F73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AD5A8-5178-4CB4-811A-1B74DEC4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18009-C1B3-4FE5-93FD-053AD04D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B2C52-7BDA-4A7A-BB44-56A4155D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F4354-A94B-47DF-8861-D13B4613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8BAE8-2E82-4A67-B7FA-D5B55DA3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56A7C-6B8C-4FAA-B5A0-2208883C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7509F-7FC3-4D74-A72F-A6FE6159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46CE9-6634-41D8-93A9-607A3397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63074-C658-4BDB-9466-66AD49AA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E87FA-A9B0-4716-8A24-DB065FFE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D5486-8E9C-4ADC-A560-502A58CA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03ACE-2BA9-491E-A44A-AB1B4458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535871-607F-4D11-9D14-2A35B49F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44CE7-ADD2-4910-9E24-9492686E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D8D6B-6873-4FE3-9FEC-EA1ACB00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AC266-9D2A-4441-88F3-F0835BC0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A0AD4-690B-461B-B9FA-AA0954F1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347-6900-42FB-B544-CE90027E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BDA-757F-45C2-A8EE-54890060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D23B-CE8D-4EBC-97B1-9CBC4D1A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7EB-AB69-4712-AECA-5DF1F921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A7BC-C223-413B-94C8-176A9D74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CE17-B67F-4A38-99DC-65953EA9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91FD-D5FC-4FA2-9362-61E13F4F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1E09-A7CD-4A33-AB99-9B527ACC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3658-BD58-4FD6-9952-330A2458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4659A-4F5F-4FA7-BC42-1C07A98E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E53A-CD45-4216-BCB7-3F512BD4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8A88-8B4B-4A6D-A290-F2004E15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AF70-8517-4B00-B004-D22055BF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CA5C-00A6-43CB-87BA-5C704B3A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CD3-F462-4A4C-A837-8C3DA98F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CACA9-756D-4AC3-A8EA-4040F7BD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D9103-3A66-4EE5-881A-BAA04968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1A46-3F20-485F-A1FE-069C44E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77BC-464E-43AA-B82D-BE98CFDD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24F0-B3BE-40F3-AB15-994105E7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8C1E-9F8F-4DD3-88BD-4D6E5FA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930B0-33B8-4A63-B245-21DF03D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31032-DEC1-4512-BCCD-B990A577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E940C-0994-4366-9410-236C9A26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4A3C-5B19-438C-8B6B-D871CA2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3CD-1F11-4996-AC12-544EB925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0319-4648-4E46-9B0E-F5FBE862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EFD3-C08C-452E-90FA-76A119C1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01AA7-4FA9-4069-8D51-593D5B85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96488-B368-45F0-9186-255603E7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D879D-4F36-442B-B041-7F3077E3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A48B-F3D7-4265-AA71-706DC37F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5D93A-876F-4A00-86FD-8B7E2F54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BEC0B-5D0F-420F-B3D7-929121BB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0C647-0AFE-48DC-80B4-7B83E3EE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25D95-EB2A-4B59-A950-CCCF21A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725-2DE7-4948-8E24-6F4DD60B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5F82-A2C4-401D-AC91-DE2DABC1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4B33B-EEC2-4785-803A-5D7B424B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07AF-9872-4815-A01F-9A901C8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3D3CE-7FAD-4AD2-907F-57181178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DEA78-85FC-48D6-8583-3DC0C0DB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5510A-5879-4824-B51D-EEF302E6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EED0C-BF5A-4C72-8DCD-5921AC50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9BE71-C442-4A3F-95A4-4210DB7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E24FC-5436-4A88-A553-4189666B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C08E8-7965-4C09-8C62-29621D4C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E83-6A18-4ABF-BBC9-8A68EFBC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4A08B-53E6-4BA2-9B5C-8C5060CE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85AFD-2CD4-4692-8B78-7D452583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41412-126F-4341-9BC9-1CC5980C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DD30C-7AD1-4A23-8A30-07045FA1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5A114-0647-4E4B-9ED6-957E86E7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A4D62-56B3-4AC1-83D7-9E28BE10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648C5-1586-46AD-A526-A5452405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E4594-A8BB-4D31-8D32-72064CB3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B5E5C-EBF5-4906-BABD-81D8AF14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8FBD8-2E3E-4BCB-B8AD-C830DC38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612-A4D4-4028-8041-FE2AF5D41A6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A075-5EB2-4A44-83E1-0B4635CD57D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68F-60CF-460E-98D1-CABFB003FB1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A195-ECA2-42BB-B42D-B781278CE8A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63FA-F081-484B-9F48-66606FBF319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CAF2-33E0-44B3-8715-56FDFAEFB4E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B05D-6F91-4B05-BAB4-239E7C226EA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46CF-7BD3-41EE-9C02-349048FACD9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B9E3-155C-4E8E-BAD3-275CFC41944D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EFE5-5FDB-4BE5-9F93-41B2F8AE9A4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07C2-6E9A-4C7B-89B8-DA43408EA8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6053-8A52-484B-8DBE-383E4EE7398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EAF7-1FF9-46FF-8ADB-B27AF9F3EF2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B6EE-835D-4162-BCD4-7383913498E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FAB-F36C-45A7-B526-FB03CAB5C7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696C-6489-4FCE-BA93-19DB5F99C6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1719-2E0E-42DD-A960-1C62256C79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532-00D5-4CC8-A493-382EF74279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0C56-C9C5-4C2C-A9BE-3E8C4349C7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BF78-46DF-427F-A55C-3AFC9CBD78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8C13-6965-49FC-9196-6C2B517E1D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52A9-2AA6-42AB-829B-C5FE840EC8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FE54-DC49-47E9-8454-7D9CAE3D93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7A0-9D4F-4D58-A8D7-67BA448066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5EC9-FE33-4664-8EE4-0F5B756BDE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8DC1-8D60-429F-AB41-D9981F9CDF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220-13D1-4543-9767-FF30A2C8EB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F302-8465-4241-B80D-2F6F1F1A9F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FC20-2B88-4683-B45D-089866CEE1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43DB-920B-46A9-AEA4-481531157C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F5E2-E5A2-4D9B-95A1-AE8B6DAB26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3CFD-1FC8-4D3B-90A8-BB7A6114FE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4F9A-3F4E-44B5-B8A8-E7F5792FAF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72C1-B4A8-435C-A36C-7A4BE4ADF2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DB00-8275-4CB7-9218-70E8475E9C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9A8C-103A-4B1D-BCEC-81D0836271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0740-0200-4EE7-946D-F624D70897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2DEB-BBF3-4448-BA1D-E7552A8C45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C89D-CCBE-44E5-AE46-82DA185A7D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C010-501A-46E4-9AFD-3ED09A39B1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649A-3CFA-429C-9237-DEC9F3653A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133A-34A0-491B-9B1C-AFE39F4F0E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D42A-3500-49BA-9B82-61D8EEC37A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F9AC-8C5F-4226-800D-B31D96042F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34F8-C4A9-4D07-B712-F5442891C2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9217-3C64-4838-81C6-2913D46C16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3689-F7D4-4794-A965-EFD4AE53E0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8B81-326D-4D8E-9889-3E368F0EC0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CE2-9DB5-4559-A77B-5CF161C83A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208E-8EB4-4D6D-9DB5-C187CFDA49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2DB-46EB-4AAE-AD6C-B109CDA723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C60E-4606-47EA-9382-62961F6143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B9EB-236E-4D70-BD0A-848A3BABD5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168E-B3DC-4CB7-8631-03EABD74FB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B8A7-CD14-4999-9A18-67EADB59F9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3691-F9A0-4DF3-84E7-F4F9E8C170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8D2A-4AD0-4B2E-A526-144986B64E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80DE-BCED-4259-9324-2CC40AFBD7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D4C4-41FA-468A-B207-CAC8208392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894D-239B-4979-A1D7-9903BF1FAA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9BD8-54E5-4499-A4B6-113DF53531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701D-284F-40BC-AF63-0B0FB5CE44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3006-01CD-4C33-A6CA-CC58F4C722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9F5B-7958-4165-8DCD-2BAAA3359D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D178-9115-488A-A390-1834105E76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3391-D7EC-4736-8928-CD063244AF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BE49-767F-4473-A100-F89E20F16C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5B91-A939-40C4-BF4B-9D303FF3DA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A981-D415-4877-A005-8C9FE2A664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9C57-519B-40D1-8AE2-8AA3CFB140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7D48-B2C7-4766-B50A-7B7CA8F32B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DAF5-F5B0-4265-B799-C198B7C822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7-07-03T09:06:17Z</dcterms:modified>
  <cp:revision>114</cp:revision>
  <dc:subject/>
  <dc:title>Aims and Objectives</dc:title>
</cp:coreProperties>
</file>