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29.wmf" ContentType="image/x-wmf"/>
  <Override PartName="/ppt/media/image1.png" ContentType="image/png"/>
  <Override PartName="/ppt/media/image26.wmf" ContentType="image/x-wmf"/>
  <Override PartName="/ppt/media/image23.png" ContentType="image/png"/>
  <Override PartName="/ppt/media/image22.wmf" ContentType="image/x-wmf"/>
  <Override PartName="/ppt/media/image20.jpeg" ContentType="image/jpeg"/>
  <Override PartName="/ppt/media/image21.png" ContentType="image/png"/>
  <Override PartName="/ppt/media/image19.wmf" ContentType="image/x-wmf"/>
  <Override PartName="/ppt/media/image18.wmf" ContentType="image/x-wmf"/>
  <Override PartName="/ppt/media/image17.png" ContentType="image/png"/>
  <Override PartName="/ppt/media/image16.png" ContentType="image/png"/>
  <Override PartName="/ppt/media/image9.png" ContentType="image/png"/>
  <Override PartName="/ppt/media/image11.wmf" ContentType="image/x-wmf"/>
  <Override PartName="/ppt/media/image30.wmf" ContentType="image/x-wmf"/>
  <Override PartName="/ppt/media/image10.png" ContentType="image/png"/>
  <Override PartName="/ppt/media/image28.wmf" ContentType="image/x-wmf"/>
  <Override PartName="/ppt/media/image31.wmf" ContentType="image/x-wmf"/>
  <Override PartName="/ppt/media/image3.png" ContentType="image/png"/>
  <Override PartName="/ppt/media/image33.png" ContentType="image/png"/>
  <Override PartName="/ppt/media/image8.png" ContentType="image/png"/>
  <Override PartName="/ppt/media/image32.wmf" ContentType="image/x-wmf"/>
  <Override PartName="/ppt/media/image12.wmf" ContentType="image/x-wmf"/>
  <Override PartName="/ppt/media/image13.png" ContentType="image/png"/>
  <Override PartName="/ppt/media/image36.wmf" ContentType="image/x-wmf"/>
  <Override PartName="/ppt/media/image38.wmf" ContentType="image/x-wmf"/>
  <Override PartName="/ppt/media/image40.wmf" ContentType="image/x-wmf"/>
  <Override PartName="/ppt/media/image39.wmf" ContentType="image/x-wmf"/>
  <Override PartName="/ppt/media/image7.wmf" ContentType="image/x-wmf"/>
  <Override PartName="/ppt/media/image37.wmf" ContentType="image/x-wmf"/>
  <Override PartName="/ppt/media/image6.png" ContentType="image/png"/>
  <Override PartName="/ppt/media/image5.wmf" ContentType="image/x-wmf"/>
  <Override PartName="/ppt/media/image35.wmf" ContentType="image/x-wmf"/>
  <Override PartName="/ppt/media/image15.png" ContentType="image/png"/>
  <Override PartName="/ppt/media/image14.png" ContentType="image/png"/>
  <Override PartName="/ppt/media/image34.wmf" ContentType="image/x-wmf"/>
  <Override PartName="/ppt/media/image4.wmf" ContentType="image/x-wmf"/>
  <Override PartName="/ppt/media/image27.wmf" ContentType="image/x-wmf"/>
  <Override PartName="/ppt/media/image2.png" ContentType="image/png"/>
  <Override PartName="/ppt/media/image25.png" ContentType="image/png"/>
  <Override PartName="/ppt/media/image24.png" ContentType="image/png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notesMasterIdLst>
    <p:notesMasterId r:id="rId20"/>
  </p:notesMasterIdLst>
  <p:sldIdLst>
    <p:sldId id="256" r:id="rId21"/>
    <p:sldId id="257" r:id="rId22"/>
    <p:sldId id="258" r:id="rId23"/>
    <p:sldId id="259" r:id="rId24"/>
    <p:sldId id="260" r:id="rId25"/>
    <p:sldId id="261" r:id="rId26"/>
    <p:sldId id="262" r:id="rId27"/>
    <p:sldId id="263" r:id="rId28"/>
    <p:sldId id="264" r:id="rId29"/>
    <p:sldId id="265" r:id="rId30"/>
    <p:sldId id="266" r:id="rId31"/>
    <p:sldId id="267" r:id="rId32"/>
    <p:sldId id="268" r:id="rId33"/>
    <p:sldId id="269" r:id="rId34"/>
    <p:sldId id="270" r:id="rId35"/>
    <p:sldId id="271" r:id="rId36"/>
    <p:sldId id="272" r:id="rId37"/>
    <p:sldId id="273" r:id="rId38"/>
    <p:sldId id="274" r:id="rId39"/>
    <p:sldId id="275" r:id="rId40"/>
    <p:sldId id="276" r:id="rId41"/>
    <p:sldId id="277" r:id="rId42"/>
    <p:sldId id="278" r:id="rId43"/>
    <p:sldId id="279" r:id="rId44"/>
    <p:sldId id="280" r:id="rId45"/>
    <p:sldId id="281" r:id="rId46"/>
    <p:sldId id="282" r:id="rId47"/>
    <p:sldId id="283" r:id="rId48"/>
    <p:sldId id="284" r:id="rId49"/>
    <p:sldId id="285" r:id="rId50"/>
    <p:sldId id="286" r:id="rId51"/>
    <p:sldId id="287" r:id="rId52"/>
    <p:sldId id="288" r:id="rId53"/>
    <p:sldId id="289" r:id="rId54"/>
    <p:sldId id="290" r:id="rId55"/>
    <p:sldId id="291" r:id="rId56"/>
    <p:sldId id="292" r:id="rId57"/>
    <p:sldId id="293" r:id="rId58"/>
    <p:sldId id="294" r:id="rId59"/>
    <p:sldId id="295" r:id="rId60"/>
    <p:sldId id="296" r:id="rId61"/>
    <p:sldId id="297" r:id="rId62"/>
    <p:sldId id="298" r:id="rId63"/>
    <p:sldId id="299" r:id="rId64"/>
    <p:sldId id="300" r:id="rId65"/>
    <p:sldId id="301" r:id="rId66"/>
    <p:sldId id="302" r:id="rId67"/>
    <p:sldId id="303" r:id="rId68"/>
    <p:sldId id="304" r:id="rId69"/>
    <p:sldId id="305" r:id="rId70"/>
    <p:sldId id="306" r:id="rId71"/>
    <p:sldId id="307" r:id="rId72"/>
    <p:sldId id="308" r:id="rId73"/>
    <p:sldId id="309" r:id="rId74"/>
    <p:sldId id="310" r:id="rId75"/>
    <p:sldId id="311" r:id="rId76"/>
    <p:sldId id="312" r:id="rId77"/>
    <p:sldId id="313" r:id="rId78"/>
  </p:sldIdLst>
  <p:sldSz cx="9902825" cy="6858000"/>
  <p:notesSz cx="6792913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notesMaster" Target="notesMasters/notesMaster1.xml"/><Relationship Id="rId21" Type="http://schemas.openxmlformats.org/officeDocument/2006/relationships/slide" Target="slides/slide1.xml"/><Relationship Id="rId22" Type="http://schemas.openxmlformats.org/officeDocument/2006/relationships/slide" Target="slides/slide2.xml"/><Relationship Id="rId23" Type="http://schemas.openxmlformats.org/officeDocument/2006/relationships/slide" Target="slides/slide3.xml"/><Relationship Id="rId24" Type="http://schemas.openxmlformats.org/officeDocument/2006/relationships/slide" Target="slides/slide4.xml"/><Relationship Id="rId25" Type="http://schemas.openxmlformats.org/officeDocument/2006/relationships/slide" Target="slides/slide5.xml"/><Relationship Id="rId26" Type="http://schemas.openxmlformats.org/officeDocument/2006/relationships/slide" Target="slides/slide6.xml"/><Relationship Id="rId27" Type="http://schemas.openxmlformats.org/officeDocument/2006/relationships/slide" Target="slides/slide7.xml"/><Relationship Id="rId28" Type="http://schemas.openxmlformats.org/officeDocument/2006/relationships/slide" Target="slides/slide8.xml"/><Relationship Id="rId29" Type="http://schemas.openxmlformats.org/officeDocument/2006/relationships/slide" Target="slides/slide9.xml"/><Relationship Id="rId30" Type="http://schemas.openxmlformats.org/officeDocument/2006/relationships/slide" Target="slides/slide10.xml"/><Relationship Id="rId31" Type="http://schemas.openxmlformats.org/officeDocument/2006/relationships/slide" Target="slides/slide11.xml"/><Relationship Id="rId32" Type="http://schemas.openxmlformats.org/officeDocument/2006/relationships/slide" Target="slides/slide12.xml"/><Relationship Id="rId33" Type="http://schemas.openxmlformats.org/officeDocument/2006/relationships/slide" Target="slides/slide13.xml"/><Relationship Id="rId34" Type="http://schemas.openxmlformats.org/officeDocument/2006/relationships/slide" Target="slides/slide14.xml"/><Relationship Id="rId35" Type="http://schemas.openxmlformats.org/officeDocument/2006/relationships/slide" Target="slides/slide15.xml"/><Relationship Id="rId36" Type="http://schemas.openxmlformats.org/officeDocument/2006/relationships/slide" Target="slides/slide16.xml"/><Relationship Id="rId37" Type="http://schemas.openxmlformats.org/officeDocument/2006/relationships/slide" Target="slides/slide17.xml"/><Relationship Id="rId38" Type="http://schemas.openxmlformats.org/officeDocument/2006/relationships/slide" Target="slides/slide18.xml"/><Relationship Id="rId39" Type="http://schemas.openxmlformats.org/officeDocument/2006/relationships/slide" Target="slides/slide19.xml"/><Relationship Id="rId40" Type="http://schemas.openxmlformats.org/officeDocument/2006/relationships/slide" Target="slides/slide20.xml"/><Relationship Id="rId41" Type="http://schemas.openxmlformats.org/officeDocument/2006/relationships/slide" Target="slides/slide21.xml"/><Relationship Id="rId42" Type="http://schemas.openxmlformats.org/officeDocument/2006/relationships/slide" Target="slides/slide22.xml"/><Relationship Id="rId43" Type="http://schemas.openxmlformats.org/officeDocument/2006/relationships/slide" Target="slides/slide23.xml"/><Relationship Id="rId44" Type="http://schemas.openxmlformats.org/officeDocument/2006/relationships/slide" Target="slides/slide24.xml"/><Relationship Id="rId45" Type="http://schemas.openxmlformats.org/officeDocument/2006/relationships/slide" Target="slides/slide25.xml"/><Relationship Id="rId46" Type="http://schemas.openxmlformats.org/officeDocument/2006/relationships/slide" Target="slides/slide26.xml"/><Relationship Id="rId47" Type="http://schemas.openxmlformats.org/officeDocument/2006/relationships/slide" Target="slides/slide27.xml"/><Relationship Id="rId48" Type="http://schemas.openxmlformats.org/officeDocument/2006/relationships/slide" Target="slides/slide28.xml"/><Relationship Id="rId49" Type="http://schemas.openxmlformats.org/officeDocument/2006/relationships/slide" Target="slides/slide29.xml"/><Relationship Id="rId50" Type="http://schemas.openxmlformats.org/officeDocument/2006/relationships/slide" Target="slides/slide30.xml"/><Relationship Id="rId51" Type="http://schemas.openxmlformats.org/officeDocument/2006/relationships/slide" Target="slides/slide31.xml"/><Relationship Id="rId52" Type="http://schemas.openxmlformats.org/officeDocument/2006/relationships/slide" Target="slides/slide32.xml"/><Relationship Id="rId53" Type="http://schemas.openxmlformats.org/officeDocument/2006/relationships/slide" Target="slides/slide33.xml"/><Relationship Id="rId54" Type="http://schemas.openxmlformats.org/officeDocument/2006/relationships/slide" Target="slides/slide34.xml"/><Relationship Id="rId55" Type="http://schemas.openxmlformats.org/officeDocument/2006/relationships/slide" Target="slides/slide35.xml"/><Relationship Id="rId56" Type="http://schemas.openxmlformats.org/officeDocument/2006/relationships/slide" Target="slides/slide36.xml"/><Relationship Id="rId57" Type="http://schemas.openxmlformats.org/officeDocument/2006/relationships/slide" Target="slides/slide37.xml"/><Relationship Id="rId58" Type="http://schemas.openxmlformats.org/officeDocument/2006/relationships/slide" Target="slides/slide38.xml"/><Relationship Id="rId59" Type="http://schemas.openxmlformats.org/officeDocument/2006/relationships/slide" Target="slides/slide39.xml"/><Relationship Id="rId60" Type="http://schemas.openxmlformats.org/officeDocument/2006/relationships/slide" Target="slides/slide40.xml"/><Relationship Id="rId61" Type="http://schemas.openxmlformats.org/officeDocument/2006/relationships/slide" Target="slides/slide41.xml"/><Relationship Id="rId62" Type="http://schemas.openxmlformats.org/officeDocument/2006/relationships/slide" Target="slides/slide42.xml"/><Relationship Id="rId63" Type="http://schemas.openxmlformats.org/officeDocument/2006/relationships/slide" Target="slides/slide43.xml"/><Relationship Id="rId64" Type="http://schemas.openxmlformats.org/officeDocument/2006/relationships/slide" Target="slides/slide44.xml"/><Relationship Id="rId65" Type="http://schemas.openxmlformats.org/officeDocument/2006/relationships/slide" Target="slides/slide45.xml"/><Relationship Id="rId66" Type="http://schemas.openxmlformats.org/officeDocument/2006/relationships/slide" Target="slides/slide46.xml"/><Relationship Id="rId67" Type="http://schemas.openxmlformats.org/officeDocument/2006/relationships/slide" Target="slides/slide47.xml"/><Relationship Id="rId68" Type="http://schemas.openxmlformats.org/officeDocument/2006/relationships/slide" Target="slides/slide48.xml"/><Relationship Id="rId69" Type="http://schemas.openxmlformats.org/officeDocument/2006/relationships/slide" Target="slides/slide49.xml"/><Relationship Id="rId70" Type="http://schemas.openxmlformats.org/officeDocument/2006/relationships/slide" Target="slides/slide50.xml"/><Relationship Id="rId71" Type="http://schemas.openxmlformats.org/officeDocument/2006/relationships/slide" Target="slides/slide51.xml"/><Relationship Id="rId72" Type="http://schemas.openxmlformats.org/officeDocument/2006/relationships/slide" Target="slides/slide52.xml"/><Relationship Id="rId73" Type="http://schemas.openxmlformats.org/officeDocument/2006/relationships/slide" Target="slides/slide53.xml"/><Relationship Id="rId74" Type="http://schemas.openxmlformats.org/officeDocument/2006/relationships/slide" Target="slides/slide54.xml"/><Relationship Id="rId75" Type="http://schemas.openxmlformats.org/officeDocument/2006/relationships/slide" Target="slides/slide55.xml"/><Relationship Id="rId76" Type="http://schemas.openxmlformats.org/officeDocument/2006/relationships/slide" Target="slides/slide56.xml"/><Relationship Id="rId77" Type="http://schemas.openxmlformats.org/officeDocument/2006/relationships/slide" Target="slides/slide57.xml"/><Relationship Id="rId78" Type="http://schemas.openxmlformats.org/officeDocument/2006/relationships/slide" Target="slides/slide58.xml"/><Relationship Id="rId7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"/>
          <p:cNvSpPr/>
          <p:nvPr/>
        </p:nvSpPr>
        <p:spPr>
          <a:xfrm>
            <a:off x="0" y="0"/>
            <a:ext cx="6793200" cy="991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 type="dt" idx="52"/>
          </p:nvPr>
        </p:nvSpPr>
        <p:spPr>
          <a:xfrm>
            <a:off x="384984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3"/>
          <p:cNvSpPr>
            <a:spLocks noGrp="1"/>
          </p:cNvSpPr>
          <p:nvPr>
            <p:ph type="sldImg"/>
          </p:nvPr>
        </p:nvSpPr>
        <p:spPr>
          <a:xfrm>
            <a:off x="712800" y="743040"/>
            <a:ext cx="5370480" cy="37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move the slid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45" name="PlaceHolder 4"/>
          <p:cNvSpPr>
            <a:spLocks noGrp="1"/>
          </p:cNvSpPr>
          <p:nvPr>
            <p:ph type="body"/>
          </p:nvPr>
        </p:nvSpPr>
        <p:spPr>
          <a:xfrm>
            <a:off x="906480" y="4710240"/>
            <a:ext cx="49816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PlaceHolder 5"/>
          <p:cNvSpPr>
            <a:spLocks noGrp="1"/>
          </p:cNvSpPr>
          <p:nvPr>
            <p:ph type="ftr" idx="53"/>
          </p:nvPr>
        </p:nvSpPr>
        <p:spPr>
          <a:xfrm>
            <a:off x="0" y="94233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6"/>
          <p:cNvSpPr>
            <a:spLocks noGrp="1"/>
          </p:cNvSpPr>
          <p:nvPr>
            <p:ph type="sldNum" idx="54"/>
          </p:nvPr>
        </p:nvSpPr>
        <p:spPr>
          <a:xfrm>
            <a:off x="3849840" y="94233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55CBBAE-EF7F-49D1-8495-B6F12D0F4716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sldImg"/>
          </p:nvPr>
        </p:nvSpPr>
        <p:spPr>
          <a:xfrm>
            <a:off x="712800" y="743040"/>
            <a:ext cx="5370480" cy="3719520"/>
          </a:xfrm>
          <a:prstGeom prst="rect">
            <a:avLst/>
          </a:prstGeom>
          <a:ln w="0">
            <a:noFill/>
          </a:ln>
        </p:spPr>
      </p:sp>
      <p:sp>
        <p:nvSpPr>
          <p:cNvPr id="1424" name="PlaceHolder 2"/>
          <p:cNvSpPr>
            <a:spLocks noGrp="1"/>
          </p:cNvSpPr>
          <p:nvPr>
            <p:ph type="body"/>
          </p:nvPr>
        </p:nvSpPr>
        <p:spPr>
          <a:xfrm>
            <a:off x="906480" y="4710240"/>
            <a:ext cx="49816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Slide Number Placeholder 3"/>
          <p:cNvSpPr/>
          <p:nvPr/>
        </p:nvSpPr>
        <p:spPr>
          <a:xfrm>
            <a:off x="3849840" y="94233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67D1B3C-09E8-4743-8048-0F06B47C8F6F}" type="slidenum">
              <a:rPr b="0" lang="en-GB" sz="1200" spc="-1" strike="noStrike">
                <a:solidFill>
                  <a:srgbClr val="8f210b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PlaceHolder 1"/>
          <p:cNvSpPr>
            <a:spLocks noGrp="1"/>
          </p:cNvSpPr>
          <p:nvPr>
            <p:ph type="sldImg"/>
          </p:nvPr>
        </p:nvSpPr>
        <p:spPr>
          <a:xfrm>
            <a:off x="712800" y="743040"/>
            <a:ext cx="5370480" cy="3719520"/>
          </a:xfrm>
          <a:prstGeom prst="rect">
            <a:avLst/>
          </a:prstGeom>
          <a:ln w="0">
            <a:noFill/>
          </a:ln>
        </p:spPr>
      </p:sp>
      <p:sp>
        <p:nvSpPr>
          <p:cNvPr id="1427" name="PlaceHolder 2"/>
          <p:cNvSpPr>
            <a:spLocks noGrp="1"/>
          </p:cNvSpPr>
          <p:nvPr>
            <p:ph type="body"/>
          </p:nvPr>
        </p:nvSpPr>
        <p:spPr>
          <a:xfrm>
            <a:off x="906480" y="4710240"/>
            <a:ext cx="49816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Slide Number Placeholder 3"/>
          <p:cNvSpPr/>
          <p:nvPr/>
        </p:nvSpPr>
        <p:spPr>
          <a:xfrm>
            <a:off x="3849840" y="94233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6B2D14E-DC1E-4117-8D39-7FBF343D32EA}" type="slidenum">
              <a:rPr b="0" lang="en-GB" sz="1200" spc="-1" strike="noStrike">
                <a:solidFill>
                  <a:srgbClr val="8f210b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D3C36-BA7B-404C-AF69-C1C717EFC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B4D4A-0ED9-4A32-B0E3-2A881D4CD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7D536F-7CCC-4D92-A348-DE3B68C1A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2CECBD-5C32-4824-A3EE-C82E598B6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0CCB18-C9A3-48E2-A431-C2D7673F9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E0298B-E19D-453B-91D6-64603A6E5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498FD3-0142-4775-B9BD-25E7FC2E3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1D90BD-1E31-4251-B809-80D3F422C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D4B9CA-9AA1-46B8-8BA8-A61897A6A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47A246-6C4B-449D-B403-CEB31CC8E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9C09EB-15AE-4339-8F34-1EE13354D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17DE48-2154-4DA4-9D93-7C8E289E5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A1C53-8471-4D51-B862-BBDEE4124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DEDFE3-CD8E-46DA-8654-BE2C8215F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9BCF99-ADF5-4554-853F-C1BC00694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456265-5451-416B-8DA5-F2530B2FE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0436D9-2AC4-4FDC-8469-1DB29568B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C8BAE0-6E18-4F63-BBED-89EA2D654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26B6BB-0899-4ADF-8A3D-736939596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782B8C-438B-4F4C-B668-1ED49B863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58EDF4-9C51-4062-9C29-51AD80378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BD90F1-A580-4912-A55B-3C53F269E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6C7A50-C815-4E48-8BAB-874DDFA56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8B203-3B41-4681-98F4-9DDC73523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5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6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03178C-420F-4B91-A0A2-CAF247848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ECD3C0-79F5-4A6C-A248-BC5AB6AF8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CAA935-8D43-4888-9605-82B1B839A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C74948-9740-42E5-B5BC-A03B73C40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74AD56-E5D4-4BE7-878F-75EDC085C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2393A0-9ED6-48D8-B71B-61893F927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1F376B-B735-43DE-851D-68341B99D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C4D097-DF04-415E-9FB5-0DC19A07B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240C2A-4B5B-4B0C-9A37-063C1575A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B9460F-14AC-42CB-9DC7-E4ABEA39E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9A3D7C-2318-4D2E-ACC9-75363CADD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27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9430EB-0B6D-4D69-9EC5-9827E1CC0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3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4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BB9ABA-F821-4C83-83C8-5B43146B9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D87D48-D6B1-4009-9FCC-4FCFB5950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3650A8-9073-4B1F-80B5-71393D760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6C5AA7-5B5E-4844-85ED-50094D369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374BC2-05A6-43F1-A176-4AF170A63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D8B387-E9AB-45B2-A88C-3D0903DBD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640D35-E5CD-44D8-B89B-D14F3AF20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8EFB5E-60F4-4FB5-B269-227982EF5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88CA12-8538-4AE7-8307-1E9CBDFC9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14C0FA-1E02-4A76-9126-4E9536485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5B0C02-066D-46B5-8E46-0ADF05FFC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5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5D4417-7C7F-4BF5-9608-E5FF18852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90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91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92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77A7A5-0B8B-43F7-A080-83E61C006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323983-E6BF-4FFA-B5E0-A8432520A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DF28BD-D6D6-4107-81A6-F04425333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866356-9510-4CC9-9E88-032ECD8C1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BDD81F-00E5-46E3-BF74-0A47F238D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0405A6-6AE3-4CB5-9026-50ECEC78C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9E994B-1CD5-47E8-AE2C-413BF9040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55EDDC-186B-442A-9B43-F398811BA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A08262-B9DB-47CF-8EFD-34A79B3B7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74BDB8-3251-4D54-8FB4-A4BDA9F42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8144B0-3DF7-4CFD-A7A4-3A30BAC72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43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E198C6-D9D4-4897-9A19-8BBBD6411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48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49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50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1A644C-BDB6-4E85-91EA-CB475C9C9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65443D8-F2DD-4B85-9803-0CE332DAA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EB8B180-E957-45FF-B0F0-79E92D0A0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9F1AE29-D763-4A57-BF66-1E745F74E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D3BF82B-83F9-4C7C-999F-1D5BACF8C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9FCBDF9-2B2C-4F9B-94B3-593C25872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6CF596B-BC99-4C54-97AF-01E77F77E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E7F9195-B8EA-4AE5-B9D6-123B30FC8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352BBAF-27E6-4046-85BC-701C23602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C1164C4-02C4-4C58-BBB7-25E2DAFDC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5D515D1-6A4C-476E-A851-6183ABEE6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1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8C1B8E9-81C6-4F7A-9319-8DE50AEE2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6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7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8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9AB2346-5EFC-4DB7-A472-0BE40A9D5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C86B578-F8BC-417C-9426-D2EF587BF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EB048F2-594B-408D-9EDA-629F4A8CD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070CDED-FC65-41FC-BD28-283C2A7B0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543060C-BC3D-46AF-A920-2E8237497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CB5A002-9484-456B-8B6E-4B5F2C3AF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8BA5E25-3B11-43A9-B741-309200B8D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88C6150-A963-4EBC-9D41-B186E0192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D096EB2-5EB7-4FE7-938E-6B0D4D6A6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C4088AC-13CA-4F55-A365-E497942A3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8FA95F5-2EB4-4180-B6D7-6A28C49CD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58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59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271191B-39CF-4CA3-B474-214ADEE6E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64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65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66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DD7938B-3A73-43EC-AE38-42C294855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92F72B7-69A9-4EB5-8760-0B2BC7DAE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854C086-2281-4ED0-AC43-081A7F05E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10E1F11-0A8F-4C5B-A7A0-631033709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6A52DD1-0D2D-47F5-8F9A-EBDCBFE89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6ABB95C-7A29-4941-9063-A3724A866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B3FA50F-4F0F-4C4B-9B13-0CE70B72A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CAEAA49-9FF2-49DE-A007-BBF15B718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F00FBE9-AB9C-4BD4-A6EE-37EECE549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46761BB-83B7-4213-9811-FF0BC0519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CB0A750-A83F-48C8-BD5B-ED514C888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16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17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64D8DAB-A141-4B8B-891A-BF3A33477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3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4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5DD0EEE-4223-4611-9538-E96F311B3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E755842-5215-4A72-A0B2-698B2E384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D31D3B4-1A02-4DB6-95F3-1435C45AA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BC1C823-42D9-4551-B92C-04C3BEB2B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C7F1260-6F6D-4D37-B447-FF4FAD118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308C827-9B17-4D38-9FC7-5095D2B8B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EDCD979-BF5F-4799-B7AF-4788FFA33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CDB0D27-B924-4F7E-B4FA-FC4C8620B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B942A-BEE8-4A3E-B069-99D74D8DD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DB89185-4A50-4191-9C5A-8EAB26380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67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7CB7607-FF14-48D3-A158-B4AFD0D50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0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44CDF19-3336-411B-B3F4-87653F6A2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4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5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4838B17-B629-4E3A-A1C3-20CEDC427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80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81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82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BA40CF3-06C0-4184-A55E-B261377BB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78EEAE2-4C8B-4277-981D-6C9D9BE41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A0FD088-8BA7-4201-9753-4DA15F44B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29B29C6-4C77-4F95-B364-AB8DA3BA7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51E174B-A1B5-4261-8DF9-88B4AB74E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63361DE-DC0E-48DA-9BE2-27C19497F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0D752C4-BFBF-41C6-9FB7-74E448433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326369D-30CB-4064-880D-6BD8230E5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0A40876-8885-4448-93AE-3E9D97F70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25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12DCA16-9C85-48EE-9655-D8F9DE032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0D9A210-202E-4EFF-BDF6-5BCF2D65B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2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3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BB5C0B4-3D7E-4019-8449-DEB57DEB1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7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8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9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40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D2509F0-6DE7-470C-A282-F9DD692E1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15DF4-5C4A-494F-B0A5-363D8C8CB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3492B-5129-4AAA-972D-0C64C9FB8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6B35CE-2DD3-48F9-8B6F-B8FC8FC70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9FA03-8AE6-4BF7-BD4A-8F372D596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FEE318-4C5F-425F-BFC7-BF2EA8DF2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8B6C09-1740-4F9C-B035-CD02322A4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A919FC-4312-4C5A-B909-7A6C311EC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3FC9A2-5A57-4AC6-8419-EC72E403E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009B41-869A-47D7-A0CE-53E56F00F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D033FB-976D-4A00-8D60-955B31C02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7ADD4A-9A8F-4484-A4F0-F95B04110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41F47F-8466-440F-85F5-A4C8D7170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8A60AF-5A82-4325-8A7B-7A6BE95A6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3D60BA-EC34-4254-9F18-D2B48A5C7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4E620-BE30-48B2-B2D1-974B28D6C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9404C0-B931-4BF7-95A1-D92DF1D38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EBD3BD-E3F9-4681-A371-554D55E2F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B55D1D-6171-462C-9EF6-DFCB6133A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01D11F-3CFD-42AB-B4FD-6544B4197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2FFD65-0A63-4C12-8A11-1FC4C914B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921789-1972-4E9A-AC46-39375E0E5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41F7B5-91F8-4DB4-9335-8F6461A84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A3475D-35AB-49EA-B790-5DA19D7AF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7B8520-0F60-4CA5-AC1B-F827D98A4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3BE542-2C12-42D4-8AA2-6830103CC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F23AD-AB7B-4F8F-917C-5004832CC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E276F7-676F-4F07-BF6B-4B9BC44C9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71648B-95BA-4913-BE2D-C248D59D3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CD1063-5A1A-4A52-B4AF-BAF2CCFD3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F1A4C9-5C87-4BFF-A2D4-64A8BFD07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980BAC-3498-47DA-91DA-C77F88D50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7EBFE4-FC65-453E-A6FD-6378504B0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340C2C-1A9E-41D2-9DF9-EFA7070D0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20C4F8-57DD-4BA4-B996-210F87178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1E2595-CFD2-4DE2-B5AA-64FACAC7A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D6E296-F986-4B7E-8524-0CA76B67A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76E48-E4FF-4FA5-8D91-EE2C11E1C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472069-1922-43AA-B3AC-82379D0BA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668FB8-6A45-4DE1-B073-55E83E725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214CA5-DCE3-4136-BE5D-B9C827757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02C66F-6646-4CCE-A02D-BFAC2FA6B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61D543-7B4A-459E-8C32-336AFD992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910BAB-C0A0-4D48-93D2-FAC51A8F1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35D990-9C13-41E1-885D-F4E2FB946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56928D-3167-43B3-91A1-9050A6B28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8099FB-0F8A-45AE-80A7-AD9A7477C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3F3C96-B4A5-439B-82C9-F8372CA98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958A6-76F2-4645-95C5-E4714D404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D93480-72BF-44F7-8980-C33760D54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6FD6FF-0129-4961-AE6D-0E1200741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94A89D-386A-4759-BD5A-EE21DB494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EE4120-7F4C-4800-87D0-5A9FDDBB6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2ED11F-18E7-4775-B9C4-3F20017EE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E76A3B-337E-4298-98B5-B79ADB95D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63BA56-79A3-4629-A236-6F76760E2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12D712-74AD-45EE-ADEA-4FFB245EA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D30B91-FB72-4A79-AB4F-A4DA4AC71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B959D3-CAB2-46B0-8B68-7E28BA279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6th October 201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grpSp>
        <p:nvGrpSpPr>
          <p:cNvPr id="5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6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0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1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3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4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5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6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7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9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0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21" name="Picture 1" descr=""/>
          <p:cNvPicPr/>
          <p:nvPr/>
        </p:nvPicPr>
        <p:blipFill>
          <a:blip r:embed="rId2"/>
          <a:stretch/>
        </p:blipFill>
        <p:spPr>
          <a:xfrm>
            <a:off x="7945560" y="6419880"/>
            <a:ext cx="1784160" cy="266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9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20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1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2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3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4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5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6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7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8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9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30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31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32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33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34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535" name="Picture 1" descr=""/>
          <p:cNvPicPr/>
          <p:nvPr/>
        </p:nvPicPr>
        <p:blipFill>
          <a:blip r:embed="rId2"/>
          <a:stretch/>
        </p:blipFill>
        <p:spPr>
          <a:xfrm>
            <a:off x="7945560" y="6419880"/>
            <a:ext cx="1784160" cy="266760"/>
          </a:xfrm>
          <a:prstGeom prst="rect">
            <a:avLst/>
          </a:prstGeom>
          <a:ln w="0">
            <a:noFill/>
          </a:ln>
        </p:spPr>
      </p:pic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 type="dt" idx="25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6th October 201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 type="ftr" idx="26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 type="sldNum" idx="27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91052-EA36-4C25-88AE-242EDC4D2A73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7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78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79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0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1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2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3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4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5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6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7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8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9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90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91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92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593" name="Picture 1" descr=""/>
          <p:cNvPicPr/>
          <p:nvPr/>
        </p:nvPicPr>
        <p:blipFill>
          <a:blip r:embed="rId2"/>
          <a:stretch/>
        </p:blipFill>
        <p:spPr>
          <a:xfrm>
            <a:off x="7945560" y="6419880"/>
            <a:ext cx="1784160" cy="266760"/>
          </a:xfrm>
          <a:prstGeom prst="rect">
            <a:avLst/>
          </a:prstGeom>
          <a:ln w="0">
            <a:noFill/>
          </a:ln>
        </p:spPr>
      </p:pic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dt" idx="28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6th October 201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 type="ftr" idx="29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 type="sldNum" idx="30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0F6E1-5DC4-4337-AB8B-16419874D1CF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5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636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37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38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39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0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1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2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3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4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5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6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7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8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9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50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651" name="Picture 1" descr=""/>
          <p:cNvPicPr/>
          <p:nvPr/>
        </p:nvPicPr>
        <p:blipFill>
          <a:blip r:embed="rId2"/>
          <a:stretch/>
        </p:blipFill>
        <p:spPr>
          <a:xfrm>
            <a:off x="7945560" y="6419880"/>
            <a:ext cx="1784160" cy="266760"/>
          </a:xfrm>
          <a:prstGeom prst="rect">
            <a:avLst/>
          </a:prstGeom>
          <a:ln w="0">
            <a:noFill/>
          </a:ln>
        </p:spPr>
      </p:pic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 type="dt" idx="31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6th October 201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 type="ftr" idx="32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 type="sldNum" idx="33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3BC15-A1A2-4A14-AD85-F4402486D4D7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3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694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95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96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97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98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99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0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1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2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3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4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5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6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7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8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709" name="Picture 1" descr=""/>
          <p:cNvPicPr/>
          <p:nvPr/>
        </p:nvPicPr>
        <p:blipFill>
          <a:blip r:embed="rId2"/>
          <a:stretch/>
        </p:blipFill>
        <p:spPr>
          <a:xfrm>
            <a:off x="7945560" y="6419880"/>
            <a:ext cx="1784160" cy="266760"/>
          </a:xfrm>
          <a:prstGeom prst="rect">
            <a:avLst/>
          </a:prstGeom>
          <a:ln w="0">
            <a:noFill/>
          </a:ln>
        </p:spPr>
      </p:pic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 type="dt" idx="34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6th October 201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 type="ftr" idx="35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PlaceHolder 5"/>
          <p:cNvSpPr>
            <a:spLocks noGrp="1"/>
          </p:cNvSpPr>
          <p:nvPr>
            <p:ph type="sldNum" idx="36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8AFE7-C039-4446-BEDE-E5485485A8A5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1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752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53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54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55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56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57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58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59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0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1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2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3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4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5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6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767" name="Picture 1" descr=""/>
          <p:cNvPicPr/>
          <p:nvPr/>
        </p:nvPicPr>
        <p:blipFill>
          <a:blip r:embed="rId2"/>
          <a:stretch/>
        </p:blipFill>
        <p:spPr>
          <a:xfrm>
            <a:off x="7945560" y="6419880"/>
            <a:ext cx="1784160" cy="266760"/>
          </a:xfrm>
          <a:prstGeom prst="rect">
            <a:avLst/>
          </a:prstGeom>
          <a:ln w="0">
            <a:noFill/>
          </a:ln>
        </p:spPr>
      </p:pic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dt" idx="37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6th October 201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 type="ftr" idx="38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PlaceHolder 5"/>
          <p:cNvSpPr>
            <a:spLocks noGrp="1"/>
          </p:cNvSpPr>
          <p:nvPr>
            <p:ph type="sldNum" idx="39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FAEDE-9828-419B-8452-F605A78716A9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9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810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1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2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3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4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5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6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7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8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9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20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21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22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23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24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825" name="Picture 1" descr=""/>
          <p:cNvPicPr/>
          <p:nvPr/>
        </p:nvPicPr>
        <p:blipFill>
          <a:blip r:embed="rId2"/>
          <a:stretch/>
        </p:blipFill>
        <p:spPr>
          <a:xfrm>
            <a:off x="7945560" y="6419880"/>
            <a:ext cx="1784160" cy="266760"/>
          </a:xfrm>
          <a:prstGeom prst="rect">
            <a:avLst/>
          </a:prstGeom>
          <a:ln w="0">
            <a:noFill/>
          </a:ln>
        </p:spPr>
      </p:pic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 type="dt" idx="40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6th October 201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 type="ftr" idx="41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PlaceHolder 5"/>
          <p:cNvSpPr>
            <a:spLocks noGrp="1"/>
          </p:cNvSpPr>
          <p:nvPr>
            <p:ph type="sldNum" idx="42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04B81-FE61-4446-A729-194F96ADF46D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7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868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69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0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1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2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3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4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5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6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7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8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9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80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81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82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883" name="Picture 1" descr=""/>
          <p:cNvPicPr/>
          <p:nvPr/>
        </p:nvPicPr>
        <p:blipFill>
          <a:blip r:embed="rId2"/>
          <a:stretch/>
        </p:blipFill>
        <p:spPr>
          <a:xfrm>
            <a:off x="7945560" y="6419880"/>
            <a:ext cx="1784160" cy="266760"/>
          </a:xfrm>
          <a:prstGeom prst="rect">
            <a:avLst/>
          </a:prstGeom>
          <a:ln w="0">
            <a:noFill/>
          </a:ln>
        </p:spPr>
      </p:pic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 type="dt" idx="43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6th October 201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 type="ftr" idx="44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5"/>
          <p:cNvSpPr>
            <a:spLocks noGrp="1"/>
          </p:cNvSpPr>
          <p:nvPr>
            <p:ph type="sldNum" idx="45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87E9C-D3DC-4539-8B81-A8B4B3823699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5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926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27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28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29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0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1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2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3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4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5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6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7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8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9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40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941" name="Picture 1" descr=""/>
          <p:cNvPicPr/>
          <p:nvPr/>
        </p:nvPicPr>
        <p:blipFill>
          <a:blip r:embed="rId2"/>
          <a:stretch/>
        </p:blipFill>
        <p:spPr>
          <a:xfrm>
            <a:off x="7945560" y="6419880"/>
            <a:ext cx="1784160" cy="266760"/>
          </a:xfrm>
          <a:prstGeom prst="rect">
            <a:avLst/>
          </a:prstGeom>
          <a:ln w="0">
            <a:noFill/>
          </a:ln>
        </p:spPr>
      </p:pic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 type="dt" idx="46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6th October 201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 type="ftr" idx="47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PlaceHolder 5"/>
          <p:cNvSpPr>
            <a:spLocks noGrp="1"/>
          </p:cNvSpPr>
          <p:nvPr>
            <p:ph type="sldNum" idx="48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3FB64-FC78-4CE4-B12F-8B2DA7BD582B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3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984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85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86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87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88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89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0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1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2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3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4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5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6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7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8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999" name="Picture 1" descr=""/>
          <p:cNvPicPr/>
          <p:nvPr/>
        </p:nvPicPr>
        <p:blipFill>
          <a:blip r:embed="rId2"/>
          <a:stretch/>
        </p:blipFill>
        <p:spPr>
          <a:xfrm>
            <a:off x="7945560" y="6419880"/>
            <a:ext cx="1784160" cy="266760"/>
          </a:xfrm>
          <a:prstGeom prst="rect">
            <a:avLst/>
          </a:prstGeom>
          <a:ln w="0">
            <a:noFill/>
          </a:ln>
        </p:spPr>
      </p:pic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 type="dt" idx="49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f210b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Times New Roman"/>
              </a:rPr>
              <a:t>26th October 201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PlaceHolder 4"/>
          <p:cNvSpPr>
            <a:spLocks noGrp="1"/>
          </p:cNvSpPr>
          <p:nvPr>
            <p:ph type="ftr" idx="50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f210b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PlaceHolder 5"/>
          <p:cNvSpPr>
            <a:spLocks noGrp="1"/>
          </p:cNvSpPr>
          <p:nvPr>
            <p:ph type="sldNum" idx="51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8f210b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98D42-0AB8-41DC-A629-AB78F6090974}" type="slidenum">
              <a:rPr b="0" lang="en-GB" sz="1000" spc="-1" strike="noStrike">
                <a:solidFill>
                  <a:srgbClr val="8f210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9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0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1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2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3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5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6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7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8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9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1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2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3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74" name="Picture 1" descr=""/>
          <p:cNvPicPr/>
          <p:nvPr/>
        </p:nvPicPr>
        <p:blipFill>
          <a:blip r:embed="rId2"/>
          <a:stretch/>
        </p:blipFill>
        <p:spPr>
          <a:xfrm>
            <a:off x="7945560" y="6419880"/>
            <a:ext cx="1784160" cy="26676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dt" idx="4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6th October 201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ftr" idx="5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116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17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18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19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0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1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2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3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4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5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6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7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8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9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30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131" name="Picture 1" descr=""/>
          <p:cNvPicPr/>
          <p:nvPr/>
        </p:nvPicPr>
        <p:blipFill>
          <a:blip r:embed="rId2"/>
          <a:stretch/>
        </p:blipFill>
        <p:spPr>
          <a:xfrm>
            <a:off x="7945560" y="6419880"/>
            <a:ext cx="1784160" cy="26676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6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6th October 201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7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173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74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75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76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77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78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79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0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1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2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3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4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5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6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7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188" name="Picture 1" descr=""/>
          <p:cNvPicPr/>
          <p:nvPr/>
        </p:nvPicPr>
        <p:blipFill>
          <a:blip r:embed="rId2"/>
          <a:stretch/>
        </p:blipFill>
        <p:spPr>
          <a:xfrm>
            <a:off x="7945560" y="6419880"/>
            <a:ext cx="1784160" cy="266760"/>
          </a:xfrm>
          <a:prstGeom prst="rect">
            <a:avLst/>
          </a:prstGeom>
          <a:ln w="0">
            <a:noFill/>
          </a:ln>
        </p:spPr>
      </p:pic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 type="dt" idx="8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6th October 201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 type="ftr" idx="9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9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230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1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2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3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4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5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6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7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8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9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40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41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42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43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44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245" name="Picture 1" descr=""/>
          <p:cNvPicPr/>
          <p:nvPr/>
        </p:nvPicPr>
        <p:blipFill>
          <a:blip r:embed="rId2"/>
          <a:stretch/>
        </p:blipFill>
        <p:spPr>
          <a:xfrm>
            <a:off x="7945560" y="6419880"/>
            <a:ext cx="1784160" cy="266760"/>
          </a:xfrm>
          <a:prstGeom prst="rect">
            <a:avLst/>
          </a:prstGeom>
          <a:ln w="0">
            <a:noFill/>
          </a:ln>
        </p:spPr>
      </p:pic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0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6th October 201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1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2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BBE56-ED8F-414A-9204-F1562639B974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7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288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89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0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1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2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3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4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5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6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7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8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9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00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01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02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303" name="Picture 1" descr=""/>
          <p:cNvPicPr/>
          <p:nvPr/>
        </p:nvPicPr>
        <p:blipFill>
          <a:blip r:embed="rId2"/>
          <a:stretch/>
        </p:blipFill>
        <p:spPr>
          <a:xfrm>
            <a:off x="7945560" y="6419880"/>
            <a:ext cx="1784160" cy="266760"/>
          </a:xfrm>
          <a:prstGeom prst="rect">
            <a:avLst/>
          </a:prstGeom>
          <a:ln w="0">
            <a:noFill/>
          </a:ln>
        </p:spPr>
      </p:pic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13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6th October 201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14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15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469DD-2698-4ACE-B821-FB8A2D39C31C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5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346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47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48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49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0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1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2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3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4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5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6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7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8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9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60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361" name="Picture 1" descr=""/>
          <p:cNvPicPr/>
          <p:nvPr/>
        </p:nvPicPr>
        <p:blipFill>
          <a:blip r:embed="rId2"/>
          <a:stretch/>
        </p:blipFill>
        <p:spPr>
          <a:xfrm>
            <a:off x="7945560" y="6419880"/>
            <a:ext cx="1784160" cy="266760"/>
          </a:xfrm>
          <a:prstGeom prst="rect">
            <a:avLst/>
          </a:prstGeom>
          <a:ln w="0">
            <a:noFill/>
          </a:ln>
        </p:spPr>
      </p:pic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 type="dt" idx="16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6th October 201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 type="ftr" idx="17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 type="sldNum" idx="18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4D6CC-D97C-4A47-B7FD-18749FF611E4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3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404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05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06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07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08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09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0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1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2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3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4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5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6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7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8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419" name="Picture 1" descr=""/>
          <p:cNvPicPr/>
          <p:nvPr/>
        </p:nvPicPr>
        <p:blipFill>
          <a:blip r:embed="rId2"/>
          <a:stretch/>
        </p:blipFill>
        <p:spPr>
          <a:xfrm>
            <a:off x="7945560" y="6419880"/>
            <a:ext cx="1784160" cy="266760"/>
          </a:xfrm>
          <a:prstGeom prst="rect">
            <a:avLst/>
          </a:prstGeom>
          <a:ln w="0">
            <a:noFill/>
          </a:ln>
        </p:spPr>
      </p:pic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 type="dt" idx="19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6th October 201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 type="ftr" idx="20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 type="sldNum" idx="21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E1938-A3E6-4828-AA55-DA2C7E44D81F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1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462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63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64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65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66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67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68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69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0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1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2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3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4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5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6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477" name="Picture 1" descr=""/>
          <p:cNvPicPr/>
          <p:nvPr/>
        </p:nvPicPr>
        <p:blipFill>
          <a:blip r:embed="rId2"/>
          <a:stretch/>
        </p:blipFill>
        <p:spPr>
          <a:xfrm>
            <a:off x="7945560" y="6419880"/>
            <a:ext cx="1784160" cy="2667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22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6th October 201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23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24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501F3-1089-4430-8C83-2FC1AC006B7B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5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4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4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6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8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9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9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9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9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9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9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9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9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7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9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4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7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http://imaging.mrc-cbu.cam.ac.uk/statswiki/FAQ/BinomialConfidence" TargetMode="External"/><Relationship Id="rId2" Type="http://schemas.openxmlformats.org/officeDocument/2006/relationships/slideLayout" Target="../slideLayouts/slideLayout7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hyperlink" Target="http://imaging.mrc-cbu.cam.ac.uk/statswiki/FAQ/kappa" TargetMode="External"/><Relationship Id="rId2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4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4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9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9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39.wmf"/><Relationship Id="rId3" Type="http://schemas.openxmlformats.org/officeDocument/2006/relationships/image" Target="../media/image40.wmf"/><Relationship Id="rId4" Type="http://schemas.openxmlformats.org/officeDocument/2006/relationships/slideLayout" Target="../slideLayouts/slideLayout14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th Octo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4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7D0D2-092D-49BE-BD28-923A9A2E1A8F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990720" y="2438280"/>
            <a:ext cx="8416800" cy="198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MRC Cognition and Brain Sciences Unit</a:t>
            </a:r>
            <a:r>
              <a:rPr b="0" lang="en-GB" sz="3600" spc="-1" strike="noStrike">
                <a:solidFill>
                  <a:srgbClr val="515f7b"/>
                </a:solidFill>
                <a:latin typeface="Albertus Medium"/>
              </a:rPr>
              <a:t> </a:t>
            </a:r>
            <a:br>
              <a:rPr sz="3600"/>
            </a:br>
            <a:r>
              <a:rPr b="0" lang="en-GB" sz="3600" spc="-1" strike="noStrike">
                <a:solidFill>
                  <a:srgbClr val="8f210b"/>
                </a:solidFill>
                <a:latin typeface="Albertus Medium"/>
              </a:rPr>
              <a:t>Graduate Statistics Course 2017</a:t>
            </a:r>
            <a:br>
              <a:rPr sz="3600"/>
            </a:br>
            <a:r>
              <a:rPr b="0" lang="en-US" sz="1800" spc="-1" strike="noStrike">
                <a:solidFill>
                  <a:srgbClr val="515f7b"/>
                </a:solidFill>
                <a:latin typeface="Verdana"/>
              </a:rPr>
              <a:t>http://imaging.mrc-cbu.cam.ac.uk/statswiki/StatsCourse2017</a:t>
            </a:r>
            <a:endParaRPr b="0" lang="en-US" sz="1800" spc="-1" strike="noStrike">
              <a:solidFill>
                <a:srgbClr val="515f7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th Octo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4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5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C55E0-BE6E-4D92-872D-9E38D5C3522B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Frequency Tables 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Observations are classified according to some schem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 numbers of observations falling into each category of the classification are called the </a:t>
            </a:r>
            <a:r>
              <a:rPr b="0" i="1" lang="en-US" sz="2800" spc="-1" strike="noStrike">
                <a:solidFill>
                  <a:srgbClr val="8f210b"/>
                </a:solidFill>
                <a:latin typeface="Albertus Medium"/>
              </a:rPr>
              <a:t>frequenci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th Octo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6DB98-DFD9-442E-B8D7-10884314258C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Visual Field Deficit Problems in Hemiplegic Patient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102" name="Picture 4" descr=""/>
          <p:cNvPicPr/>
          <p:nvPr/>
        </p:nvPicPr>
        <p:blipFill>
          <a:blip r:embed="rId1"/>
          <a:stretch/>
        </p:blipFill>
        <p:spPr>
          <a:xfrm>
            <a:off x="3943440" y="1844640"/>
            <a:ext cx="3436920" cy="44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th Octo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4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5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8E812-F328-4A94-B343-C437424FDD68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FREQUENCIE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07" name="Line 10"/>
          <p:cNvSpPr/>
          <p:nvPr/>
        </p:nvSpPr>
        <p:spPr>
          <a:xfrm flipH="1" flipV="1">
            <a:off x="6436800" y="2895120"/>
            <a:ext cx="908280" cy="7621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95360" y="2133720"/>
            <a:ext cx="536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nalyze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Descriptive Statistics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Frequenci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ut the variable that holds the category information into the Variables(s) box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ress OK ..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109" name="Picture 14" descr=""/>
          <p:cNvPicPr/>
          <p:nvPr/>
        </p:nvPicPr>
        <p:blipFill>
          <a:blip r:embed="rId1"/>
          <a:stretch/>
        </p:blipFill>
        <p:spPr>
          <a:xfrm>
            <a:off x="5611680" y="2362320"/>
            <a:ext cx="4125960" cy="23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th Octo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1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2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0CA74-78D8-46AF-89BD-5935890C8384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Frequency Tabl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114" name="Picture 4" descr=""/>
          <p:cNvPicPr/>
          <p:nvPr/>
        </p:nvPicPr>
        <p:blipFill>
          <a:blip r:embed="rId1"/>
          <a:stretch/>
        </p:blipFill>
        <p:spPr>
          <a:xfrm>
            <a:off x="1155600" y="1981080"/>
            <a:ext cx="8417160" cy="23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th Octo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6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7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F18CA-39B8-4B33-9391-7B538651CBE3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Bar chart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1280880" y="2017800"/>
            <a:ext cx="412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lecting ‘Bar Chart’ from the ‘</a:t>
            </a:r>
            <a:r>
              <a:rPr b="0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C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harts’ options gives you a graphic which you can cut and paste ..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120" name="Picture 10" descr=""/>
          <p:cNvPicPr/>
          <p:nvPr/>
        </p:nvPicPr>
        <p:blipFill>
          <a:blip r:embed="rId1"/>
          <a:stretch/>
        </p:blipFill>
        <p:spPr>
          <a:xfrm>
            <a:off x="5199120" y="2057400"/>
            <a:ext cx="4125960" cy="29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th Octo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22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23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5C43F-A1DE-4FC0-A94C-83D8971F11B3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ontingency Table</a:t>
            </a: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	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329760" y="2017800"/>
            <a:ext cx="5077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tems are classified by two or more classifications simultaneousl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E.g. </a:t>
            </a:r>
            <a:r>
              <a:rPr b="0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Side of Damage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 and </a:t>
            </a:r>
            <a:r>
              <a:rPr b="0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Severity of Visual Field Deficit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nalyze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Descriptive Statistics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Crosstab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lect ‘Side of Damage’ and ‘Visual Field Deficit’ to define the row/column categori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126" name="Picture 4" descr=""/>
          <p:cNvPicPr/>
          <p:nvPr/>
        </p:nvPicPr>
        <p:blipFill>
          <a:blip r:embed="rId1"/>
          <a:stretch/>
        </p:blipFill>
        <p:spPr>
          <a:xfrm>
            <a:off x="5599080" y="2205000"/>
            <a:ext cx="4125960" cy="32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th Octo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28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29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9107B-684C-456D-8EAE-54EC8AEEA7E2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ROSSTAB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131" name="Picture 4" descr=""/>
          <p:cNvPicPr/>
          <p:nvPr/>
        </p:nvPicPr>
        <p:blipFill>
          <a:blip r:embed="rId1"/>
          <a:stretch/>
        </p:blipFill>
        <p:spPr>
          <a:xfrm>
            <a:off x="1155600" y="2286000"/>
            <a:ext cx="8417160" cy="2262240"/>
          </a:xfrm>
          <a:prstGeom prst="rect">
            <a:avLst/>
          </a:prstGeom>
          <a:ln w="0">
            <a:noFill/>
          </a:ln>
        </p:spPr>
      </p:pic>
      <p:sp>
        <p:nvSpPr>
          <p:cNvPr id="1132" name="Text Box 6"/>
          <p:cNvSpPr/>
          <p:nvPr/>
        </p:nvSpPr>
        <p:spPr>
          <a:xfrm>
            <a:off x="1238400" y="4876920"/>
            <a:ext cx="7921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t looks as if there may be more VFD in RBD than in LBD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th Octo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34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35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9E9BB-FF3E-4BA1-8A64-B1FB1F24927E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Analysing a frequency table directly from the frequencie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137" name="Picture 3" descr=""/>
          <p:cNvPicPr/>
          <p:nvPr/>
        </p:nvPicPr>
        <p:blipFill>
          <a:blip r:embed="rId1"/>
          <a:stretch/>
        </p:blipFill>
        <p:spPr>
          <a:xfrm>
            <a:off x="4951440" y="1981080"/>
            <a:ext cx="4125960" cy="4114800"/>
          </a:xfrm>
          <a:prstGeom prst="rect">
            <a:avLst/>
          </a:prstGeom>
          <a:ln w="0">
            <a:noFill/>
          </a:ln>
        </p:spPr>
      </p:pic>
      <p:sp>
        <p:nvSpPr>
          <p:cNvPr id="1138" name="PlaceHolder 2"/>
          <p:cNvSpPr>
            <a:spLocks noGrp="1"/>
          </p:cNvSpPr>
          <p:nvPr>
            <p:ph/>
          </p:nvPr>
        </p:nvSpPr>
        <p:spPr>
          <a:xfrm>
            <a:off x="577440" y="2133360"/>
            <a:ext cx="412596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Sometimes the observations have already been aggregated into frequencies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Enter the frequencies for each cells of the table, identified by the levels of the classifying factors.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E.g. Lexical Decision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Type: {1 = Word , 2 = Nonword}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Outcome: {1 = ‘Word’ , 2 = ‘Nonword’}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requency count for response ‘Word’ to Word items is 8.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Etc.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requencies are stored in the variable called ‘freq’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th Octo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0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1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4C10D-564F-48FF-B8CE-54DBF4F134E8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Use ‘Weight Cases’ to analyse the frequency tabl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143" name="Picture 3" descr=""/>
          <p:cNvPicPr/>
          <p:nvPr/>
        </p:nvPicPr>
        <p:blipFill>
          <a:blip r:embed="rId1"/>
          <a:stretch/>
        </p:blipFill>
        <p:spPr>
          <a:xfrm>
            <a:off x="4621320" y="2057400"/>
            <a:ext cx="4125960" cy="1417680"/>
          </a:xfrm>
          <a:prstGeom prst="rect">
            <a:avLst/>
          </a:prstGeom>
          <a:ln w="0">
            <a:noFill/>
          </a:ln>
        </p:spPr>
      </p:pic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659880" y="2286000"/>
            <a:ext cx="4125960" cy="35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Data </a:t>
            </a:r>
            <a:r>
              <a:rPr b="0" lang="en-US" sz="20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 Weight Cases …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The variable ‘freq’ contains the frequencie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th Octo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6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7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D3458-E989-4AE6-9AB1-0495BCF1E670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Use ‘Crosstabs’ to  generate the frequency tabl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/>
          </p:nvPr>
        </p:nvSpPr>
        <p:spPr>
          <a:xfrm>
            <a:off x="660240" y="2286000"/>
            <a:ext cx="4368960" cy="35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Cross-classification by ‘type’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5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Stimulus = {Word, Non-word}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and by ‘outcome’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5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Response = {‘Word’, Non-word’}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150" name="Picture 6" descr=""/>
          <p:cNvPicPr/>
          <p:nvPr/>
        </p:nvPicPr>
        <p:blipFill>
          <a:blip r:embed="rId1"/>
          <a:stretch/>
        </p:blipFill>
        <p:spPr>
          <a:xfrm>
            <a:off x="5029200" y="2209680"/>
            <a:ext cx="4290840" cy="34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th Octo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3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4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33AB3-63C5-4DF9-9D67-2804F043F5AF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4: Categorical Data Analysi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56" name="Text Box 1029"/>
          <p:cNvSpPr/>
          <p:nvPr/>
        </p:nvSpPr>
        <p:spPr>
          <a:xfrm>
            <a:off x="1320840" y="2362320"/>
            <a:ext cx="81691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f210b"/>
                </a:solidFill>
                <a:latin typeface="Albertus Medium"/>
              </a:rPr>
              <a:t>Categorical Data, Contingency Tables and the Pearson Chi-Squared Statistic</a:t>
            </a:r>
            <a:endParaRPr b="0" lang="en-US" sz="3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7" name="Text Box 1030"/>
          <p:cNvSpPr/>
          <p:nvPr/>
        </p:nvSpPr>
        <p:spPr>
          <a:xfrm>
            <a:off x="1486080" y="3505320"/>
            <a:ext cx="7839000" cy="276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f210b"/>
                </a:solidFill>
                <a:latin typeface="Albertus Medium"/>
              </a:rPr>
              <a:t>Peter Watson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f210b"/>
                </a:solidFill>
                <a:latin typeface="Albertus Medium"/>
              </a:rPr>
              <a:t>(with thanks to Ian Nimmo-Smith)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02 November 2017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cc"/>
                </a:solidFill>
                <a:latin typeface="Albertus Medium"/>
              </a:rPr>
              <a:t>http://imaging.mrc-cbu.cam.ac.uk/statswiki/FAQ/cdaFAQ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th Octo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52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53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EC0A3-53AF-49CA-B283-7C37B753F825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Simple use of SPSS Crosstab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155" name="Picture 3" descr=""/>
          <p:cNvPicPr/>
          <p:nvPr/>
        </p:nvPicPr>
        <p:blipFill>
          <a:blip r:embed="rId1"/>
          <a:stretch/>
        </p:blipFill>
        <p:spPr>
          <a:xfrm>
            <a:off x="5281560" y="2590920"/>
            <a:ext cx="3979800" cy="1463400"/>
          </a:xfrm>
          <a:prstGeom prst="rect">
            <a:avLst/>
          </a:prstGeom>
          <a:ln w="0">
            <a:noFill/>
          </a:ln>
        </p:spPr>
      </p:pic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577440" y="2133720"/>
            <a:ext cx="412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Word recognition looks quite good (80%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But Non-word rejection is low (50%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th Octo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58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59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7DCDB-CDE9-47F0-BE90-929DD47B6481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Goodness-of-Fit Chi-squared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uppose we have a Theory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.e. a ‘model’ that predicts the expected frequencies (E) in each categor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We actually observe the frequencies (O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We measure how good a fit the data are to the theory by the formula: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X</a:t>
            </a:r>
            <a:r>
              <a:rPr b="0" lang="en-US" sz="24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= </a:t>
            </a:r>
            <a:r>
              <a:rPr b="0" lang="en-US" sz="3200" spc="-1" strike="noStrike">
                <a:solidFill>
                  <a:srgbClr val="8f210b"/>
                </a:solidFill>
                <a:latin typeface="Symbol"/>
                <a:ea typeface="Symbol"/>
              </a:rPr>
              <a:t>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(O-E)</a:t>
            </a:r>
            <a:r>
              <a:rPr b="0" lang="en-US" sz="24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/E where the sum is over all the categori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s is called Pearson’s Chi-Squared Statistic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th Octo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63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64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1CCB8-01C9-446C-926E-11C4B12A4E79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Significanc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6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Large values of X</a:t>
            </a:r>
            <a:r>
              <a:rPr b="0" lang="en-US" sz="2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suggest the model doesn’t fit the data wel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This leads to Goodness-of-fit te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We look at the value of X</a:t>
            </a:r>
            <a:r>
              <a:rPr b="0" lang="en-US" sz="2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and see whether it is unusually large by reference to a </a:t>
            </a:r>
            <a:r>
              <a:rPr b="0" lang="en-US" sz="3600" spc="-1" strike="noStrike">
                <a:solidFill>
                  <a:srgbClr val="8f210b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38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3200" spc="-1" strike="noStrike">
                <a:solidFill>
                  <a:srgbClr val="8f210b"/>
                </a:solidFill>
                <a:latin typeface="Albertus Medium"/>
              </a:rPr>
              <a:t>-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distribution with k-1 degrees-of-freedom where k is the number of categories in the classifica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th Octo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68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69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E2204-47A1-4006-89DE-72258AE99763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‘</a:t>
            </a: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Degrees of Freedom’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An elusive concept that occurs throughout statistics. In essence it means the number of independent pieces of information in a sample relevant to the estimation of some parameters or calculation of a statistic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5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For example in a two-by-two contingency table with a given set of marginal totals only 1 of the cells at a time is ‘free’ -- once it is specified all the others are determined -- and the table thus has a single degree of freedom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The important point here is we can only interpret X</a:t>
            </a:r>
            <a:r>
              <a:rPr b="0" lang="en-US" sz="2000" spc="-1" strike="noStrike" baseline="40000">
                <a:solidFill>
                  <a:srgbClr val="8f210b"/>
                </a:solidFill>
                <a:latin typeface="Albertus Medium"/>
              </a:rPr>
              <a:t>2 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if we also know its degrees of freedom, as we see later when we look at the chi-squared distribution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th Octo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73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74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C7C59-A589-4EB3-8945-06CA10C0E46C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515f7b"/>
                </a:solidFill>
                <a:latin typeface="Albertus Medium"/>
              </a:rPr>
              <a:t>Degrees of Freedom = 1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1176" name=""/>
          <p:cNvGraphicFramePr/>
          <p:nvPr/>
        </p:nvGraphicFramePr>
        <p:xfrm>
          <a:off x="1281240" y="2017800"/>
          <a:ext cx="8416800" cy="4114800"/>
        </p:xfrm>
        <a:graphic>
          <a:graphicData uri="http://schemas.openxmlformats.org/drawingml/2006/table">
            <a:tbl>
              <a:tblPr/>
              <a:tblGrid>
                <a:gridCol w="2805120"/>
                <a:gridCol w="2806560"/>
                <a:gridCol w="2805120"/>
              </a:tblGrid>
              <a:tr h="1371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x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10-x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Row 1 Total = 1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13-x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x-3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Row 2 Total = 1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Column 1 Total = 13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Column 3 Total = 7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Table Total = 2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th Octo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78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79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35B19-02D0-4C72-81CA-84BE256402D8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15f7b"/>
                </a:solidFill>
                <a:latin typeface="Albertus Medium"/>
              </a:rPr>
              <a:t>Degrees of Freedom = 4 (#rows-1) times (#cols -1)</a:t>
            </a:r>
            <a:endParaRPr b="0" lang="en-US" sz="28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1181" name=""/>
          <p:cNvGraphicFramePr/>
          <p:nvPr/>
        </p:nvGraphicFramePr>
        <p:xfrm>
          <a:off x="487440" y="2017800"/>
          <a:ext cx="9210600" cy="4114800"/>
        </p:xfrm>
        <a:graphic>
          <a:graphicData uri="http://schemas.openxmlformats.org/drawingml/2006/table">
            <a:tbl>
              <a:tblPr/>
              <a:tblGrid>
                <a:gridCol w="2303280"/>
                <a:gridCol w="2301840"/>
                <a:gridCol w="2303640"/>
                <a:gridCol w="2301840"/>
              </a:tblGrid>
              <a:tr h="1028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x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y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10-x-y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Row 1 Total = 1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u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v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10-u-v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Row 2 Total = 1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noFill/>
                  </a:tcPr>
                </a:tc>
              </a:tr>
              <a:tr h="1028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12-x-u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7-y-v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x+y+u+v-9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Row 3 Total = 1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Column 1 Total = 12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Column 2 Total = 7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Column 3 Total = 11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Table Total = 3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th Octo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83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84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FD287-73CA-4FB8-8BF8-A60FFA261BCC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olman, Ritchie and Kalish (1946)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86" name="PlaceHolder 2"/>
          <p:cNvSpPr>
            <a:spLocks noGrp="1"/>
          </p:cNvSpPr>
          <p:nvPr>
            <p:ph/>
          </p:nvPr>
        </p:nvSpPr>
        <p:spPr>
          <a:xfrm>
            <a:off x="1066320" y="1904760"/>
            <a:ext cx="413244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lace learning in ra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grpSp>
        <p:nvGrpSpPr>
          <p:cNvPr id="1187" name="Group 1062"/>
          <p:cNvGrpSpPr/>
          <p:nvPr/>
        </p:nvGrpSpPr>
        <p:grpSpPr>
          <a:xfrm>
            <a:off x="914400" y="2971800"/>
            <a:ext cx="3341880" cy="3263760"/>
            <a:chOff x="914400" y="2971800"/>
            <a:chExt cx="3341880" cy="3263760"/>
          </a:xfrm>
        </p:grpSpPr>
        <p:grpSp>
          <p:nvGrpSpPr>
            <p:cNvPr id="1188" name="Group 1058"/>
            <p:cNvGrpSpPr/>
            <p:nvPr/>
          </p:nvGrpSpPr>
          <p:grpSpPr>
            <a:xfrm>
              <a:off x="914400" y="2971800"/>
              <a:ext cx="3341880" cy="2819160"/>
              <a:chOff x="914400" y="2971800"/>
              <a:chExt cx="3341880" cy="2819160"/>
            </a:xfrm>
          </p:grpSpPr>
          <p:sp>
            <p:nvSpPr>
              <p:cNvPr id="1189" name="Oval 1033"/>
              <p:cNvSpPr/>
              <p:nvPr/>
            </p:nvSpPr>
            <p:spPr>
              <a:xfrm>
                <a:off x="914400" y="4267080"/>
                <a:ext cx="1447920" cy="1523880"/>
              </a:xfrm>
              <a:prstGeom prst="ellipse">
                <a:avLst/>
              </a:prstGeom>
              <a:noFill/>
              <a:ln w="9360">
                <a:solidFill>
                  <a:srgbClr val="8f210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700"/>
                  </a:spcBef>
                  <a:buClr>
                    <a:srgbClr val="a3ce82"/>
                  </a:buClr>
                  <a:buSzPct val="5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8f210b"/>
                  </a:solidFill>
                  <a:latin typeface="Albertus Medium"/>
                </a:endParaRPr>
              </a:p>
            </p:txBody>
          </p:sp>
          <p:sp>
            <p:nvSpPr>
              <p:cNvPr id="1190" name="AutoShape 1034"/>
              <p:cNvSpPr/>
              <p:nvPr/>
            </p:nvSpPr>
            <p:spPr>
              <a:xfrm>
                <a:off x="1524240" y="2971800"/>
                <a:ext cx="1904760" cy="1295280"/>
              </a:xfrm>
              <a:custGeom>
                <a:avLst/>
                <a:gdLst>
                  <a:gd name="textAreaLeft" fmla="*/ 1095120 w 1904760"/>
                  <a:gd name="textAreaRight" fmla="*/ 1841400 w 1904760"/>
                  <a:gd name="textAreaTop" fmla="*/ 290520 h 1295280"/>
                  <a:gd name="textAreaBottom" fmla="*/ 438120 h 1295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6079"/>
                    </a:moveTo>
                    <a:lnTo>
                      <a:pt x="18078" y="0"/>
                    </a:lnTo>
                    <a:lnTo>
                      <a:pt x="18078" y="4846"/>
                    </a:lnTo>
                    <a:lnTo>
                      <a:pt x="12427" y="4846"/>
                    </a:lnTo>
                    <a:cubicBezTo>
                      <a:pt x="5564" y="4846"/>
                      <a:pt x="0" y="8120"/>
                      <a:pt x="0" y="12158"/>
                    </a:cubicBezTo>
                    <a:lnTo>
                      <a:pt x="0" y="21600"/>
                    </a:lnTo>
                    <a:lnTo>
                      <a:pt x="2521" y="21600"/>
                    </a:lnTo>
                    <a:lnTo>
                      <a:pt x="2521" y="12158"/>
                    </a:lnTo>
                    <a:cubicBezTo>
                      <a:pt x="2521" y="9482"/>
                      <a:pt x="6956" y="7312"/>
                      <a:pt x="12427" y="7312"/>
                    </a:cubicBezTo>
                    <a:lnTo>
                      <a:pt x="18078" y="7312"/>
                    </a:lnTo>
                    <a:lnTo>
                      <a:pt x="18078" y="12158"/>
                    </a:lnTo>
                    <a:lnTo>
                      <a:pt x="21600" y="6079"/>
                    </a:lnTo>
                    <a:close/>
                  </a:path>
                </a:pathLst>
              </a:custGeom>
              <a:noFill/>
              <a:ln w="9360">
                <a:solidFill>
                  <a:srgbClr val="8f210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8f210b"/>
                  </a:solidFill>
                  <a:latin typeface="Albertus Medium"/>
                </a:endParaRPr>
              </a:p>
            </p:txBody>
          </p:sp>
          <p:sp>
            <p:nvSpPr>
              <p:cNvPr id="1191" name="Text Box 1035"/>
              <p:cNvSpPr/>
              <p:nvPr/>
            </p:nvSpPr>
            <p:spPr>
              <a:xfrm>
                <a:off x="3094560" y="3047760"/>
                <a:ext cx="1161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700"/>
                  </a:spcBef>
                  <a:buClr>
                    <a:srgbClr val="a3ce82"/>
                  </a:buClr>
                  <a:buSzPct val="5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8f210b"/>
                    </a:solidFill>
                    <a:latin typeface="Albertus Medium"/>
                  </a:rPr>
                  <a:t>Food</a:t>
                </a:r>
                <a:endParaRPr b="0" lang="en-US" sz="2800" spc="-1" strike="noStrike">
                  <a:solidFill>
                    <a:srgbClr val="8f210b"/>
                  </a:solidFill>
                  <a:latin typeface="Albertus Medium"/>
                </a:endParaRPr>
              </a:p>
            </p:txBody>
          </p:sp>
          <p:sp>
            <p:nvSpPr>
              <p:cNvPr id="1192" name="Text Box 1057"/>
              <p:cNvSpPr/>
              <p:nvPr/>
            </p:nvSpPr>
            <p:spPr>
              <a:xfrm>
                <a:off x="1467000" y="3200400"/>
                <a:ext cx="326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8f210b"/>
                    </a:solidFill>
                    <a:latin typeface="Albertus Medium"/>
                  </a:rPr>
                  <a:t>A</a:t>
                </a:r>
                <a:endParaRPr b="0" lang="en-US" sz="1800" spc="-1" strike="noStrike">
                  <a:solidFill>
                    <a:srgbClr val="8f210b"/>
                  </a:solidFill>
                  <a:latin typeface="Albertus Medium"/>
                </a:endParaRPr>
              </a:p>
            </p:txBody>
          </p:sp>
        </p:grpSp>
        <p:sp>
          <p:nvSpPr>
            <p:cNvPr id="1193" name="Text Box 1060"/>
            <p:cNvSpPr/>
            <p:nvPr/>
          </p:nvSpPr>
          <p:spPr>
            <a:xfrm>
              <a:off x="2142000" y="5715000"/>
              <a:ext cx="1629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700"/>
                </a:spcBef>
                <a:buClr>
                  <a:srgbClr val="a3ce82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8f210b"/>
                  </a:solidFill>
                  <a:latin typeface="Albertus Medium"/>
                </a:rPr>
                <a:t>Phase 1</a:t>
              </a: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grpSp>
        <p:nvGrpSpPr>
          <p:cNvPr id="1194" name="Group 1067"/>
          <p:cNvGrpSpPr/>
          <p:nvPr/>
        </p:nvGrpSpPr>
        <p:grpSpPr>
          <a:xfrm>
            <a:off x="4469760" y="2590920"/>
            <a:ext cx="5128200" cy="3582720"/>
            <a:chOff x="4469760" y="2590920"/>
            <a:chExt cx="5128200" cy="3582720"/>
          </a:xfrm>
        </p:grpSpPr>
        <p:grpSp>
          <p:nvGrpSpPr>
            <p:cNvPr id="1195" name="Group 1064"/>
            <p:cNvGrpSpPr/>
            <p:nvPr/>
          </p:nvGrpSpPr>
          <p:grpSpPr>
            <a:xfrm>
              <a:off x="4572000" y="2590920"/>
              <a:ext cx="5025960" cy="3582720"/>
              <a:chOff x="4572000" y="2590920"/>
              <a:chExt cx="5025960" cy="3582720"/>
            </a:xfrm>
          </p:grpSpPr>
          <p:sp>
            <p:nvSpPr>
              <p:cNvPr id="1196" name="Text Box 1046"/>
              <p:cNvSpPr/>
              <p:nvPr/>
            </p:nvSpPr>
            <p:spPr>
              <a:xfrm>
                <a:off x="7696080" y="3886200"/>
                <a:ext cx="190188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8f210b"/>
                    </a:solidFill>
                    <a:latin typeface="Albertus Medium"/>
                  </a:rPr>
                  <a:t>D: New alley to original food source</a:t>
                </a:r>
                <a:endParaRPr b="0" lang="en-US" sz="1800" spc="-1" strike="noStrike">
                  <a:solidFill>
                    <a:srgbClr val="8f210b"/>
                  </a:solidFill>
                  <a:latin typeface="Albertus Medium"/>
                </a:endParaRPr>
              </a:p>
            </p:txBody>
          </p:sp>
          <p:grpSp>
            <p:nvGrpSpPr>
              <p:cNvPr id="1197" name="Group 1063"/>
              <p:cNvGrpSpPr/>
              <p:nvPr/>
            </p:nvGrpSpPr>
            <p:grpSpPr>
              <a:xfrm>
                <a:off x="4572000" y="2590920"/>
                <a:ext cx="3798720" cy="3582720"/>
                <a:chOff x="4572000" y="2590920"/>
                <a:chExt cx="3798720" cy="3582720"/>
              </a:xfrm>
            </p:grpSpPr>
            <p:grpSp>
              <p:nvGrpSpPr>
                <p:cNvPr id="1198" name="Group 1059"/>
                <p:cNvGrpSpPr/>
                <p:nvPr/>
              </p:nvGrpSpPr>
              <p:grpSpPr>
                <a:xfrm>
                  <a:off x="4572000" y="2590920"/>
                  <a:ext cx="3798720" cy="3352680"/>
                  <a:chOff x="4572000" y="2590920"/>
                  <a:chExt cx="3798720" cy="3352680"/>
                </a:xfrm>
              </p:grpSpPr>
              <p:sp>
                <p:nvSpPr>
                  <p:cNvPr id="1199" name="Oval 1038"/>
                  <p:cNvSpPr/>
                  <p:nvPr/>
                </p:nvSpPr>
                <p:spPr>
                  <a:xfrm>
                    <a:off x="4876560" y="4419720"/>
                    <a:ext cx="1447920" cy="1523880"/>
                  </a:xfrm>
                  <a:prstGeom prst="ellipse">
                    <a:avLst/>
                  </a:prstGeom>
                  <a:noFill/>
                  <a:ln w="9360">
                    <a:solidFill>
                      <a:srgbClr val="8f210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spcBef>
                        <a:spcPts val="700"/>
                      </a:spcBef>
                      <a:buClr>
                        <a:srgbClr val="a3ce82"/>
                      </a:buClr>
                      <a:buSzPct val="55000"/>
                      <a:buFont typeface="Wingdings" charset="2"/>
                      <a:buChar char="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0" name="AutoShape 1040"/>
                  <p:cNvSpPr/>
                  <p:nvPr/>
                </p:nvSpPr>
                <p:spPr>
                  <a:xfrm rot="20100000">
                    <a:off x="4952520" y="3809880"/>
                    <a:ext cx="380880" cy="762120"/>
                  </a:xfrm>
                  <a:prstGeom prst="upArrow">
                    <a:avLst>
                      <a:gd name="adj1" fmla="val 46259"/>
                      <a:gd name="adj2" fmla="val 0"/>
                    </a:avLst>
                  </a:prstGeom>
                  <a:noFill/>
                  <a:ln w="9360">
                    <a:solidFill>
                      <a:srgbClr val="8f210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spcBef>
                        <a:spcPts val="700"/>
                      </a:spcBef>
                      <a:buClr>
                        <a:srgbClr val="a3ce82"/>
                      </a:buClr>
                      <a:buSzPct val="55000"/>
                      <a:buFont typeface="Wingdings" charset="2"/>
                      <a:buChar char="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1" name="AutoShape 1041"/>
                  <p:cNvSpPr/>
                  <p:nvPr/>
                </p:nvSpPr>
                <p:spPr>
                  <a:xfrm rot="1500000">
                    <a:off x="5943600" y="3809520"/>
                    <a:ext cx="304560" cy="762120"/>
                  </a:xfrm>
                  <a:prstGeom prst="upArrow">
                    <a:avLst>
                      <a:gd name="adj1" fmla="val 60111"/>
                      <a:gd name="adj2" fmla="val 0"/>
                    </a:avLst>
                  </a:prstGeom>
                  <a:noFill/>
                  <a:ln w="9360">
                    <a:solidFill>
                      <a:srgbClr val="8f210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spcBef>
                        <a:spcPts val="700"/>
                      </a:spcBef>
                      <a:buClr>
                        <a:srgbClr val="a3ce82"/>
                      </a:buClr>
                      <a:buSzPct val="55000"/>
                      <a:buFont typeface="Wingdings" charset="2"/>
                      <a:buChar char="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2" name="AutoShape 1042"/>
                  <p:cNvSpPr/>
                  <p:nvPr/>
                </p:nvSpPr>
                <p:spPr>
                  <a:xfrm>
                    <a:off x="5467320" y="3705120"/>
                    <a:ext cx="304560" cy="762120"/>
                  </a:xfrm>
                  <a:prstGeom prst="upArrow">
                    <a:avLst>
                      <a:gd name="adj1" fmla="val 60111"/>
                      <a:gd name="adj2" fmla="val 0"/>
                    </a:avLst>
                  </a:prstGeom>
                  <a:noFill/>
                  <a:ln w="9360">
                    <a:solidFill>
                      <a:srgbClr val="8f210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spcBef>
                        <a:spcPts val="700"/>
                      </a:spcBef>
                      <a:buClr>
                        <a:srgbClr val="a3ce82"/>
                      </a:buClr>
                      <a:buSzPct val="55000"/>
                      <a:buFont typeface="Wingdings" charset="2"/>
                      <a:buChar char="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3" name="AutoShape 1043"/>
                  <p:cNvSpPr/>
                  <p:nvPr/>
                </p:nvSpPr>
                <p:spPr>
                  <a:xfrm rot="2700000">
                    <a:off x="6666840" y="3086280"/>
                    <a:ext cx="457200" cy="2057400"/>
                  </a:xfrm>
                  <a:prstGeom prst="upArrow">
                    <a:avLst>
                      <a:gd name="adj1" fmla="val 50000"/>
                      <a:gd name="adj2" fmla="val 112500"/>
                    </a:avLst>
                  </a:prstGeom>
                  <a:noFill/>
                  <a:ln w="9360">
                    <a:solidFill>
                      <a:srgbClr val="8f210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spcBef>
                        <a:spcPts val="700"/>
                      </a:spcBef>
                      <a:buClr>
                        <a:srgbClr val="a3ce82"/>
                      </a:buClr>
                      <a:buSzPct val="55000"/>
                      <a:buFont typeface="Wingdings" charset="2"/>
                      <a:buChar char="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4" name="Text Box 1045"/>
                  <p:cNvSpPr/>
                  <p:nvPr/>
                </p:nvSpPr>
                <p:spPr>
                  <a:xfrm>
                    <a:off x="7209000" y="3352680"/>
                    <a:ext cx="116172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spcBef>
                        <a:spcPts val="700"/>
                      </a:spcBef>
                      <a:buClr>
                        <a:srgbClr val="a3ce82"/>
                      </a:buClr>
                      <a:buSzPct val="55000"/>
                      <a:buFont typeface="Wingdings" charset="2"/>
                      <a:buChar char="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800" spc="-1" strike="noStrike">
                        <a:solidFill>
                          <a:srgbClr val="8f210b"/>
                        </a:solidFill>
                        <a:latin typeface="Albertus Medium"/>
                      </a:rPr>
                      <a:t>Food</a:t>
                    </a:r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5" name="Text Box 1047"/>
                  <p:cNvSpPr/>
                  <p:nvPr/>
                </p:nvSpPr>
                <p:spPr>
                  <a:xfrm>
                    <a:off x="5505480" y="3276720"/>
                    <a:ext cx="3268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spcBef>
                        <a:spcPts val="4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8f210b"/>
                        </a:solidFill>
                        <a:latin typeface="Albertus Medium"/>
                      </a:rPr>
                      <a:t>A</a:t>
                    </a:r>
                    <a:endParaRPr b="0" lang="en-US" sz="1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6" name="Text Box 1048"/>
                  <p:cNvSpPr/>
                  <p:nvPr/>
                </p:nvSpPr>
                <p:spPr>
                  <a:xfrm>
                    <a:off x="6103080" y="3505320"/>
                    <a:ext cx="32544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spcBef>
                        <a:spcPts val="4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8f210b"/>
                        </a:solidFill>
                        <a:latin typeface="Albertus Medium"/>
                      </a:rPr>
                      <a:t>C</a:t>
                    </a:r>
                    <a:endParaRPr b="0" lang="en-US" sz="1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7" name="Text Box 1049"/>
                  <p:cNvSpPr/>
                  <p:nvPr/>
                </p:nvSpPr>
                <p:spPr>
                  <a:xfrm>
                    <a:off x="4572000" y="3505320"/>
                    <a:ext cx="4600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4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8f210b"/>
                        </a:solidFill>
                        <a:latin typeface="Albertus Medium"/>
                      </a:rPr>
                      <a:t>B</a:t>
                    </a:r>
                    <a:endParaRPr b="0" lang="en-US" sz="1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8" name="Text Box 1052"/>
                  <p:cNvSpPr/>
                  <p:nvPr/>
                </p:nvSpPr>
                <p:spPr>
                  <a:xfrm>
                    <a:off x="7465680" y="3048120"/>
                    <a:ext cx="3484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spcBef>
                        <a:spcPts val="4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8f210b"/>
                        </a:solidFill>
                        <a:latin typeface="Albertus Medium"/>
                      </a:rPr>
                      <a:t>D</a:t>
                    </a:r>
                    <a:endParaRPr b="0" lang="en-US" sz="1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9" name="Line 1053"/>
                  <p:cNvSpPr/>
                  <p:nvPr/>
                </p:nvSpPr>
                <p:spPr>
                  <a:xfrm flipH="1" flipV="1">
                    <a:off x="7009920" y="4114800"/>
                    <a:ext cx="685800" cy="5335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10" name="Text Box 1054"/>
                  <p:cNvSpPr/>
                  <p:nvPr/>
                </p:nvSpPr>
                <p:spPr>
                  <a:xfrm>
                    <a:off x="5140800" y="2590920"/>
                    <a:ext cx="102960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spcBef>
                        <a:spcPts val="4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8f210b"/>
                        </a:solidFill>
                        <a:latin typeface="Albertus Medium"/>
                      </a:rPr>
                      <a:t>Blocked</a:t>
                    </a:r>
                    <a:endParaRPr b="0" lang="en-US" sz="1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11" name="Line 1056"/>
                  <p:cNvSpPr/>
                  <p:nvPr/>
                </p:nvSpPr>
                <p:spPr>
                  <a:xfrm>
                    <a:off x="5410080" y="2895480"/>
                    <a:ext cx="228600" cy="838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</p:grpSp>
            <p:sp>
              <p:nvSpPr>
                <p:cNvPr id="1212" name="Text Box 1061"/>
                <p:cNvSpPr/>
                <p:nvPr/>
              </p:nvSpPr>
              <p:spPr>
                <a:xfrm>
                  <a:off x="6210720" y="5653080"/>
                  <a:ext cx="16297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spcBef>
                      <a:spcPts val="700"/>
                    </a:spcBef>
                    <a:buClr>
                      <a:srgbClr val="a3ce82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8f210b"/>
                      </a:solidFill>
                      <a:latin typeface="Albertus Medium"/>
                    </a:rPr>
                    <a:t>Phase 2</a:t>
                  </a:r>
                  <a:endParaRPr b="0" lang="en-US" sz="2800" spc="-1" strike="noStrike">
                    <a:solidFill>
                      <a:srgbClr val="8f210b"/>
                    </a:solidFill>
                    <a:latin typeface="Albertus Medium"/>
                  </a:endParaRPr>
                </a:p>
              </p:txBody>
            </p:sp>
          </p:grpSp>
        </p:grpSp>
        <p:sp>
          <p:nvSpPr>
            <p:cNvPr id="1213" name="Text Box 1065"/>
            <p:cNvSpPr/>
            <p:nvPr/>
          </p:nvSpPr>
          <p:spPr>
            <a:xfrm>
              <a:off x="4469760" y="3186000"/>
              <a:ext cx="609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f210b"/>
                  </a:solidFill>
                  <a:latin typeface="Albertus Medium"/>
                </a:rPr>
                <a:t>New</a:t>
              </a:r>
              <a:endParaRPr b="0" lang="en-US" sz="16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14" name="Text Box 1066"/>
            <p:cNvSpPr/>
            <p:nvPr/>
          </p:nvSpPr>
          <p:spPr>
            <a:xfrm>
              <a:off x="5954040" y="3200400"/>
              <a:ext cx="609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f210b"/>
                  </a:solidFill>
                  <a:latin typeface="Albertus Medium"/>
                </a:rPr>
                <a:t>New</a:t>
              </a:r>
              <a:endParaRPr b="0" lang="en-US" sz="16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th Octo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16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17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AC525-9FA1-4AB0-9562-B4349D81CDF6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Chi-Squared Goodness of Fit Test by hand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/>
          </p:nvPr>
        </p:nvSpPr>
        <p:spPr>
          <a:xfrm>
            <a:off x="1280880" y="3123720"/>
            <a:ext cx="8126280" cy="300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eceaac"/>
              </a:buClr>
              <a:buSzPct val="5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Tolman, Ritchie and Kalish (1946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eceaac"/>
              </a:buClr>
              <a:buSzPct val="5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X</a:t>
            </a:r>
            <a:r>
              <a:rPr b="0" lang="en-US" sz="1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=(4-8)</a:t>
            </a:r>
            <a:r>
              <a:rPr b="0" lang="en-US" sz="1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/8+(5-8)</a:t>
            </a:r>
            <a:r>
              <a:rPr b="0" lang="en-US" sz="1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/8+(8-8)</a:t>
            </a:r>
            <a:r>
              <a:rPr b="0" lang="en-US" sz="1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/8+(15-8)</a:t>
            </a:r>
            <a:r>
              <a:rPr b="0" lang="en-US" sz="1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/8 = 9.25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eceaac"/>
              </a:buClr>
              <a:buSzPct val="5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The 95% percentile of the </a:t>
            </a:r>
            <a:r>
              <a:rPr b="0" lang="en-US" sz="1800" spc="-1" strike="noStrike">
                <a:solidFill>
                  <a:srgbClr val="8f210b"/>
                </a:solidFill>
                <a:latin typeface="Symbol"/>
                <a:ea typeface="Symbol"/>
              </a:rPr>
              <a:t></a:t>
            </a:r>
            <a:r>
              <a:rPr b="0" lang="en-US" sz="1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(3) distribution is 7.82 (from tables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499"/>
              </a:spcBef>
              <a:spcAft>
                <a:spcPts val="499"/>
              </a:spcAft>
              <a:buClr>
                <a:srgbClr val="ee92b7"/>
              </a:buClr>
              <a:buSzPct val="55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P &lt; 0.05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499"/>
              </a:spcBef>
              <a:spcAft>
                <a:spcPts val="499"/>
              </a:spcAft>
              <a:buClr>
                <a:srgbClr val="ee92b7"/>
              </a:buClr>
              <a:buSzPct val="55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Exact P = 0.0261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499"/>
              </a:spcBef>
              <a:spcAft>
                <a:spcPts val="499"/>
              </a:spcAft>
              <a:buClr>
                <a:srgbClr val="a3dc96"/>
              </a:buClr>
              <a:buSzPct val="50000"/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f210b"/>
                </a:solidFill>
                <a:latin typeface="Albertus Medium"/>
              </a:rPr>
              <a:t>Via MATLAB: 1-chi2cdf(9.25,3)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eceaac"/>
              </a:buClr>
              <a:buSzPct val="5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We reject the Null Hypothesis that Alleys are chosen equiprobably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1220" name="Object 1030"/>
          <p:cNvGraphicFramePr/>
          <p:nvPr/>
        </p:nvGraphicFramePr>
        <p:xfrm>
          <a:off x="1733400" y="1981080"/>
          <a:ext cx="4125960" cy="2484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21" name="Object 103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33400" y="1981080"/>
                    <a:ext cx="4125960" cy="248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th Octo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23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24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C4A56-CDDD-465B-8CAD-AA0FB2C48134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Chi-Square(d) Goodness of Fit Test by SPS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26" name="PlaceHolder 2"/>
          <p:cNvSpPr>
            <a:spLocks noGrp="1"/>
          </p:cNvSpPr>
          <p:nvPr>
            <p:ph/>
          </p:nvPr>
        </p:nvSpPr>
        <p:spPr>
          <a:xfrm>
            <a:off x="1280880" y="2017800"/>
            <a:ext cx="412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Enter the dat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alley’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51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nominal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349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1,2,3,4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choices’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51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frequencie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349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4,5,8,15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27" name="Picture 1031" descr=""/>
          <p:cNvPicPr/>
          <p:nvPr/>
        </p:nvPicPr>
        <p:blipFill>
          <a:blip r:embed="rId1"/>
          <a:stretch/>
        </p:blipFill>
        <p:spPr>
          <a:xfrm>
            <a:off x="5694480" y="2133720"/>
            <a:ext cx="3187440" cy="30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th Octo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29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30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AE13E-59B7-490E-936A-1355FEA414C5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Chi-Square(d) Goodness of Fit Test by SPS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32" name="PlaceHolder 2"/>
          <p:cNvSpPr>
            <a:spLocks noGrp="1"/>
          </p:cNvSpPr>
          <p:nvPr>
            <p:ph/>
          </p:nvPr>
        </p:nvSpPr>
        <p:spPr>
          <a:xfrm>
            <a:off x="1280880" y="2017800"/>
            <a:ext cx="412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Give the alleys label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1 = ‘A’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2 = ‘B’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etc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33" name="Picture 5" descr=""/>
          <p:cNvPicPr/>
          <p:nvPr/>
        </p:nvPicPr>
        <p:blipFill>
          <a:blip r:embed="rId1"/>
          <a:stretch/>
        </p:blipFill>
        <p:spPr>
          <a:xfrm>
            <a:off x="6024600" y="2209680"/>
            <a:ext cx="2701800" cy="12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th Octo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958E6-042C-4C42-A693-CEB8144D90FB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515f7b"/>
                </a:solidFill>
                <a:latin typeface="Albertus Medium"/>
              </a:rPr>
              <a:t>The Naming of Part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ategorical Dat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requency Tabl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Chi-Squared Goodness-of-Fit Tes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Chi-squared Distribut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Binomial Tes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Chi-squared test for associat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impson, Cohen and McNemar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th Octo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35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36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9100A-8F88-420D-BBA5-C46ED9320939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Chi-Square(d) Goodness of Fit Test by SPS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1280880" y="2017800"/>
            <a:ext cx="412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Data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Weight Cases …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lect ‘choices’ as this contains the frequency dat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39" name="Picture 1030" descr=""/>
          <p:cNvPicPr/>
          <p:nvPr/>
        </p:nvPicPr>
        <p:blipFill>
          <a:blip r:embed="rId1"/>
          <a:stretch/>
        </p:blipFill>
        <p:spPr>
          <a:xfrm>
            <a:off x="5364000" y="2514600"/>
            <a:ext cx="3970440" cy="13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th Octo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41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42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35E94-FE87-43E4-90D4-CB934EDAC2A4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4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Chi-Square(d) Goodness of Fit Test by SPS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44" name="PlaceHolder 2"/>
          <p:cNvSpPr>
            <a:spLocks noGrp="1"/>
          </p:cNvSpPr>
          <p:nvPr>
            <p:ph/>
          </p:nvPr>
        </p:nvSpPr>
        <p:spPr>
          <a:xfrm>
            <a:off x="533160" y="2057400"/>
            <a:ext cx="412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nalyze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Non-parametric statistics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Chi-square ..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Enter the hypothetical probabilities …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or the expected frequenci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45" name="Picture 5" descr=""/>
          <p:cNvPicPr/>
          <p:nvPr/>
        </p:nvPicPr>
        <p:blipFill>
          <a:blip r:embed="rId1"/>
          <a:stretch/>
        </p:blipFill>
        <p:spPr>
          <a:xfrm>
            <a:off x="4951440" y="1371600"/>
            <a:ext cx="4019400" cy="2327400"/>
          </a:xfrm>
          <a:prstGeom prst="rect">
            <a:avLst/>
          </a:prstGeom>
          <a:ln w="0">
            <a:noFill/>
          </a:ln>
        </p:spPr>
      </p:pic>
      <p:pic>
        <p:nvPicPr>
          <p:cNvPr id="1246" name="Picture 6" descr=""/>
          <p:cNvPicPr/>
          <p:nvPr/>
        </p:nvPicPr>
        <p:blipFill>
          <a:blip r:embed="rId2"/>
          <a:stretch/>
        </p:blipFill>
        <p:spPr>
          <a:xfrm>
            <a:off x="4648320" y="3429000"/>
            <a:ext cx="5013360" cy="29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Date Placeholder 2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th Octo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48" name="Footer Placeholder 3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49" name="Slide Number Placeholder 4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58F2E-0B71-4D21-BD27-BA43F09DAB30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Output from Chi-Square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51" name="Rectangle 4"/>
          <p:cNvSpPr/>
          <p:nvPr/>
        </p:nvSpPr>
        <p:spPr>
          <a:xfrm>
            <a:off x="2313360" y="1981080"/>
            <a:ext cx="251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i-Square Tes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52" name="Picture 5" descr=""/>
          <p:cNvPicPr/>
          <p:nvPr/>
        </p:nvPicPr>
        <p:blipFill>
          <a:blip r:embed="rId1"/>
          <a:stretch/>
        </p:blipFill>
        <p:spPr>
          <a:xfrm>
            <a:off x="2394000" y="2590920"/>
            <a:ext cx="3870360" cy="1636560"/>
          </a:xfrm>
          <a:prstGeom prst="rect">
            <a:avLst/>
          </a:prstGeom>
          <a:ln w="0">
            <a:noFill/>
          </a:ln>
        </p:spPr>
      </p:pic>
      <p:pic>
        <p:nvPicPr>
          <p:cNvPr id="1253" name="Picture 6" descr=""/>
          <p:cNvPicPr/>
          <p:nvPr/>
        </p:nvPicPr>
        <p:blipFill>
          <a:blip r:embed="rId2"/>
          <a:stretch/>
        </p:blipFill>
        <p:spPr>
          <a:xfrm>
            <a:off x="2394000" y="4419720"/>
            <a:ext cx="3662280" cy="146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th Octo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55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56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94020-5B4F-4A4E-8561-5E05F158E013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Chi-Squared (</a:t>
            </a:r>
            <a:r>
              <a:rPr b="0" lang="en-US" sz="4400" spc="-1" strike="noStrike">
                <a:solidFill>
                  <a:srgbClr val="515f7b"/>
                </a:solidFill>
                <a:latin typeface="Symbol"/>
                <a:ea typeface="Symbol"/>
              </a:rPr>
              <a:t></a:t>
            </a:r>
            <a:r>
              <a:rPr b="0" lang="en-US" sz="4000" spc="-1" strike="noStrike" baseline="38000">
                <a:solidFill>
                  <a:srgbClr val="515f7b"/>
                </a:solidFill>
                <a:latin typeface="Albertus Medium"/>
              </a:rPr>
              <a:t>2</a:t>
            </a: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) Distribution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258" name="Picture 7" descr="chisquared"/>
          <p:cNvPicPr/>
          <p:nvPr/>
        </p:nvPicPr>
        <p:blipFill>
          <a:blip r:embed="rId1"/>
          <a:stretch/>
        </p:blipFill>
        <p:spPr>
          <a:xfrm>
            <a:off x="4703760" y="2057400"/>
            <a:ext cx="5010120" cy="3429000"/>
          </a:xfrm>
          <a:prstGeom prst="rect">
            <a:avLst/>
          </a:prstGeom>
          <a:ln w="0">
            <a:noFill/>
          </a:ln>
        </p:spPr>
      </p:pic>
      <p:sp>
        <p:nvSpPr>
          <p:cNvPr id="1259" name="PlaceHolder 2"/>
          <p:cNvSpPr>
            <a:spLocks noGrp="1"/>
          </p:cNvSpPr>
          <p:nvPr>
            <p:ph/>
          </p:nvPr>
        </p:nvSpPr>
        <p:spPr>
          <a:xfrm>
            <a:off x="412920" y="1981080"/>
            <a:ext cx="4125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hape determined by ‘degrees of freedom’ (df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J-shaped for df = 1 or 2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Unimodal for df &gt; 2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Mode = df - 2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Mean = df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th Octo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61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62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326F6-3C69-4AB9-B389-78F73EEE36FF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hance performance and the Binomial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6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n a multiple choice tes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2-alternative forced choice (2AFC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p(correct) = p(error) = 0.5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4AFC …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p(correct) = 0.25, p(error) = 0.75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Was the subject just guessing when she got 14/20 in a 2AFC test?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th Octo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66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67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50ED3-4398-4999-820A-5840E8C9DE20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6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Binomial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69" name="PlaceHolder 2"/>
          <p:cNvSpPr>
            <a:spLocks noGrp="1"/>
          </p:cNvSpPr>
          <p:nvPr>
            <p:ph/>
          </p:nvPr>
        </p:nvSpPr>
        <p:spPr>
          <a:xfrm>
            <a:off x="412920" y="2133720"/>
            <a:ext cx="4125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nalyze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Non-Parametric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Binomial Test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70" name="Picture 5" descr=""/>
          <p:cNvPicPr/>
          <p:nvPr/>
        </p:nvPicPr>
        <p:blipFill>
          <a:blip r:embed="rId1"/>
          <a:stretch/>
        </p:blipFill>
        <p:spPr>
          <a:xfrm>
            <a:off x="4869000" y="2590920"/>
            <a:ext cx="4394160" cy="24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Date Placeholder 2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th Octo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72" name="Footer Placeholder 3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73" name="Slide Number Placeholder 4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A74AC-8E92-4FC0-851F-9CA659285901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7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Output of Binomial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275" name="Picture 3" descr=""/>
          <p:cNvPicPr/>
          <p:nvPr/>
        </p:nvPicPr>
        <p:blipFill>
          <a:blip r:embed="rId1"/>
          <a:stretch/>
        </p:blipFill>
        <p:spPr>
          <a:xfrm>
            <a:off x="2228760" y="2133720"/>
            <a:ext cx="6297840" cy="1261800"/>
          </a:xfrm>
          <a:prstGeom prst="rect">
            <a:avLst/>
          </a:prstGeom>
          <a:ln w="0">
            <a:noFill/>
          </a:ln>
        </p:spPr>
      </p:pic>
      <p:sp>
        <p:nvSpPr>
          <p:cNvPr id="1276" name="Text Box 4"/>
          <p:cNvSpPr/>
          <p:nvPr/>
        </p:nvSpPr>
        <p:spPr>
          <a:xfrm>
            <a:off x="1303200" y="3952800"/>
            <a:ext cx="7691400" cy="233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 data (14/20) are consistent with chance performanc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onfidence interval approach can be a more informative alternativ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45720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Date Placeholder 2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th Octo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78" name="Footer Placeholder 3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79" name="Slide Number Placeholder 4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2890D-53D3-4120-A6F2-AE8E3196E7FD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onfidence Intervals for Binomial Proportion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81" name="Text Box 4"/>
          <p:cNvSpPr/>
          <p:nvPr/>
        </p:nvSpPr>
        <p:spPr>
          <a:xfrm>
            <a:off x="907920" y="2438280"/>
            <a:ext cx="7691400" cy="37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X=14, N=20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95% CI (WALD)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(0.499,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0.901)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	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95% CI (WILSON)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(0.481,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0.855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Consistent with the P values, the Confidence Interval only </a:t>
            </a:r>
            <a:r>
              <a:rPr b="1" i="1" lang="en-US" sz="2000" spc="-1" strike="noStrike">
                <a:solidFill>
                  <a:srgbClr val="000000"/>
                </a:solidFill>
                <a:latin typeface="Albertus Medium"/>
              </a:rPr>
              <a:t>just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 includes 0.5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lbertus Medium"/>
              </a:rPr>
              <a:t>(Calculated using a spreadsheet available on the CBU statistics website at </a:t>
            </a:r>
            <a:r>
              <a:rPr b="1" lang="en-US" sz="1600" spc="-1" strike="noStrike" u="sng">
                <a:solidFill>
                  <a:srgbClr val="a3ce82"/>
                </a:solidFill>
                <a:uFillTx/>
                <a:latin typeface="Times New Roman"/>
                <a:hlinkClick r:id="rId1"/>
              </a:rPr>
              <a:t>http://imaging.mrc-cbu.cam.ac.uk/statswiki/FAQ/BinomialConfidence</a:t>
            </a:r>
            <a:r>
              <a:rPr b="1" lang="en-US" sz="1600" spc="-1" strike="noStrike">
                <a:solidFill>
                  <a:srgbClr val="000000"/>
                </a:solidFill>
                <a:latin typeface="Albertus Medium"/>
              </a:rPr>
              <a:t>. which also features a similar solution to the difference in two (in)dependent proportions)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th Octo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83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84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2BB87-4D64-430D-B9E1-A632BB81179C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Noah’s Ark, </a:t>
            </a:r>
            <a:r>
              <a:rPr b="0" lang="en-US" sz="2000" spc="-1" strike="noStrike">
                <a:solidFill>
                  <a:srgbClr val="515f7b"/>
                </a:solidFill>
                <a:latin typeface="Albertus Medium"/>
              </a:rPr>
              <a:t>or The World of Two by Two</a:t>
            </a:r>
            <a:endParaRPr b="0" lang="en-US" sz="20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Pearson’s Chi-squared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35480" indent="-28296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Yates’ Continuity Correct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39480" indent="-3394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sher’s Exact Tes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39480" indent="-3394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Odds and Odds Ratio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35480" indent="-28296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log odds and log odds ratio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39480" indent="-3394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nsitivity and Specificity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35480" indent="-28296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Gerd Gigerenzer (2002). </a:t>
            </a:r>
            <a:r>
              <a:rPr b="0" i="1" lang="en-US" sz="2400" spc="-1" strike="noStrike">
                <a:solidFill>
                  <a:srgbClr val="8f210b"/>
                </a:solidFill>
                <a:latin typeface="Albertus Medium"/>
              </a:rPr>
              <a:t>Reckoning with Risk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, Penguin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35480" indent="-28296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ignal Detection Theor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87" name="Picture 6" descr=""/>
          <p:cNvPicPr/>
          <p:nvPr/>
        </p:nvPicPr>
        <p:blipFill>
          <a:blip r:embed="rId1"/>
          <a:stretch/>
        </p:blipFill>
        <p:spPr>
          <a:xfrm>
            <a:off x="7467480" y="2743200"/>
            <a:ext cx="1197000" cy="184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Date Placeholder 2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th Octo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89" name="Footer Placeholder 3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90" name="Slide Number Placeholder 4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3D7D1-B4CC-4284-A557-F58325404F85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Signal Detection Theory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292" name="Picture 3" descr=""/>
          <p:cNvPicPr/>
          <p:nvPr/>
        </p:nvPicPr>
        <p:blipFill>
          <a:blip r:embed="rId1"/>
          <a:stretch/>
        </p:blipFill>
        <p:spPr>
          <a:xfrm>
            <a:off x="4648320" y="1905120"/>
            <a:ext cx="3921120" cy="2654280"/>
          </a:xfrm>
          <a:prstGeom prst="rect">
            <a:avLst/>
          </a:prstGeom>
          <a:ln w="0">
            <a:noFill/>
          </a:ln>
        </p:spPr>
      </p:pic>
      <p:sp>
        <p:nvSpPr>
          <p:cNvPr id="1293" name="Text Box 4"/>
          <p:cNvSpPr/>
          <p:nvPr/>
        </p:nvSpPr>
        <p:spPr>
          <a:xfrm>
            <a:off x="457200" y="2590920"/>
            <a:ext cx="3200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8f210b"/>
                </a:solidFill>
                <a:latin typeface="Verdana"/>
              </a:rPr>
              <a:t>Example 2a from Macmillan &amp; Creelman, 1991, p.31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94" name="Picture 5" descr=""/>
          <p:cNvPicPr/>
          <p:nvPr/>
        </p:nvPicPr>
        <p:blipFill>
          <a:blip r:embed="rId2"/>
          <a:stretch/>
        </p:blipFill>
        <p:spPr>
          <a:xfrm>
            <a:off x="1905120" y="4724280"/>
            <a:ext cx="3665520" cy="136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th Octo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4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5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E03F4-D8C5-4694-B444-38362A38C66A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SPSS procedures that help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f210b"/>
                </a:solidFill>
                <a:latin typeface="Albertus Medium"/>
              </a:rPr>
              <a:t>FREQUENCI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or information about one classification at a tim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f210b"/>
                </a:solidFill>
                <a:latin typeface="Albertus Medium"/>
              </a:rPr>
              <a:t>CROSSTAB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or combined information about more than one classification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f210b"/>
                </a:solidFill>
                <a:latin typeface="Albertus Medium"/>
              </a:rPr>
              <a:t>CHI-SQUAR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or comparing observed frequencies with hypothetical ones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f210b"/>
                </a:solidFill>
                <a:latin typeface="Albertus Medium"/>
              </a:rPr>
              <a:t>BINOMIA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or testing whether performance differs from ‘chance’ </a:t>
            </a:r>
            <a:r>
              <a:rPr b="0" i="1" lang="en-US" sz="1400" spc="-1" strike="noStrike">
                <a:solidFill>
                  <a:srgbClr val="8f210b"/>
                </a:solidFill>
                <a:latin typeface="Albertus Medium"/>
              </a:rPr>
              <a:t>(whatever that is)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th Octo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96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97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CE111-A925-42AC-9A57-8307B39B7CB4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515f7b"/>
                </a:solidFill>
                <a:latin typeface="Albertus Medium"/>
              </a:rPr>
              <a:t>Sensitivity and Specificity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9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esting for the presence of a Disease in a person from a populat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nsitivity: Probability that a Positive result means when the Disease is present - P(+|D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pecificity: Probability that a person who tests Positive has the Disease – P(D|+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Influenced by the Prevalence of the Disease in the population: P(D)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f210b"/>
                </a:solidFill>
                <a:latin typeface="Albertus Medium"/>
              </a:rPr>
              <a:t>See Martin Bland: An Introduction to Medical Statistic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f210b"/>
                </a:solidFill>
                <a:latin typeface="Albertus Medium"/>
              </a:rPr>
              <a:t>http://imaging.mrc-cbu.cam.ac.uk/statswiki/FAQ/Bay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th Octo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01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02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2C733-80B7-4D7F-A0E8-496DE352B11A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0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Simpson’s Paradox: example (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0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Hospital I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1305" name="Object 0"/>
          <p:cNvGraphicFramePr/>
          <p:nvPr/>
        </p:nvGraphicFramePr>
        <p:xfrm>
          <a:off x="3135240" y="2895480"/>
          <a:ext cx="4656240" cy="2630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06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35240" y="2895480"/>
                    <a:ext cx="4656240" cy="263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7" name="Text Box 5"/>
          <p:cNvSpPr/>
          <p:nvPr/>
        </p:nvSpPr>
        <p:spPr>
          <a:xfrm>
            <a:off x="1403280" y="5105520"/>
            <a:ext cx="815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The New treatment is positively associated with recovery (Recovery rate 10.6% vs 4.8%)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th Octo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0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1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1BC81-EFEA-47CB-AE33-2728275EE5EC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Simpson’s Paradox: example (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1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Hospital II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1313" name="Object 4"/>
          <p:cNvGraphicFramePr/>
          <p:nvPr/>
        </p:nvGraphicFramePr>
        <p:xfrm>
          <a:off x="3500280" y="2898720"/>
          <a:ext cx="4884840" cy="2629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1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0280" y="2898720"/>
                    <a:ext cx="4884840" cy="262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5" name="Text Box 5"/>
          <p:cNvSpPr/>
          <p:nvPr/>
        </p:nvSpPr>
        <p:spPr>
          <a:xfrm>
            <a:off x="1403280" y="5181480"/>
            <a:ext cx="815508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Again, the New treatment is positively associated with recovery (Recovery rate 98.8% vs 67.2%)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th Octo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17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18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FEF2E-ACA3-47D0-8A8F-BB1A2DF5C94E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Simpson’s Paradox: example (I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ombined data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1321" name="Object 4"/>
          <p:cNvGraphicFramePr/>
          <p:nvPr/>
        </p:nvGraphicFramePr>
        <p:xfrm>
          <a:off x="4381560" y="2819520"/>
          <a:ext cx="4113000" cy="3116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2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81560" y="2819520"/>
                    <a:ext cx="4113000" cy="31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3" name="Text Box 5"/>
          <p:cNvSpPr/>
          <p:nvPr/>
        </p:nvSpPr>
        <p:spPr>
          <a:xfrm>
            <a:off x="1403280" y="5181480"/>
            <a:ext cx="815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When combined, the New treatment is negatively associated with recovery (Recovery rate 35.8% vs 57.9%)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th Octo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25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26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CA494-1035-423F-B08F-7BF3DE9EF8B5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2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515f7b"/>
                </a:solidFill>
                <a:latin typeface="Albertus Medium"/>
              </a:rPr>
              <a:t>Simpson’s Paradox explained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1328" name="Object 5"/>
          <p:cNvGraphicFramePr/>
          <p:nvPr/>
        </p:nvGraphicFramePr>
        <p:xfrm>
          <a:off x="343080" y="2133720"/>
          <a:ext cx="5016240" cy="3816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2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3080" y="2133720"/>
                    <a:ext cx="5016240" cy="381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0" name="Text Box 7"/>
          <p:cNvSpPr/>
          <p:nvPr/>
        </p:nvSpPr>
        <p:spPr>
          <a:xfrm>
            <a:off x="5599080" y="2637000"/>
            <a:ext cx="3960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 end points of the in-between line are differently weighted averages of the end points of the upper and lower lin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th Octo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32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33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E0AC3-41AC-4069-9083-5A977744C335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Measuring agreemen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Kappa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Two judges rate items on the same categorical sca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How well do they agree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Use Crosstabs with two classifying variable having the same categori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lect Kappa under the Statistics options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a3ce82"/>
                </a:solidFill>
                <a:uFillTx/>
                <a:latin typeface="Albertus Medium"/>
                <a:hlinkClick r:id="rId1"/>
              </a:rPr>
              <a:t>http://imaging.mrc-cbu.cam.ac.uk/statswiki/FAQ/kapp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cc"/>
                </a:solidFill>
                <a:latin typeface="Albertus Medium"/>
              </a:rPr>
              <a:t>Alternative kappa (Brennan and Prediger, 1981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th Octo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37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38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34969-F038-41E9-B4DB-759C03F849CF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3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Agreement 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40" name="PlaceHolder 2"/>
          <p:cNvSpPr>
            <a:spLocks noGrp="1"/>
          </p:cNvSpPr>
          <p:nvPr>
            <p:ph/>
          </p:nvPr>
        </p:nvSpPr>
        <p:spPr>
          <a:xfrm>
            <a:off x="1568520" y="4038480"/>
            <a:ext cx="73008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% Agreement is 21/30 = 70% but could be high due to chance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341" name="Picture 5" descr=""/>
          <p:cNvPicPr/>
          <p:nvPr/>
        </p:nvPicPr>
        <p:blipFill>
          <a:blip r:embed="rId1"/>
          <a:stretch/>
        </p:blipFill>
        <p:spPr>
          <a:xfrm>
            <a:off x="3135240" y="2057400"/>
            <a:ext cx="4127400" cy="1490760"/>
          </a:xfrm>
          <a:prstGeom prst="rect">
            <a:avLst/>
          </a:prstGeom>
          <a:ln w="0">
            <a:noFill/>
          </a:ln>
        </p:spPr>
      </p:pic>
      <p:sp>
        <p:nvSpPr>
          <p:cNvPr id="1342" name="Oval 6"/>
          <p:cNvSpPr/>
          <p:nvPr/>
        </p:nvSpPr>
        <p:spPr>
          <a:xfrm>
            <a:off x="8915400" y="121932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3" name="Oval 7"/>
          <p:cNvSpPr/>
          <p:nvPr/>
        </p:nvSpPr>
        <p:spPr>
          <a:xfrm>
            <a:off x="5045040" y="2843280"/>
            <a:ext cx="152280" cy="15228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4" name="Oval 8"/>
          <p:cNvSpPr/>
          <p:nvPr/>
        </p:nvSpPr>
        <p:spPr>
          <a:xfrm>
            <a:off x="5646600" y="2987640"/>
            <a:ext cx="152640" cy="15228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5" name="Oval 9"/>
          <p:cNvSpPr/>
          <p:nvPr/>
        </p:nvSpPr>
        <p:spPr>
          <a:xfrm>
            <a:off x="6248520" y="3124080"/>
            <a:ext cx="152280" cy="15264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th Octo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7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8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26180-399F-4D99-981E-4546F3E2FB01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hance-corrected agreement 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350" name="Picture 6" descr=""/>
          <p:cNvPicPr/>
          <p:nvPr/>
        </p:nvPicPr>
        <p:blipFill>
          <a:blip r:embed="rId1"/>
          <a:stretch/>
        </p:blipFill>
        <p:spPr>
          <a:xfrm>
            <a:off x="1981080" y="2819520"/>
            <a:ext cx="5305680" cy="1360440"/>
          </a:xfrm>
          <a:prstGeom prst="rect">
            <a:avLst/>
          </a:prstGeom>
          <a:ln w="0">
            <a:noFill/>
          </a:ln>
        </p:spPr>
      </p:pic>
      <p:sp>
        <p:nvSpPr>
          <p:cNvPr id="1351" name="Text Box 7"/>
          <p:cNvSpPr/>
          <p:nvPr/>
        </p:nvSpPr>
        <p:spPr>
          <a:xfrm>
            <a:off x="495360" y="4876920"/>
            <a:ext cx="8186760" cy="10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Cohen’s Kappa (</a:t>
            </a:r>
            <a:r>
              <a:rPr b="0" lang="en-US" sz="2000" spc="-1" strike="noStrike">
                <a:solidFill>
                  <a:srgbClr val="8f210b"/>
                </a:solidFill>
                <a:latin typeface="Symbol"/>
                <a:ea typeface="Symbol"/>
              </a:rPr>
              <a:t>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 = 0.473) is chance-corrected: 47.3%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Agreement between the judges is well above chance, but is it good enough?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th Octo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53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54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236AF-48D0-468B-996A-4F6246FE77C2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5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Measuring chang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56" name="PlaceHolder 2"/>
          <p:cNvSpPr>
            <a:spLocks noGrp="1"/>
          </p:cNvSpPr>
          <p:nvPr>
            <p:ph/>
          </p:nvPr>
        </p:nvSpPr>
        <p:spPr>
          <a:xfrm>
            <a:off x="1320840" y="1980720"/>
            <a:ext cx="8416800" cy="14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 patient with acquired dyslexia does a 40 item picture naming task twice at a 6 month interva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57" name="Rectangle 5"/>
          <p:cNvSpPr/>
          <p:nvPr/>
        </p:nvSpPr>
        <p:spPr>
          <a:xfrm>
            <a:off x="1403280" y="4836960"/>
            <a:ext cx="8417160" cy="14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ccuracy falls from 19/40 to 11/40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29040" indent="-32904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s this a real deterioration, noting that 28/40 items show no change across the two tests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29040" indent="-32904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358" name="Picture 6" descr=""/>
          <p:cNvPicPr/>
          <p:nvPr/>
        </p:nvPicPr>
        <p:blipFill>
          <a:blip r:embed="rId1"/>
          <a:stretch/>
        </p:blipFill>
        <p:spPr>
          <a:xfrm>
            <a:off x="3382920" y="3352680"/>
            <a:ext cx="3565440" cy="1463760"/>
          </a:xfrm>
          <a:prstGeom prst="rect">
            <a:avLst/>
          </a:prstGeom>
          <a:ln w="0">
            <a:noFill/>
          </a:ln>
        </p:spPr>
      </p:pic>
      <p:sp>
        <p:nvSpPr>
          <p:cNvPr id="1359" name="Oval 7"/>
          <p:cNvSpPr/>
          <p:nvPr/>
        </p:nvSpPr>
        <p:spPr>
          <a:xfrm>
            <a:off x="5073480" y="4175280"/>
            <a:ext cx="152640" cy="15228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60" name="Oval 8"/>
          <p:cNvSpPr/>
          <p:nvPr/>
        </p:nvSpPr>
        <p:spPr>
          <a:xfrm>
            <a:off x="5765760" y="4335480"/>
            <a:ext cx="152280" cy="15228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th Octo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62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63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E5646-FE3A-426C-AE9E-E5E7246E325B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6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McNemar’s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65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4825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This is specifically designed for this type of hypothesi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22200" indent="-32220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Equivalent to a Binomial Test (with p=0.5) of Freq(Correct</a:t>
            </a:r>
            <a:r>
              <a:rPr b="0" lang="en-US" sz="18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Error) vs. Freq(Error</a:t>
            </a:r>
            <a:r>
              <a:rPr b="0" lang="en-US" sz="18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Correct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22200" indent="-32220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In this case 10 vs. 2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366" name="Picture 4" descr=""/>
          <p:cNvPicPr/>
          <p:nvPr/>
        </p:nvPicPr>
        <p:blipFill>
          <a:blip r:embed="rId1"/>
          <a:stretch/>
        </p:blipFill>
        <p:spPr>
          <a:xfrm>
            <a:off x="5410080" y="1905120"/>
            <a:ext cx="3951360" cy="2838240"/>
          </a:xfrm>
          <a:prstGeom prst="rect">
            <a:avLst/>
          </a:prstGeom>
          <a:ln w="0">
            <a:noFill/>
          </a:ln>
        </p:spPr>
      </p:pic>
      <p:pic>
        <p:nvPicPr>
          <p:cNvPr id="1367" name="Picture 5" descr=""/>
          <p:cNvPicPr/>
          <p:nvPr/>
        </p:nvPicPr>
        <p:blipFill>
          <a:blip r:embed="rId2"/>
          <a:stretch/>
        </p:blipFill>
        <p:spPr>
          <a:xfrm>
            <a:off x="1066680" y="4191120"/>
            <a:ext cx="3565800" cy="1463400"/>
          </a:xfrm>
          <a:prstGeom prst="rect">
            <a:avLst/>
          </a:prstGeom>
          <a:ln w="0">
            <a:noFill/>
          </a:ln>
        </p:spPr>
      </p:pic>
      <p:sp>
        <p:nvSpPr>
          <p:cNvPr id="1368" name="Oval 7"/>
          <p:cNvSpPr/>
          <p:nvPr/>
        </p:nvSpPr>
        <p:spPr>
          <a:xfrm>
            <a:off x="3405240" y="4968720"/>
            <a:ext cx="228600" cy="2286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69" name="Oval 8"/>
          <p:cNvSpPr/>
          <p:nvPr/>
        </p:nvSpPr>
        <p:spPr>
          <a:xfrm>
            <a:off x="2717640" y="5132520"/>
            <a:ext cx="228600" cy="2286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th Octo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71D91-B1A0-415E-B139-17274E0C461D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ypes of Data: Quantitativ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Numerical measurements or count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Continuous measuremen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Reaction time, BOLD signal, EEG signal, …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Discrete measuremen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Whole numbers, like numbers of errors, marks in an exam …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th Octo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71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72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80214-E2F6-463F-80D4-88923C3AA52B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7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McNemar’s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74" name="PlaceHolder 2"/>
          <p:cNvSpPr>
            <a:spLocks noGrp="1"/>
          </p:cNvSpPr>
          <p:nvPr>
            <p:ph/>
          </p:nvPr>
        </p:nvSpPr>
        <p:spPr>
          <a:xfrm>
            <a:off x="412560" y="1981080"/>
            <a:ext cx="4825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n this case we can assert that there is evidence of deteriora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375" name="Picture 6" descr=""/>
          <p:cNvPicPr/>
          <p:nvPr/>
        </p:nvPicPr>
        <p:blipFill>
          <a:blip r:embed="rId1"/>
          <a:stretch/>
        </p:blipFill>
        <p:spPr>
          <a:xfrm>
            <a:off x="5281560" y="2057400"/>
            <a:ext cx="4446720" cy="1289160"/>
          </a:xfrm>
          <a:prstGeom prst="rect">
            <a:avLst/>
          </a:prstGeom>
          <a:ln w="0">
            <a:noFill/>
          </a:ln>
        </p:spPr>
      </p:pic>
      <p:sp>
        <p:nvSpPr>
          <p:cNvPr id="1376" name="Rectangle 7"/>
          <p:cNvSpPr/>
          <p:nvPr/>
        </p:nvSpPr>
        <p:spPr>
          <a:xfrm>
            <a:off x="271440" y="4076640"/>
            <a:ext cx="8612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an obtain confidence intervals for the difference in proportions: http://imaging.mrc-cbu.cam.ac.uk/statswiki/FAQ/BinomialConfidence/2gpp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th Octo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78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79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B7B69-8466-4245-AF14-6F46F1AC3DEE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8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Association or Independenc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8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hi-squared test of associa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omparing two or more classified sampl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esting whether the frequencies for one classification depend on the category of another classifica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Only to be used when the numbers in the cells are frequencies, never with proportions, percentages or measurement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th Octo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83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84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D18F5-405F-4402-B40F-924C9C900AEB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8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Association or Independenc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86" name="PlaceHolder 2"/>
          <p:cNvSpPr>
            <a:spLocks noGrp="1"/>
          </p:cNvSpPr>
          <p:nvPr>
            <p:ph/>
          </p:nvPr>
        </p:nvSpPr>
        <p:spPr>
          <a:xfrm>
            <a:off x="412920" y="2209680"/>
            <a:ext cx="4125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s Side of Lesion associated with Sex of Patient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lect Frequencies and then ‘Chi-square’ and ‘Phi’ under Statistics, and  ‘Exact’ under Exact…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387" name="Picture 5" descr=""/>
          <p:cNvPicPr/>
          <p:nvPr/>
        </p:nvPicPr>
        <p:blipFill>
          <a:blip r:embed="rId1"/>
          <a:stretch/>
        </p:blipFill>
        <p:spPr>
          <a:xfrm>
            <a:off x="4869000" y="2286000"/>
            <a:ext cx="4951440" cy="14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8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th Octo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89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90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D9300-B8E1-4ED1-8BDA-8C987E7C392C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Output ...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92" name="PlaceHolder 2"/>
          <p:cNvSpPr>
            <a:spLocks noGrp="1"/>
          </p:cNvSpPr>
          <p:nvPr>
            <p:ph/>
          </p:nvPr>
        </p:nvSpPr>
        <p:spPr>
          <a:xfrm>
            <a:off x="329760" y="3962160"/>
            <a:ext cx="412596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No evidence of any above-chance association between Sex and Side of Les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393" name="Picture 5" descr=""/>
          <p:cNvPicPr/>
          <p:nvPr/>
        </p:nvPicPr>
        <p:blipFill>
          <a:blip r:embed="rId1"/>
          <a:stretch/>
        </p:blipFill>
        <p:spPr>
          <a:xfrm>
            <a:off x="3630600" y="1905120"/>
            <a:ext cx="6083280" cy="2157120"/>
          </a:xfrm>
          <a:prstGeom prst="rect">
            <a:avLst/>
          </a:prstGeom>
          <a:ln w="0">
            <a:noFill/>
          </a:ln>
        </p:spPr>
      </p:pic>
      <p:pic>
        <p:nvPicPr>
          <p:cNvPr id="1394" name="Picture 6" descr=""/>
          <p:cNvPicPr/>
          <p:nvPr/>
        </p:nvPicPr>
        <p:blipFill>
          <a:blip r:embed="rId2"/>
          <a:stretch/>
        </p:blipFill>
        <p:spPr>
          <a:xfrm>
            <a:off x="4621320" y="4114800"/>
            <a:ext cx="4811760" cy="1646280"/>
          </a:xfrm>
          <a:prstGeom prst="rect">
            <a:avLst/>
          </a:prstGeom>
          <a:ln w="0">
            <a:noFill/>
          </a:ln>
        </p:spPr>
      </p:pic>
      <p:sp>
        <p:nvSpPr>
          <p:cNvPr id="1395" name="Rectangle 7"/>
          <p:cNvSpPr/>
          <p:nvPr/>
        </p:nvSpPr>
        <p:spPr>
          <a:xfrm>
            <a:off x="382680" y="5734080"/>
            <a:ext cx="900756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an derive confidence intervals for difference in proportion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http://imaging.mrc-cbu.cam.ac.uk/statswiki/FAQ/BinomialConfidence/2gp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th Octo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97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98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656EF-FE32-4ED8-8F4E-7987B13C80BA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Larger table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wo way tables can be analysed the same way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ree- (or more)  way classifications need a more analytical approach such as Log Linear Modelling, available with the Loglinear procedure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th Octo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02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03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4F687-4845-4370-A4EB-AFE66E4957A0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0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A 3 x 3 Exampl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405" name="Picture 5" descr=""/>
          <p:cNvPicPr/>
          <p:nvPr/>
        </p:nvPicPr>
        <p:blipFill>
          <a:blip r:embed="rId1"/>
          <a:stretch/>
        </p:blipFill>
        <p:spPr>
          <a:xfrm>
            <a:off x="247680" y="1981080"/>
            <a:ext cx="5010120" cy="1636920"/>
          </a:xfrm>
          <a:prstGeom prst="rect">
            <a:avLst/>
          </a:prstGeom>
          <a:ln w="0">
            <a:noFill/>
          </a:ln>
        </p:spPr>
      </p:pic>
      <p:pic>
        <p:nvPicPr>
          <p:cNvPr id="1406" name="Picture 6" descr=""/>
          <p:cNvPicPr/>
          <p:nvPr/>
        </p:nvPicPr>
        <p:blipFill>
          <a:blip r:embed="rId2"/>
          <a:stretch/>
        </p:blipFill>
        <p:spPr>
          <a:xfrm>
            <a:off x="5199120" y="2057400"/>
            <a:ext cx="3960720" cy="1920960"/>
          </a:xfrm>
          <a:prstGeom prst="rect">
            <a:avLst/>
          </a:prstGeom>
          <a:ln w="0">
            <a:noFill/>
          </a:ln>
        </p:spPr>
      </p:pic>
      <p:pic>
        <p:nvPicPr>
          <p:cNvPr id="1407" name="Picture 7" descr=""/>
          <p:cNvPicPr/>
          <p:nvPr/>
        </p:nvPicPr>
        <p:blipFill>
          <a:blip r:embed="rId3"/>
          <a:stretch/>
        </p:blipFill>
        <p:spPr>
          <a:xfrm>
            <a:off x="2146320" y="4267080"/>
            <a:ext cx="4653000" cy="15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th Octo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0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1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7D480-C6D0-44F1-8805-57FF0331B1AB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1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autions (I)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1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Pooling of data can mislead, or even violate the assumptions of the tests (cf </a:t>
            </a:r>
            <a:r>
              <a:rPr b="0" i="1" lang="en-US" sz="2800" spc="-1" strike="noStrike">
                <a:solidFill>
                  <a:srgbClr val="8f210b"/>
                </a:solidFill>
                <a:latin typeface="Albertus Medium"/>
              </a:rPr>
              <a:t>Simpson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05280" indent="-3052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Each individual observation is supposed to be independent of the other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05280" indent="-3052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o pooling multiple observations across a group of subjects will typically violate this rul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05280" indent="-3052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s needs to be handled using either summary measures (e.g. Log Odds), Generalised Linear Mixed Models or Matched Pairs: 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http://imaging.mrc-cbu.cam.ac.uk/statswiki/FAQ/MatchedPair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th Octo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14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15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BA88B-FAAE-41EF-AC79-06C67C53D4B0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1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autions (II)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1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t is conventional to be cautious if there are low  Expected values in any cell (e.g. E&lt;5).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Recent research suggest this is overcautious, though use of Fisher’s Exact Test is recommended in the general case. Campbell (2007) however suggests (N-1/N) x chi-square for 2x2 tables with Expected Values &gt; 1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lternatively one can amalgamate across two or more categorie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th Octo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1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2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22871-B9EE-4EA4-8D25-7CF901FD4B60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2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Next week at 11am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2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NOVA of balanced multi-factorial designs: between subject designs, and single subject studies 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                                                                                             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th Octo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EBD95-A082-4105-B5A1-8C785E0C28F1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ypes of Data: Qualitativ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Nomina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Ordinal data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th Octo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D97FF-4EF3-48FD-B989-A6468D31517C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Nominal 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 categories are descriptive label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Outcome: {</a:t>
            </a:r>
            <a:r>
              <a:rPr b="0" i="1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Error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0" i="1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Correct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}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x: {</a:t>
            </a:r>
            <a:r>
              <a:rPr b="0" i="1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Female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0" i="1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Male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}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..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th Octo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4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5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DE6F4-E9C3-49BA-A345-9F8DB7D00ABD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5f7b"/>
                </a:solidFill>
                <a:latin typeface="Albertus Medium"/>
              </a:rPr>
              <a:t>From ICD-10: Chapter V: Mental and behavioural disorders</a:t>
            </a:r>
            <a:br>
              <a:rPr sz="2000"/>
            </a:br>
            <a:r>
              <a:rPr b="0" lang="en-US" sz="1400" spc="-1" strike="noStrike">
                <a:solidFill>
                  <a:srgbClr val="515f7b"/>
                </a:solidFill>
                <a:latin typeface="Albertus Medium"/>
              </a:rPr>
              <a:t>(International Statistical Classification of Diseases and Related Health Problems)</a:t>
            </a:r>
            <a:endParaRPr b="0" lang="en-US" sz="1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34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00-F99 - Mental and behavioural disorders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0-F09) Organic, including symptomatic, mental disorders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0.) Dementia in Alzheimer's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1.) Vascular dementia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40040" indent="-207720">
              <a:spcBef>
                <a:spcPts val="34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1.1) Multi-infarct dementia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2.) Dementia in other diseases classified elsewher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40040" indent="-207720">
              <a:spcBef>
                <a:spcPts val="34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2.0) Dementia in Pick's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40040" indent="-207720">
              <a:spcBef>
                <a:spcPts val="34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2.1) Dementia in Creutzfeldt-Jakob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40040" indent="-207720">
              <a:spcBef>
                <a:spcPts val="34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2.2) Dementia in Huntington's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40040" indent="-207720">
              <a:spcBef>
                <a:spcPts val="34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2.3) Dementia in Parkinson's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40040" indent="-207720">
              <a:spcBef>
                <a:spcPts val="34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2.4) Dementia in human immunodeficiency virus (HIV)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3.) Unspecified dementia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4.) Organic amnesic syndrome, not induced by alcohol and other psychoactive substances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5.) Delirium, not induced by alcohol and other psychoactive substances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6.) Other mental disorders due to brain damage and dysfunction and to physical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7.) Personality and behavioural disorders due to brain disease, damage and dysfunction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9.) Unspecified organic or symptomatic mental disorder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th Octo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77215-014E-4271-B8E0-94D0561E2C4A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Ordinal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 categories are ranged in an orde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Rating scale: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Endorsement of a statement: {</a:t>
            </a:r>
            <a:r>
              <a:rPr b="0" i="1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Strongly agree</a:t>
            </a:r>
            <a:r>
              <a:rPr b="0" i="1" lang="en-US" sz="20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0" i="1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Agree</a:t>
            </a:r>
            <a:r>
              <a:rPr b="0" i="1" lang="en-US" sz="20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0" i="1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Neutral</a:t>
            </a:r>
            <a:r>
              <a:rPr b="0" i="1" lang="en-US" sz="20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0" i="1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Disagree</a:t>
            </a:r>
            <a:r>
              <a:rPr b="0" i="1" lang="en-US" sz="20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0" i="1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Strongly disagree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}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ge: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Age Group: {20+ to 30, 30+ to 40, 40+}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osit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Birth order: {1st, 2nd, 3rd, 4th, ...}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Target position: {Left, Central, Right}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Trial block: {1st, 2nd, 3rd, …}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5T17:30:56Z</dcterms:created>
  <dc:creator>CBU</dc:creator>
  <dc:description/>
  <dc:language>en-US</dc:language>
  <cp:lastModifiedBy>Peter Watson</cp:lastModifiedBy>
  <cp:lastPrinted>2004-10-20T13:39:49Z</cp:lastPrinted>
  <dcterms:modified xsi:type="dcterms:W3CDTF">2017-07-03T09:06:17Z</dcterms:modified>
  <cp:revision>114</cp:revision>
  <dc:subject/>
  <dc:title>Aims and Objectives</dc:title>
</cp:coreProperties>
</file>