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29.wmf" ContentType="image/x-wmf"/>
  <Override PartName="/ppt/media/image1.png" ContentType="image/png"/>
  <Override PartName="/ppt/media/image26.wmf" ContentType="image/x-wmf"/>
  <Override PartName="/ppt/media/image23.png" ContentType="image/png"/>
  <Override PartName="/ppt/media/image22.wmf" ContentType="image/x-wmf"/>
  <Override PartName="/ppt/media/image20.jpeg" ContentType="image/jpeg"/>
  <Override PartName="/ppt/media/image21.png" ContentType="image/png"/>
  <Override PartName="/ppt/media/image19.wmf" ContentType="image/x-wmf"/>
  <Override PartName="/ppt/media/image18.wmf" ContentType="image/x-wmf"/>
  <Override PartName="/ppt/media/image17.png" ContentType="image/png"/>
  <Override PartName="/ppt/media/image16.png" ContentType="image/png"/>
  <Override PartName="/ppt/media/image9.png" ContentType="image/png"/>
  <Override PartName="/ppt/media/image11.wmf" ContentType="image/x-wmf"/>
  <Override PartName="/ppt/media/image30.wmf" ContentType="image/x-wmf"/>
  <Override PartName="/ppt/media/image10.png" ContentType="image/png"/>
  <Override PartName="/ppt/media/image28.wmf" ContentType="image/x-wmf"/>
  <Override PartName="/ppt/media/image31.wmf" ContentType="image/x-wmf"/>
  <Override PartName="/ppt/media/image3.png" ContentType="image/png"/>
  <Override PartName="/ppt/media/image33.png" ContentType="image/png"/>
  <Override PartName="/ppt/media/image8.png" ContentType="image/png"/>
  <Override PartName="/ppt/media/image32.wmf" ContentType="image/x-wmf"/>
  <Override PartName="/ppt/media/image12.wmf" ContentType="image/x-wmf"/>
  <Override PartName="/ppt/media/image13.png" ContentType="image/png"/>
  <Override PartName="/ppt/media/image36.wmf" ContentType="image/x-wmf"/>
  <Override PartName="/ppt/media/image38.wmf" ContentType="image/x-wmf"/>
  <Override PartName="/ppt/media/image40.wmf" ContentType="image/x-wmf"/>
  <Override PartName="/ppt/media/image39.wmf" ContentType="image/x-wmf"/>
  <Override PartName="/ppt/media/image7.wmf" ContentType="image/x-wmf"/>
  <Override PartName="/ppt/media/image37.wmf" ContentType="image/x-wmf"/>
  <Override PartName="/ppt/media/image6.png" ContentType="image/png"/>
  <Override PartName="/ppt/media/image5.wmf" ContentType="image/x-wmf"/>
  <Override PartName="/ppt/media/image35.wmf" ContentType="image/x-wmf"/>
  <Override PartName="/ppt/media/image15.png" ContentType="image/png"/>
  <Override PartName="/ppt/media/image14.png" ContentType="image/png"/>
  <Override PartName="/ppt/media/image34.wmf" ContentType="image/x-wmf"/>
  <Override PartName="/ppt/media/image4.wmf" ContentType="image/x-wmf"/>
  <Override PartName="/ppt/media/image27.wmf" ContentType="image/x-wmf"/>
  <Override PartName="/ppt/media/image2.png" ContentType="image/png"/>
  <Override PartName="/ppt/media/image25.png" ContentType="image/png"/>
  <Override PartName="/ppt/media/image24.png" ContentType="image/png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notesMasterIdLst>
    <p:notesMasterId r:id="rId20"/>
  </p:notesMasterIdLst>
  <p:sldIdLst>
    <p:sldId id="256" r:id="rId21"/>
    <p:sldId id="257" r:id="rId22"/>
    <p:sldId id="258" r:id="rId23"/>
    <p:sldId id="259" r:id="rId24"/>
    <p:sldId id="260" r:id="rId25"/>
    <p:sldId id="261" r:id="rId26"/>
    <p:sldId id="262" r:id="rId27"/>
    <p:sldId id="263" r:id="rId28"/>
    <p:sldId id="264" r:id="rId29"/>
    <p:sldId id="265" r:id="rId30"/>
    <p:sldId id="266" r:id="rId31"/>
    <p:sldId id="267" r:id="rId32"/>
    <p:sldId id="268" r:id="rId33"/>
    <p:sldId id="269" r:id="rId34"/>
    <p:sldId id="270" r:id="rId35"/>
    <p:sldId id="271" r:id="rId36"/>
    <p:sldId id="272" r:id="rId37"/>
    <p:sldId id="273" r:id="rId38"/>
    <p:sldId id="274" r:id="rId39"/>
    <p:sldId id="275" r:id="rId40"/>
    <p:sldId id="276" r:id="rId41"/>
    <p:sldId id="277" r:id="rId42"/>
    <p:sldId id="278" r:id="rId43"/>
    <p:sldId id="279" r:id="rId44"/>
    <p:sldId id="280" r:id="rId45"/>
    <p:sldId id="281" r:id="rId46"/>
    <p:sldId id="282" r:id="rId47"/>
    <p:sldId id="283" r:id="rId48"/>
    <p:sldId id="284" r:id="rId49"/>
    <p:sldId id="285" r:id="rId50"/>
    <p:sldId id="286" r:id="rId51"/>
    <p:sldId id="287" r:id="rId52"/>
    <p:sldId id="288" r:id="rId53"/>
    <p:sldId id="289" r:id="rId54"/>
    <p:sldId id="290" r:id="rId55"/>
    <p:sldId id="291" r:id="rId56"/>
    <p:sldId id="292" r:id="rId57"/>
    <p:sldId id="293" r:id="rId58"/>
    <p:sldId id="294" r:id="rId59"/>
    <p:sldId id="295" r:id="rId60"/>
    <p:sldId id="296" r:id="rId61"/>
    <p:sldId id="297" r:id="rId62"/>
    <p:sldId id="298" r:id="rId63"/>
    <p:sldId id="299" r:id="rId64"/>
    <p:sldId id="300" r:id="rId65"/>
    <p:sldId id="301" r:id="rId66"/>
    <p:sldId id="302" r:id="rId67"/>
    <p:sldId id="303" r:id="rId68"/>
    <p:sldId id="304" r:id="rId69"/>
    <p:sldId id="305" r:id="rId70"/>
    <p:sldId id="306" r:id="rId71"/>
    <p:sldId id="307" r:id="rId72"/>
    <p:sldId id="308" r:id="rId73"/>
    <p:sldId id="309" r:id="rId74"/>
    <p:sldId id="310" r:id="rId75"/>
    <p:sldId id="311" r:id="rId76"/>
    <p:sldId id="312" r:id="rId77"/>
    <p:sldId id="313" r:id="rId78"/>
  </p:sldIdLst>
  <p:sldSz cx="9902825" cy="6858000"/>
  <p:notesSz cx="6792913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notesMaster" Target="notesMasters/notesMaster1.xml"/><Relationship Id="rId21" Type="http://schemas.openxmlformats.org/officeDocument/2006/relationships/slide" Target="slides/slide1.xml"/><Relationship Id="rId22" Type="http://schemas.openxmlformats.org/officeDocument/2006/relationships/slide" Target="slides/slide2.xml"/><Relationship Id="rId23" Type="http://schemas.openxmlformats.org/officeDocument/2006/relationships/slide" Target="slides/slide3.xml"/><Relationship Id="rId24" Type="http://schemas.openxmlformats.org/officeDocument/2006/relationships/slide" Target="slides/slide4.xml"/><Relationship Id="rId25" Type="http://schemas.openxmlformats.org/officeDocument/2006/relationships/slide" Target="slides/slide5.xml"/><Relationship Id="rId26" Type="http://schemas.openxmlformats.org/officeDocument/2006/relationships/slide" Target="slides/slide6.xml"/><Relationship Id="rId27" Type="http://schemas.openxmlformats.org/officeDocument/2006/relationships/slide" Target="slides/slide7.xml"/><Relationship Id="rId28" Type="http://schemas.openxmlformats.org/officeDocument/2006/relationships/slide" Target="slides/slide8.xml"/><Relationship Id="rId29" Type="http://schemas.openxmlformats.org/officeDocument/2006/relationships/slide" Target="slides/slide9.xml"/><Relationship Id="rId30" Type="http://schemas.openxmlformats.org/officeDocument/2006/relationships/slide" Target="slides/slide10.xml"/><Relationship Id="rId31" Type="http://schemas.openxmlformats.org/officeDocument/2006/relationships/slide" Target="slides/slide11.xml"/><Relationship Id="rId32" Type="http://schemas.openxmlformats.org/officeDocument/2006/relationships/slide" Target="slides/slide12.xml"/><Relationship Id="rId33" Type="http://schemas.openxmlformats.org/officeDocument/2006/relationships/slide" Target="slides/slide13.xml"/><Relationship Id="rId34" Type="http://schemas.openxmlformats.org/officeDocument/2006/relationships/slide" Target="slides/slide14.xml"/><Relationship Id="rId35" Type="http://schemas.openxmlformats.org/officeDocument/2006/relationships/slide" Target="slides/slide15.xml"/><Relationship Id="rId36" Type="http://schemas.openxmlformats.org/officeDocument/2006/relationships/slide" Target="slides/slide16.xml"/><Relationship Id="rId37" Type="http://schemas.openxmlformats.org/officeDocument/2006/relationships/slide" Target="slides/slide17.xml"/><Relationship Id="rId38" Type="http://schemas.openxmlformats.org/officeDocument/2006/relationships/slide" Target="slides/slide18.xml"/><Relationship Id="rId39" Type="http://schemas.openxmlformats.org/officeDocument/2006/relationships/slide" Target="slides/slide19.xml"/><Relationship Id="rId40" Type="http://schemas.openxmlformats.org/officeDocument/2006/relationships/slide" Target="slides/slide20.xml"/><Relationship Id="rId41" Type="http://schemas.openxmlformats.org/officeDocument/2006/relationships/slide" Target="slides/slide21.xml"/><Relationship Id="rId42" Type="http://schemas.openxmlformats.org/officeDocument/2006/relationships/slide" Target="slides/slide22.xml"/><Relationship Id="rId43" Type="http://schemas.openxmlformats.org/officeDocument/2006/relationships/slide" Target="slides/slide23.xml"/><Relationship Id="rId44" Type="http://schemas.openxmlformats.org/officeDocument/2006/relationships/slide" Target="slides/slide24.xml"/><Relationship Id="rId45" Type="http://schemas.openxmlformats.org/officeDocument/2006/relationships/slide" Target="slides/slide25.xml"/><Relationship Id="rId46" Type="http://schemas.openxmlformats.org/officeDocument/2006/relationships/slide" Target="slides/slide26.xml"/><Relationship Id="rId47" Type="http://schemas.openxmlformats.org/officeDocument/2006/relationships/slide" Target="slides/slide27.xml"/><Relationship Id="rId48" Type="http://schemas.openxmlformats.org/officeDocument/2006/relationships/slide" Target="slides/slide28.xml"/><Relationship Id="rId49" Type="http://schemas.openxmlformats.org/officeDocument/2006/relationships/slide" Target="slides/slide29.xml"/><Relationship Id="rId50" Type="http://schemas.openxmlformats.org/officeDocument/2006/relationships/slide" Target="slides/slide30.xml"/><Relationship Id="rId51" Type="http://schemas.openxmlformats.org/officeDocument/2006/relationships/slide" Target="slides/slide31.xml"/><Relationship Id="rId52" Type="http://schemas.openxmlformats.org/officeDocument/2006/relationships/slide" Target="slides/slide32.xml"/><Relationship Id="rId53" Type="http://schemas.openxmlformats.org/officeDocument/2006/relationships/slide" Target="slides/slide33.xml"/><Relationship Id="rId54" Type="http://schemas.openxmlformats.org/officeDocument/2006/relationships/slide" Target="slides/slide34.xml"/><Relationship Id="rId55" Type="http://schemas.openxmlformats.org/officeDocument/2006/relationships/slide" Target="slides/slide35.xml"/><Relationship Id="rId56" Type="http://schemas.openxmlformats.org/officeDocument/2006/relationships/slide" Target="slides/slide36.xml"/><Relationship Id="rId57" Type="http://schemas.openxmlformats.org/officeDocument/2006/relationships/slide" Target="slides/slide37.xml"/><Relationship Id="rId58" Type="http://schemas.openxmlformats.org/officeDocument/2006/relationships/slide" Target="slides/slide38.xml"/><Relationship Id="rId59" Type="http://schemas.openxmlformats.org/officeDocument/2006/relationships/slide" Target="slides/slide39.xml"/><Relationship Id="rId60" Type="http://schemas.openxmlformats.org/officeDocument/2006/relationships/slide" Target="slides/slide40.xml"/><Relationship Id="rId61" Type="http://schemas.openxmlformats.org/officeDocument/2006/relationships/slide" Target="slides/slide41.xml"/><Relationship Id="rId62" Type="http://schemas.openxmlformats.org/officeDocument/2006/relationships/slide" Target="slides/slide42.xml"/><Relationship Id="rId63" Type="http://schemas.openxmlformats.org/officeDocument/2006/relationships/slide" Target="slides/slide43.xml"/><Relationship Id="rId64" Type="http://schemas.openxmlformats.org/officeDocument/2006/relationships/slide" Target="slides/slide44.xml"/><Relationship Id="rId65" Type="http://schemas.openxmlformats.org/officeDocument/2006/relationships/slide" Target="slides/slide45.xml"/><Relationship Id="rId66" Type="http://schemas.openxmlformats.org/officeDocument/2006/relationships/slide" Target="slides/slide46.xml"/><Relationship Id="rId67" Type="http://schemas.openxmlformats.org/officeDocument/2006/relationships/slide" Target="slides/slide47.xml"/><Relationship Id="rId68" Type="http://schemas.openxmlformats.org/officeDocument/2006/relationships/slide" Target="slides/slide48.xml"/><Relationship Id="rId69" Type="http://schemas.openxmlformats.org/officeDocument/2006/relationships/slide" Target="slides/slide49.xml"/><Relationship Id="rId70" Type="http://schemas.openxmlformats.org/officeDocument/2006/relationships/slide" Target="slides/slide50.xml"/><Relationship Id="rId71" Type="http://schemas.openxmlformats.org/officeDocument/2006/relationships/slide" Target="slides/slide51.xml"/><Relationship Id="rId72" Type="http://schemas.openxmlformats.org/officeDocument/2006/relationships/slide" Target="slides/slide52.xml"/><Relationship Id="rId73" Type="http://schemas.openxmlformats.org/officeDocument/2006/relationships/slide" Target="slides/slide53.xml"/><Relationship Id="rId74" Type="http://schemas.openxmlformats.org/officeDocument/2006/relationships/slide" Target="slides/slide54.xml"/><Relationship Id="rId75" Type="http://schemas.openxmlformats.org/officeDocument/2006/relationships/slide" Target="slides/slide55.xml"/><Relationship Id="rId76" Type="http://schemas.openxmlformats.org/officeDocument/2006/relationships/slide" Target="slides/slide56.xml"/><Relationship Id="rId77" Type="http://schemas.openxmlformats.org/officeDocument/2006/relationships/slide" Target="slides/slide57.xml"/><Relationship Id="rId78" Type="http://schemas.openxmlformats.org/officeDocument/2006/relationships/slide" Target="slides/slide58.xml"/><Relationship Id="rId7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"/>
          <p:cNvSpPr/>
          <p:nvPr/>
        </p:nvSpPr>
        <p:spPr>
          <a:xfrm>
            <a:off x="0" y="0"/>
            <a:ext cx="6793200" cy="991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 type="dt" idx="52"/>
          </p:nvPr>
        </p:nvSpPr>
        <p:spPr>
          <a:xfrm>
            <a:off x="384984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3"/>
          <p:cNvSpPr>
            <a:spLocks noGrp="1"/>
          </p:cNvSpPr>
          <p:nvPr>
            <p:ph type="sldImg"/>
          </p:nvPr>
        </p:nvSpPr>
        <p:spPr>
          <a:xfrm>
            <a:off x="712800" y="743040"/>
            <a:ext cx="5370480" cy="37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move the slid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45" name="PlaceHolder 4"/>
          <p:cNvSpPr>
            <a:spLocks noGrp="1"/>
          </p:cNvSpPr>
          <p:nvPr>
            <p:ph type="body"/>
          </p:nvPr>
        </p:nvSpPr>
        <p:spPr>
          <a:xfrm>
            <a:off x="906480" y="4710240"/>
            <a:ext cx="49816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PlaceHolder 5"/>
          <p:cNvSpPr>
            <a:spLocks noGrp="1"/>
          </p:cNvSpPr>
          <p:nvPr>
            <p:ph type="ftr" idx="53"/>
          </p:nvPr>
        </p:nvSpPr>
        <p:spPr>
          <a:xfrm>
            <a:off x="0" y="94233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6"/>
          <p:cNvSpPr>
            <a:spLocks noGrp="1"/>
          </p:cNvSpPr>
          <p:nvPr>
            <p:ph type="sldNum" idx="54"/>
          </p:nvPr>
        </p:nvSpPr>
        <p:spPr>
          <a:xfrm>
            <a:off x="3849840" y="94233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F2BD294-BB44-4B84-B93C-4CCAAC4F1074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sldImg"/>
          </p:nvPr>
        </p:nvSpPr>
        <p:spPr>
          <a:xfrm>
            <a:off x="712800" y="743040"/>
            <a:ext cx="5370480" cy="3719520"/>
          </a:xfrm>
          <a:prstGeom prst="rect">
            <a:avLst/>
          </a:prstGeom>
          <a:ln w="0">
            <a:noFill/>
          </a:ln>
        </p:spPr>
      </p:sp>
      <p:sp>
        <p:nvSpPr>
          <p:cNvPr id="1424" name="PlaceHolder 2"/>
          <p:cNvSpPr>
            <a:spLocks noGrp="1"/>
          </p:cNvSpPr>
          <p:nvPr>
            <p:ph type="body"/>
          </p:nvPr>
        </p:nvSpPr>
        <p:spPr>
          <a:xfrm>
            <a:off x="906480" y="4710240"/>
            <a:ext cx="49816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Slide Number Placeholder 3"/>
          <p:cNvSpPr/>
          <p:nvPr/>
        </p:nvSpPr>
        <p:spPr>
          <a:xfrm>
            <a:off x="3849840" y="94233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45007A7-2954-4923-B40B-7260794B1162}" type="slidenum">
              <a:rPr b="0" lang="en-GB" sz="1200" spc="-1" strike="noStrike">
                <a:solidFill>
                  <a:srgbClr val="8f210b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PlaceHolder 1"/>
          <p:cNvSpPr>
            <a:spLocks noGrp="1"/>
          </p:cNvSpPr>
          <p:nvPr>
            <p:ph type="sldImg"/>
          </p:nvPr>
        </p:nvSpPr>
        <p:spPr>
          <a:xfrm>
            <a:off x="712800" y="743040"/>
            <a:ext cx="5370480" cy="3719520"/>
          </a:xfrm>
          <a:prstGeom prst="rect">
            <a:avLst/>
          </a:prstGeom>
          <a:ln w="0">
            <a:noFill/>
          </a:ln>
        </p:spPr>
      </p:sp>
      <p:sp>
        <p:nvSpPr>
          <p:cNvPr id="1427" name="PlaceHolder 2"/>
          <p:cNvSpPr>
            <a:spLocks noGrp="1"/>
          </p:cNvSpPr>
          <p:nvPr>
            <p:ph type="body"/>
          </p:nvPr>
        </p:nvSpPr>
        <p:spPr>
          <a:xfrm>
            <a:off x="906480" y="4710240"/>
            <a:ext cx="49816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Slide Number Placeholder 3"/>
          <p:cNvSpPr/>
          <p:nvPr/>
        </p:nvSpPr>
        <p:spPr>
          <a:xfrm>
            <a:off x="3849840" y="94233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D06BFDA-0D9A-4820-8BCE-A975A147DB39}" type="slidenum">
              <a:rPr b="0" lang="en-GB" sz="1200" spc="-1" strike="noStrike">
                <a:solidFill>
                  <a:srgbClr val="8f210b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7118D-1C9A-4111-8DF8-A08213789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B561A-8351-4115-AE09-7586D35E9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3F3356-94AB-4A73-BDC6-F9CEDA2ED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7A2C1B-9F47-4CC6-AA1A-690D59C57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5D0699-2F99-48C5-8379-BF665BD7A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87AB0E-2ECD-4300-8933-1BAD3A015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D7FE59-A7C5-4FA1-B3DF-74AFE3932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D9FFDC-AE73-40D9-B202-CFCF1EE1C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91EA99-9085-4F4A-9ADF-64118F7B5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2A3F34-7DD3-4AB2-A063-4380DC8FC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B4CEAF-A4EF-44B8-8DE3-9E03591F4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2AFBF8-001D-41DA-B036-8925D242A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B6886-AEA0-41D6-B869-9686DE512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760BF5-90BB-4CD4-8D99-CD11D94FB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DFBE3A-E539-4A73-8D45-6E31DFE2D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A90236-BF93-4558-ACCA-E776BCB19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952CFC-E281-4AD0-90E1-64FFBF877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407AAA-5484-4CCC-8A2F-FA2984C92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7D0B1E-1976-4237-926D-361A6391F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0219D9-8C42-4586-BFE8-1D1C68B65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8AEA71-21D5-41AB-8BD4-F8C7F5FA8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57714B-C17D-46BD-A3B8-C63487BAC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3E89CC-C936-4625-9308-0ABCC05C7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08A0F-038C-4034-A0EC-19839C9A8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5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6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EC8FDD-6BB4-4F71-97A0-F0667AC66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6E2CE8-27E4-4D2D-BAF2-488D27836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404C01-BF80-4C22-A876-396C6AC07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6C7E54-0AEE-4D91-9AE7-00818EA72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17AAEB-22DA-4BCE-BB3D-CEA1BC48C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6D983A-1D20-40AD-90B4-1BAB71D6B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5904FA-B690-42E4-BF80-2B6777555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136DFC-27FF-4A37-95E1-F5C42AC79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0839F1-9247-4E2D-A344-F6B171769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2E5A38-622E-457B-9131-EC4583295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3A6BE7-C5B6-439D-823B-4694E947D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27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3C85BE-1ABD-46C1-8C7C-56B4A15A4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3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4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D9D5A2-0229-40D7-89DC-95E9F5018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BBEFCC-959B-47BF-834D-C5CC67AEA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A18C86-7493-41CA-A6B2-54B2AC8C6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89A2E4-4951-401E-B082-943EEBB6E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3CD319-B588-4ACE-B4DB-FC59C355A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94D913-17D9-421E-B60A-286CF44C9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355421-C517-440B-9603-2C91420B1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CCEE13-1FE0-4FA9-827A-0AD58CB45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4C3833-74A1-43CB-9D49-67E09B2A0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140618-377F-4DC8-ACF4-A0B9C0013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D5CCC1-DDCE-4BB1-B018-AEA2F476D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5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D33E7D-EF22-447C-9A1F-A8A287EB3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90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91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92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341729-8062-4F64-9B8C-16403693E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58B9E0-33BE-4C8B-A3AD-25DEC20D6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77FE3A-F9B5-4F2F-BF3B-87F9C215F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23D9A5-E5FD-4C99-BE32-F5EEE27B8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B382CB-D035-4DDB-9374-938256136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30A7BE-EA41-48DF-8D05-E1D07A699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E7C5FC-C96B-46FB-985F-A02B9AF2F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479DBC-573E-405A-ABD9-AF40314A2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5FE780-415B-4175-AE38-C2BAD9299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3DEC3B-0764-4A11-B082-C0EB84DC8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4C1D37-ED46-4E3F-B989-FFF683E57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43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665D89-5510-4CE3-A4DF-6FAB0FC18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48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49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50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A9B1CA-236F-429C-BBF7-7287963F6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DB6794D-C351-4E1F-A103-A161CAB2A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0A2C75A-AA9B-4CEE-84D9-A8EC3CA0F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8B2324E-1350-44CF-8BF0-C512BE3E6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E374805-322C-470D-B535-4790E1400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D406DCD-AB23-4AFC-B271-289BB7BB4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73379BB-0A1D-4147-A13D-E96BE1FBF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0343DF0-9EBB-4B78-B0C3-99AF98D37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C5A4B1E-9617-491F-8E18-3EBE99F3F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F313323-B4B4-40C3-B353-9A588E58C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56D9B45-C06B-4251-88D7-7264145AB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1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42CF30F-DB1D-4DF3-948A-87DA27C1A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6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7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8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EB7C11F-45CD-4797-B890-8B21B890E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7A49AA7-F239-4B94-9DC5-4A99554D7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005D91A-5057-4B53-964C-26EC65D96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6B48AD7-D7DB-4092-8DE9-14D0268DA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D87CC8A-FC52-4747-A069-17DA0BE5B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14D5FEF-3950-4D34-9733-9487A1B48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9AE7A46-D1DA-4E46-8484-D6F12F696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B19CF65-2491-4118-A942-25C81E939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8FE5B9F-4CE8-4288-8297-C79D138D8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1D8B119-BA60-47FF-8385-3667611CB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D32BCD0-7AC2-470F-87EC-F87AE5751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58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59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5759B36-6171-4B6E-8487-DB44B6240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64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65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66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63F2E7F-E32E-4DB3-920B-6F1E2CF27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4385502-32B2-4A77-9A23-C5870DF96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5C30846-578F-4CB5-AF0A-6E963BEB7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F3E0AF9-C877-4086-BDA2-2D4FEE09F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571960D-BFFC-49BD-922C-E60AA5CE4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7C55619-E8E3-4FFF-A7B1-035C138D0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56E0C1B-E7A8-4B7E-96C3-07F82D9CC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37BB3B7-C20C-4C72-9E25-70308F347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BDEA125-DEC0-4C6A-89D0-ED0304272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69BC537-DF91-4EBC-80DC-5104DCFD6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D4DB11A-8311-4317-80D3-FDCCC1A03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16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17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53710F3-6D56-4E12-820F-EFAAB2531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3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4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A3D4F38-D2BB-4E76-AA0C-83538F308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37D3B75-C127-486E-9D46-8CAE09B70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3743552-E6B4-4561-940B-84932990B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22A95A4-E3F3-4A69-9CEB-3BF6B96E4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647CF8F-2862-42A8-B118-CC870B147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A100997-BEE0-4BB9-82C0-5B5579F16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50013E1-2C22-4742-AFF7-4F4F85E59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252B590-3BC4-45E0-9D23-D889E63CB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FBF09-975F-412D-A03B-7567C8E2C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98AEAFC-012D-46B4-A896-28BEE6732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67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2F1AA6B-1CDD-458D-AEB2-4D625CCB0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0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C2AD1B1-6066-4E22-A9D4-376584F69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4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5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940B1AB-D17E-4E49-8723-BBD9749D8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80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81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82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EBBEB2C-4032-409A-BEF8-C0162DCD0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F56962C-77C8-422B-91A3-0308E7CE9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E7FC5E3-CD35-42B5-96FB-F0C1774F7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F91DA60-DAD8-4E0C-9EAD-23E714F11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333AA12-0506-453A-8ED6-C22E853B1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B9274EB-175F-412E-A836-84AB45C11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3DE934C-7220-4090-A0B9-679B7B179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184B957-ED06-4E18-AAE9-19C4636F0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82A2C4E-D9C9-4D35-9614-A59F4F4FE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25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865AE48-43B9-47C8-8CAD-E841AD73E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9F57B9E-7AF7-4E78-9390-F6E66026C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2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3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BAE270B-8DA8-494A-B029-0CF51761A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7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8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9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40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85D399D-6B32-4C30-97B8-5569D7D69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5188B-4299-4881-8B23-7A5B3BE70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52AC8-9590-423D-87E2-5F753AB83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A3DEE1-9923-412D-9877-600D0E578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D3A7F-17BE-4B20-9A62-90A412C5E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25913A-D43A-4D52-881B-C15FF4EAF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7E151C-B6E5-40E0-BD50-02505A4E0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9B78A9-6D3C-49C1-9782-1EE4E440C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193424-0481-4C85-B5A3-C4DF53184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ED4CD4-17A3-4B7C-B5AF-AF5873413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56E694-5820-47C4-AA3F-355571EED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F24E7F-A695-4A39-9DB8-47D2D6EB7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1ADC19-2AA6-450C-89B3-FC560F614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0BC410-35BC-484D-BEE9-5CB18F49D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67BD41-0F7B-41BE-A3E8-AFE5C6A11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A4086-5E0E-4256-8EC1-00B5E66DF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E6CAE4-7699-4F77-8C81-D0F38D095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ECDE3D-957D-4244-A72B-C77EAC49B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78AE02-A32E-45AD-9A6E-435C9EBA0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4DBA31-3464-456D-BCF4-27187D8FC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5917C5-0A7C-482A-90E2-B186A043B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EEF670-0777-4CA5-B0E6-9D292ADF3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8F8A66-0704-4FAA-9B9F-5A35168CB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38D84D-E0B8-4949-8AB6-6822E50AF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C4C3BA-986D-4506-B92C-01EF71902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DA46E0-A537-451D-8B80-365C197D5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BD3FF-5C21-4809-B194-C3A586E0A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0D3C8C-A12D-4434-91C8-076BAD8F1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741719-E461-49B8-A25E-1EB213522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FA0E8B-6977-4356-9ADE-FCA207F29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95053F-82A2-4CE4-AA02-B4FE52B35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D5888C-17D1-45E4-B01D-05515F9B0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F73E16-3BFB-4F59-A87E-B9EEEF539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2A7D5C-8C23-4FC7-94AF-D95B804B5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1A56DE-DA39-4C1E-A2FF-7C2CC31D3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E6DA01-AAB0-4EA7-8C1C-B7AC32D31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40B4B3-9662-4DE9-880B-79973DCE7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10469-8749-45DA-81EB-0942A9F25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BD96EC-B734-46D5-9404-4F2D724B4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55B171-DAB0-4A05-92F8-6C9115CD1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DED7F7-5C04-4D83-BCA8-4B959AF8C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BF38D9-E3EF-4AF3-90C9-524AC55CD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7FE74A-9F75-4946-B4EC-1260E3455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961B7C-C19A-40D0-9055-69175D638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F11BEE-DEF6-4AD7-85F4-49183CB2E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1C871D-75CE-45F3-85ED-D0CEB6777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B444AE-E639-47BA-920D-CD9AD6653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5D570D-E17D-402D-ADD1-76446A751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C2F39-682E-406D-9D20-D5E4AEDC7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7934A6-FC12-4E0E-8E3C-902D46626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722C98-3998-4859-9B74-587693FCD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0B9FF7-FA36-42F1-9CF9-501A8A5E9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5FFD13-9337-436B-A172-A067D53AC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EE48E6-7D93-4635-A576-E3036055C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22C474-8313-4A33-BFB0-89E685A63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F5CCAD-1716-41B2-BBD5-B726FDD63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805E97-8183-47A9-8860-0B081D471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F39500-B8E1-4ED3-B424-46B5B3035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DAEAB7-24B2-4A96-B16C-9E05CFC6D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6th October 201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grpSp>
        <p:nvGrpSpPr>
          <p:cNvPr id="5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6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0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1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3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4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5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6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7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9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0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21" name="Picture 1" descr=""/>
          <p:cNvPicPr/>
          <p:nvPr/>
        </p:nvPicPr>
        <p:blipFill>
          <a:blip r:embed="rId2"/>
          <a:stretch/>
        </p:blipFill>
        <p:spPr>
          <a:xfrm>
            <a:off x="7945560" y="6419880"/>
            <a:ext cx="1784160" cy="266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9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20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1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2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3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4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5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6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7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8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9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30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31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32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33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34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535" name="Picture 1" descr=""/>
          <p:cNvPicPr/>
          <p:nvPr/>
        </p:nvPicPr>
        <p:blipFill>
          <a:blip r:embed="rId2"/>
          <a:stretch/>
        </p:blipFill>
        <p:spPr>
          <a:xfrm>
            <a:off x="7945560" y="6419880"/>
            <a:ext cx="1784160" cy="266760"/>
          </a:xfrm>
          <a:prstGeom prst="rect">
            <a:avLst/>
          </a:prstGeom>
          <a:ln w="0">
            <a:noFill/>
          </a:ln>
        </p:spPr>
      </p:pic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 type="dt" idx="25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6th October 201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 type="ftr" idx="26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 type="sldNum" idx="27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A1D37-D610-49D9-BA9F-E9C269DDC9DA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7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78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79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0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1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2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3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4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5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6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7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8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9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90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91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92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593" name="Picture 1" descr=""/>
          <p:cNvPicPr/>
          <p:nvPr/>
        </p:nvPicPr>
        <p:blipFill>
          <a:blip r:embed="rId2"/>
          <a:stretch/>
        </p:blipFill>
        <p:spPr>
          <a:xfrm>
            <a:off x="7945560" y="6419880"/>
            <a:ext cx="1784160" cy="266760"/>
          </a:xfrm>
          <a:prstGeom prst="rect">
            <a:avLst/>
          </a:prstGeom>
          <a:ln w="0">
            <a:noFill/>
          </a:ln>
        </p:spPr>
      </p:pic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dt" idx="28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6th October 201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 type="ftr" idx="29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 type="sldNum" idx="30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C6664-F325-4FF1-9E9E-8F59E891E81C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5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636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37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38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39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0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1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2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3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4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5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6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7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8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9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50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651" name="Picture 1" descr=""/>
          <p:cNvPicPr/>
          <p:nvPr/>
        </p:nvPicPr>
        <p:blipFill>
          <a:blip r:embed="rId2"/>
          <a:stretch/>
        </p:blipFill>
        <p:spPr>
          <a:xfrm>
            <a:off x="7945560" y="6419880"/>
            <a:ext cx="1784160" cy="266760"/>
          </a:xfrm>
          <a:prstGeom prst="rect">
            <a:avLst/>
          </a:prstGeom>
          <a:ln w="0">
            <a:noFill/>
          </a:ln>
        </p:spPr>
      </p:pic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 type="dt" idx="31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6th October 201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 type="ftr" idx="32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 type="sldNum" idx="33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55AEC-B88D-44B1-875E-DE9B8083A9EA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3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694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95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96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97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98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99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0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1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2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3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4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5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6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7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8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709" name="Picture 1" descr=""/>
          <p:cNvPicPr/>
          <p:nvPr/>
        </p:nvPicPr>
        <p:blipFill>
          <a:blip r:embed="rId2"/>
          <a:stretch/>
        </p:blipFill>
        <p:spPr>
          <a:xfrm>
            <a:off x="7945560" y="6419880"/>
            <a:ext cx="1784160" cy="266760"/>
          </a:xfrm>
          <a:prstGeom prst="rect">
            <a:avLst/>
          </a:prstGeom>
          <a:ln w="0">
            <a:noFill/>
          </a:ln>
        </p:spPr>
      </p:pic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 type="dt" idx="34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6th October 201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 type="ftr" idx="35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PlaceHolder 5"/>
          <p:cNvSpPr>
            <a:spLocks noGrp="1"/>
          </p:cNvSpPr>
          <p:nvPr>
            <p:ph type="sldNum" idx="36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04C42-7550-4A83-A95F-F0CACCB56784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1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752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53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54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55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56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57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58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59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0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1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2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3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4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5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6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767" name="Picture 1" descr=""/>
          <p:cNvPicPr/>
          <p:nvPr/>
        </p:nvPicPr>
        <p:blipFill>
          <a:blip r:embed="rId2"/>
          <a:stretch/>
        </p:blipFill>
        <p:spPr>
          <a:xfrm>
            <a:off x="7945560" y="6419880"/>
            <a:ext cx="1784160" cy="266760"/>
          </a:xfrm>
          <a:prstGeom prst="rect">
            <a:avLst/>
          </a:prstGeom>
          <a:ln w="0">
            <a:noFill/>
          </a:ln>
        </p:spPr>
      </p:pic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dt" idx="37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6th October 201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 type="ftr" idx="38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PlaceHolder 5"/>
          <p:cNvSpPr>
            <a:spLocks noGrp="1"/>
          </p:cNvSpPr>
          <p:nvPr>
            <p:ph type="sldNum" idx="39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6841A-6641-4F8F-8318-E3FC487F15A3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9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810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1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2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3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4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5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6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7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8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9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20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21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22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23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24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825" name="Picture 1" descr=""/>
          <p:cNvPicPr/>
          <p:nvPr/>
        </p:nvPicPr>
        <p:blipFill>
          <a:blip r:embed="rId2"/>
          <a:stretch/>
        </p:blipFill>
        <p:spPr>
          <a:xfrm>
            <a:off x="7945560" y="6419880"/>
            <a:ext cx="1784160" cy="266760"/>
          </a:xfrm>
          <a:prstGeom prst="rect">
            <a:avLst/>
          </a:prstGeom>
          <a:ln w="0">
            <a:noFill/>
          </a:ln>
        </p:spPr>
      </p:pic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 type="dt" idx="40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6th October 201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 type="ftr" idx="41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PlaceHolder 5"/>
          <p:cNvSpPr>
            <a:spLocks noGrp="1"/>
          </p:cNvSpPr>
          <p:nvPr>
            <p:ph type="sldNum" idx="42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EC5EF-567E-4671-8EA9-8DC08D13C2CA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7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868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69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0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1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2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3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4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5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6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7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8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9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80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81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82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883" name="Picture 1" descr=""/>
          <p:cNvPicPr/>
          <p:nvPr/>
        </p:nvPicPr>
        <p:blipFill>
          <a:blip r:embed="rId2"/>
          <a:stretch/>
        </p:blipFill>
        <p:spPr>
          <a:xfrm>
            <a:off x="7945560" y="6419880"/>
            <a:ext cx="1784160" cy="266760"/>
          </a:xfrm>
          <a:prstGeom prst="rect">
            <a:avLst/>
          </a:prstGeom>
          <a:ln w="0">
            <a:noFill/>
          </a:ln>
        </p:spPr>
      </p:pic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 type="dt" idx="43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6th October 201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 type="ftr" idx="44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5"/>
          <p:cNvSpPr>
            <a:spLocks noGrp="1"/>
          </p:cNvSpPr>
          <p:nvPr>
            <p:ph type="sldNum" idx="45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8F64D-5B7F-4E85-92E3-3DA63E3F1AD0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5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926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27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28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29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0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1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2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3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4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5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6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7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8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9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40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941" name="Picture 1" descr=""/>
          <p:cNvPicPr/>
          <p:nvPr/>
        </p:nvPicPr>
        <p:blipFill>
          <a:blip r:embed="rId2"/>
          <a:stretch/>
        </p:blipFill>
        <p:spPr>
          <a:xfrm>
            <a:off x="7945560" y="6419880"/>
            <a:ext cx="1784160" cy="266760"/>
          </a:xfrm>
          <a:prstGeom prst="rect">
            <a:avLst/>
          </a:prstGeom>
          <a:ln w="0">
            <a:noFill/>
          </a:ln>
        </p:spPr>
      </p:pic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 type="dt" idx="46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6th October 201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 type="ftr" idx="47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PlaceHolder 5"/>
          <p:cNvSpPr>
            <a:spLocks noGrp="1"/>
          </p:cNvSpPr>
          <p:nvPr>
            <p:ph type="sldNum" idx="48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4AF8C-F36D-4F4C-AC29-0B5AF1F5E0E9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3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984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85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86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87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88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89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0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1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2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3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4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5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6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7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8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999" name="Picture 1" descr=""/>
          <p:cNvPicPr/>
          <p:nvPr/>
        </p:nvPicPr>
        <p:blipFill>
          <a:blip r:embed="rId2"/>
          <a:stretch/>
        </p:blipFill>
        <p:spPr>
          <a:xfrm>
            <a:off x="7945560" y="6419880"/>
            <a:ext cx="1784160" cy="266760"/>
          </a:xfrm>
          <a:prstGeom prst="rect">
            <a:avLst/>
          </a:prstGeom>
          <a:ln w="0">
            <a:noFill/>
          </a:ln>
        </p:spPr>
      </p:pic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 type="dt" idx="49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f210b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Times New Roman"/>
              </a:rPr>
              <a:t>26th October 201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PlaceHolder 4"/>
          <p:cNvSpPr>
            <a:spLocks noGrp="1"/>
          </p:cNvSpPr>
          <p:nvPr>
            <p:ph type="ftr" idx="50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f210b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PlaceHolder 5"/>
          <p:cNvSpPr>
            <a:spLocks noGrp="1"/>
          </p:cNvSpPr>
          <p:nvPr>
            <p:ph type="sldNum" idx="51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8f210b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89C16-0F70-4A39-BC1A-150AAE57606E}" type="slidenum">
              <a:rPr b="0" lang="en-GB" sz="1000" spc="-1" strike="noStrike">
                <a:solidFill>
                  <a:srgbClr val="8f210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9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0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1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2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3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5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6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7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8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9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1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2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3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74" name="Picture 1" descr=""/>
          <p:cNvPicPr/>
          <p:nvPr/>
        </p:nvPicPr>
        <p:blipFill>
          <a:blip r:embed="rId2"/>
          <a:stretch/>
        </p:blipFill>
        <p:spPr>
          <a:xfrm>
            <a:off x="7945560" y="6419880"/>
            <a:ext cx="1784160" cy="26676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dt" idx="4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6th October 201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ftr" idx="5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116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17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18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19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0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1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2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3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4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5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6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7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8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9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30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131" name="Picture 1" descr=""/>
          <p:cNvPicPr/>
          <p:nvPr/>
        </p:nvPicPr>
        <p:blipFill>
          <a:blip r:embed="rId2"/>
          <a:stretch/>
        </p:blipFill>
        <p:spPr>
          <a:xfrm>
            <a:off x="7945560" y="6419880"/>
            <a:ext cx="1784160" cy="26676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6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6th October 201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7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173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74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75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76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77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78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79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0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1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2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3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4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5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6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7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188" name="Picture 1" descr=""/>
          <p:cNvPicPr/>
          <p:nvPr/>
        </p:nvPicPr>
        <p:blipFill>
          <a:blip r:embed="rId2"/>
          <a:stretch/>
        </p:blipFill>
        <p:spPr>
          <a:xfrm>
            <a:off x="7945560" y="6419880"/>
            <a:ext cx="1784160" cy="266760"/>
          </a:xfrm>
          <a:prstGeom prst="rect">
            <a:avLst/>
          </a:prstGeom>
          <a:ln w="0">
            <a:noFill/>
          </a:ln>
        </p:spPr>
      </p:pic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 type="dt" idx="8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6th October 201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 type="ftr" idx="9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9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230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1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2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3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4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5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6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7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8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9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40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41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42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43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44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245" name="Picture 1" descr=""/>
          <p:cNvPicPr/>
          <p:nvPr/>
        </p:nvPicPr>
        <p:blipFill>
          <a:blip r:embed="rId2"/>
          <a:stretch/>
        </p:blipFill>
        <p:spPr>
          <a:xfrm>
            <a:off x="7945560" y="6419880"/>
            <a:ext cx="1784160" cy="266760"/>
          </a:xfrm>
          <a:prstGeom prst="rect">
            <a:avLst/>
          </a:prstGeom>
          <a:ln w="0">
            <a:noFill/>
          </a:ln>
        </p:spPr>
      </p:pic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0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6th October 201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1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2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3D825-7622-4886-BC0A-83325EBB34E3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7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288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89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0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1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2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3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4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5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6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7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8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9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00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01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02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303" name="Picture 1" descr=""/>
          <p:cNvPicPr/>
          <p:nvPr/>
        </p:nvPicPr>
        <p:blipFill>
          <a:blip r:embed="rId2"/>
          <a:stretch/>
        </p:blipFill>
        <p:spPr>
          <a:xfrm>
            <a:off x="7945560" y="6419880"/>
            <a:ext cx="1784160" cy="266760"/>
          </a:xfrm>
          <a:prstGeom prst="rect">
            <a:avLst/>
          </a:prstGeom>
          <a:ln w="0">
            <a:noFill/>
          </a:ln>
        </p:spPr>
      </p:pic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13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6th October 201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14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15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DD747-9CA3-4264-B7F4-058E8E018DA0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5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346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47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48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49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0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1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2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3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4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5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6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7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8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9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60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361" name="Picture 1" descr=""/>
          <p:cNvPicPr/>
          <p:nvPr/>
        </p:nvPicPr>
        <p:blipFill>
          <a:blip r:embed="rId2"/>
          <a:stretch/>
        </p:blipFill>
        <p:spPr>
          <a:xfrm>
            <a:off x="7945560" y="6419880"/>
            <a:ext cx="1784160" cy="266760"/>
          </a:xfrm>
          <a:prstGeom prst="rect">
            <a:avLst/>
          </a:prstGeom>
          <a:ln w="0">
            <a:noFill/>
          </a:ln>
        </p:spPr>
      </p:pic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 type="dt" idx="16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6th October 201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 type="ftr" idx="17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 type="sldNum" idx="18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26A0A-3084-44B4-854B-A15EE97A0F3D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3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404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05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06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07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08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09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0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1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2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3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4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5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6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7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8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419" name="Picture 1" descr=""/>
          <p:cNvPicPr/>
          <p:nvPr/>
        </p:nvPicPr>
        <p:blipFill>
          <a:blip r:embed="rId2"/>
          <a:stretch/>
        </p:blipFill>
        <p:spPr>
          <a:xfrm>
            <a:off x="7945560" y="6419880"/>
            <a:ext cx="1784160" cy="266760"/>
          </a:xfrm>
          <a:prstGeom prst="rect">
            <a:avLst/>
          </a:prstGeom>
          <a:ln w="0">
            <a:noFill/>
          </a:ln>
        </p:spPr>
      </p:pic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 type="dt" idx="19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6th October 201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 type="ftr" idx="20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 type="sldNum" idx="21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9CA2F-4DC9-433B-987C-0F5C018D1703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1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462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63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64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65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66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67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68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69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0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1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2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3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4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5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6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477" name="Picture 1" descr=""/>
          <p:cNvPicPr/>
          <p:nvPr/>
        </p:nvPicPr>
        <p:blipFill>
          <a:blip r:embed="rId2"/>
          <a:stretch/>
        </p:blipFill>
        <p:spPr>
          <a:xfrm>
            <a:off x="7945560" y="6419880"/>
            <a:ext cx="1784160" cy="2667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22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6th October 201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23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24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375F7-5622-4F95-A4FF-27DC835C8700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5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4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4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6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8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9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9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9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9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9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9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9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9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7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9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4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7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http://imaging.mrc-cbu.cam.ac.uk/statswiki/FAQ/BinomialConfidence" TargetMode="External"/><Relationship Id="rId2" Type="http://schemas.openxmlformats.org/officeDocument/2006/relationships/slideLayout" Target="../slideLayouts/slideLayout7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hyperlink" Target="http://imaging.mrc-cbu.cam.ac.uk/statswiki/FAQ/kappa" TargetMode="External"/><Relationship Id="rId2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4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4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9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9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39.wmf"/><Relationship Id="rId3" Type="http://schemas.openxmlformats.org/officeDocument/2006/relationships/image" Target="../media/image40.wmf"/><Relationship Id="rId4" Type="http://schemas.openxmlformats.org/officeDocument/2006/relationships/slideLayout" Target="../slideLayouts/slideLayout14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th Octo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4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E11C2-0AA5-49E4-BDA5-664F899CB2F6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990720" y="2438280"/>
            <a:ext cx="8416800" cy="198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MRC Cognition and Brain Sciences Unit</a:t>
            </a:r>
            <a:r>
              <a:rPr b="0" lang="en-GB" sz="3600" spc="-1" strike="noStrike">
                <a:solidFill>
                  <a:srgbClr val="515f7b"/>
                </a:solidFill>
                <a:latin typeface="Albertus Medium"/>
              </a:rPr>
              <a:t> </a:t>
            </a:r>
            <a:br>
              <a:rPr sz="3600"/>
            </a:br>
            <a:r>
              <a:rPr b="0" lang="en-GB" sz="3600" spc="-1" strike="noStrike">
                <a:solidFill>
                  <a:srgbClr val="8f210b"/>
                </a:solidFill>
                <a:latin typeface="Albertus Medium"/>
              </a:rPr>
              <a:t>Graduate Statistics Course 2017</a:t>
            </a:r>
            <a:br>
              <a:rPr sz="3600"/>
            </a:br>
            <a:r>
              <a:rPr b="0" lang="en-US" sz="1800" spc="-1" strike="noStrike">
                <a:solidFill>
                  <a:srgbClr val="515f7b"/>
                </a:solidFill>
                <a:latin typeface="Verdana"/>
              </a:rPr>
              <a:t>http://imaging.mrc-cbu.cam.ac.uk/statswiki/StatsCourse2017</a:t>
            </a:r>
            <a:endParaRPr b="0" lang="en-US" sz="1800" spc="-1" strike="noStrike">
              <a:solidFill>
                <a:srgbClr val="515f7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th Octo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4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5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A35A0-EDDB-4D46-9EFE-4E28D392C90E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Frequency Tables 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Observations are classified according to some schem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 numbers of observations falling into each category of the classification are called the </a:t>
            </a:r>
            <a:r>
              <a:rPr b="0" i="1" lang="en-US" sz="2800" spc="-1" strike="noStrike">
                <a:solidFill>
                  <a:srgbClr val="8f210b"/>
                </a:solidFill>
                <a:latin typeface="Albertus Medium"/>
              </a:rPr>
              <a:t>frequenci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th Octo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EB6EE-BD01-4052-A652-A32D59AF91BA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Visual Field Deficit Problems in Hemiplegic Patient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102" name="Picture 4" descr=""/>
          <p:cNvPicPr/>
          <p:nvPr/>
        </p:nvPicPr>
        <p:blipFill>
          <a:blip r:embed="rId1"/>
          <a:stretch/>
        </p:blipFill>
        <p:spPr>
          <a:xfrm>
            <a:off x="3943440" y="1844640"/>
            <a:ext cx="3436920" cy="44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th Octo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4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5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FAC8D-C143-48E6-A989-40F4C596B403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FREQUENCIE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07" name="Line 10"/>
          <p:cNvSpPr/>
          <p:nvPr/>
        </p:nvSpPr>
        <p:spPr>
          <a:xfrm flipH="1" flipV="1">
            <a:off x="6436800" y="2895120"/>
            <a:ext cx="908280" cy="7621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95360" y="2133720"/>
            <a:ext cx="536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nalyze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Descriptive Statistics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Frequenci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ut the variable that holds the category information into the Variables(s) box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ress OK ..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109" name="Picture 14" descr=""/>
          <p:cNvPicPr/>
          <p:nvPr/>
        </p:nvPicPr>
        <p:blipFill>
          <a:blip r:embed="rId1"/>
          <a:stretch/>
        </p:blipFill>
        <p:spPr>
          <a:xfrm>
            <a:off x="5611680" y="2362320"/>
            <a:ext cx="4125960" cy="23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th Octo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1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2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FB9F8-470D-4D33-8B53-8B4D6DEB67C7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Frequency Tabl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114" name="Picture 4" descr=""/>
          <p:cNvPicPr/>
          <p:nvPr/>
        </p:nvPicPr>
        <p:blipFill>
          <a:blip r:embed="rId1"/>
          <a:stretch/>
        </p:blipFill>
        <p:spPr>
          <a:xfrm>
            <a:off x="1155600" y="1981080"/>
            <a:ext cx="8417160" cy="23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th Octo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6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7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069B6-848E-4123-89DF-F231A8E5F701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Bar chart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1280880" y="2017800"/>
            <a:ext cx="412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lecting ‘Bar Chart’ from the ‘</a:t>
            </a:r>
            <a:r>
              <a:rPr b="0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C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harts’ options gives you a graphic which you can cut and paste ..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120" name="Picture 10" descr=""/>
          <p:cNvPicPr/>
          <p:nvPr/>
        </p:nvPicPr>
        <p:blipFill>
          <a:blip r:embed="rId1"/>
          <a:stretch/>
        </p:blipFill>
        <p:spPr>
          <a:xfrm>
            <a:off x="5199120" y="2057400"/>
            <a:ext cx="4125960" cy="29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th Octo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22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23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D31C4-C2FF-4C3E-9731-23E0A92E137E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ontingency Table</a:t>
            </a: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	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329760" y="2017800"/>
            <a:ext cx="5077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tems are classified by two or more classifications simultaneousl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E.g. </a:t>
            </a:r>
            <a:r>
              <a:rPr b="0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Side of Damage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 and </a:t>
            </a:r>
            <a:r>
              <a:rPr b="0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Severity of Visual Field Deficit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nalyze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Descriptive Statistics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Crosstab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lect ‘Side of Damage’ and ‘Visual Field Deficit’ to define the row/column categori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126" name="Picture 4" descr=""/>
          <p:cNvPicPr/>
          <p:nvPr/>
        </p:nvPicPr>
        <p:blipFill>
          <a:blip r:embed="rId1"/>
          <a:stretch/>
        </p:blipFill>
        <p:spPr>
          <a:xfrm>
            <a:off x="5599080" y="2205000"/>
            <a:ext cx="4125960" cy="32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th Octo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28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29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A719B-302A-4962-86E0-C087E9B28CF5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ROSSTAB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131" name="Picture 4" descr=""/>
          <p:cNvPicPr/>
          <p:nvPr/>
        </p:nvPicPr>
        <p:blipFill>
          <a:blip r:embed="rId1"/>
          <a:stretch/>
        </p:blipFill>
        <p:spPr>
          <a:xfrm>
            <a:off x="1155600" y="2286000"/>
            <a:ext cx="8417160" cy="2262240"/>
          </a:xfrm>
          <a:prstGeom prst="rect">
            <a:avLst/>
          </a:prstGeom>
          <a:ln w="0">
            <a:noFill/>
          </a:ln>
        </p:spPr>
      </p:pic>
      <p:sp>
        <p:nvSpPr>
          <p:cNvPr id="1132" name="Text Box 6"/>
          <p:cNvSpPr/>
          <p:nvPr/>
        </p:nvSpPr>
        <p:spPr>
          <a:xfrm>
            <a:off x="1238400" y="4876920"/>
            <a:ext cx="7921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t looks as if there may be more VFD in RBD than in LBD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th Octo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34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35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9479C-369B-4688-B008-280ACE9343ED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Analysing a frequency table directly from the frequencie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137" name="Picture 3" descr=""/>
          <p:cNvPicPr/>
          <p:nvPr/>
        </p:nvPicPr>
        <p:blipFill>
          <a:blip r:embed="rId1"/>
          <a:stretch/>
        </p:blipFill>
        <p:spPr>
          <a:xfrm>
            <a:off x="4951440" y="1981080"/>
            <a:ext cx="4125960" cy="4114800"/>
          </a:xfrm>
          <a:prstGeom prst="rect">
            <a:avLst/>
          </a:prstGeom>
          <a:ln w="0">
            <a:noFill/>
          </a:ln>
        </p:spPr>
      </p:pic>
      <p:sp>
        <p:nvSpPr>
          <p:cNvPr id="1138" name="PlaceHolder 2"/>
          <p:cNvSpPr>
            <a:spLocks noGrp="1"/>
          </p:cNvSpPr>
          <p:nvPr>
            <p:ph/>
          </p:nvPr>
        </p:nvSpPr>
        <p:spPr>
          <a:xfrm>
            <a:off x="577440" y="2133360"/>
            <a:ext cx="412596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Sometimes the observations have already been aggregated into frequencies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Enter the frequencies for each cells of the table, identified by the levels of the classifying factors.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E.g. Lexical Decision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Type: {1 = Word , 2 = Nonword}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Outcome: {1 = ‘Word’ , 2 = ‘Nonword’}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requency count for response ‘Word’ to Word items is 8.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Etc.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requencies are stored in the variable called ‘freq’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th Octo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0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1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5E7FD-953E-456B-A609-E3576CDF5557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Use ‘Weight Cases’ to analyse the frequency tabl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143" name="Picture 3" descr=""/>
          <p:cNvPicPr/>
          <p:nvPr/>
        </p:nvPicPr>
        <p:blipFill>
          <a:blip r:embed="rId1"/>
          <a:stretch/>
        </p:blipFill>
        <p:spPr>
          <a:xfrm>
            <a:off x="4621320" y="2057400"/>
            <a:ext cx="4125960" cy="1417680"/>
          </a:xfrm>
          <a:prstGeom prst="rect">
            <a:avLst/>
          </a:prstGeom>
          <a:ln w="0">
            <a:noFill/>
          </a:ln>
        </p:spPr>
      </p:pic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659880" y="2286000"/>
            <a:ext cx="4125960" cy="35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Data </a:t>
            </a:r>
            <a:r>
              <a:rPr b="0" lang="en-US" sz="20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 Weight Cases …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The variable ‘freq’ contains the frequencie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th Octo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6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7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84DB4-9EB9-4513-9028-8B6F86BBE420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Use ‘Crosstabs’ to  generate the frequency tabl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/>
          </p:nvPr>
        </p:nvSpPr>
        <p:spPr>
          <a:xfrm>
            <a:off x="660240" y="2286000"/>
            <a:ext cx="4368960" cy="35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Cross-classification by ‘type’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5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Stimulus = {Word, Non-word}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and by ‘outcome’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5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Response = {‘Word’, Non-word’}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150" name="Picture 6" descr=""/>
          <p:cNvPicPr/>
          <p:nvPr/>
        </p:nvPicPr>
        <p:blipFill>
          <a:blip r:embed="rId1"/>
          <a:stretch/>
        </p:blipFill>
        <p:spPr>
          <a:xfrm>
            <a:off x="5029200" y="2209680"/>
            <a:ext cx="4290840" cy="34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th Octo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3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4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E213E-DCBE-40D6-BEA3-EE07540D49F1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4: Categorical Data Analysi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56" name="Text Box 1029"/>
          <p:cNvSpPr/>
          <p:nvPr/>
        </p:nvSpPr>
        <p:spPr>
          <a:xfrm>
            <a:off x="1320840" y="2362320"/>
            <a:ext cx="81691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f210b"/>
                </a:solidFill>
                <a:latin typeface="Albertus Medium"/>
              </a:rPr>
              <a:t>Categorical Data, Contingency Tables and the Pearson Chi-Squared Statistic</a:t>
            </a:r>
            <a:endParaRPr b="0" lang="en-US" sz="3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7" name="Text Box 1030"/>
          <p:cNvSpPr/>
          <p:nvPr/>
        </p:nvSpPr>
        <p:spPr>
          <a:xfrm>
            <a:off x="1486080" y="3505320"/>
            <a:ext cx="7839000" cy="276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f210b"/>
                </a:solidFill>
                <a:latin typeface="Albertus Medium"/>
              </a:rPr>
              <a:t>Peter Watson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f210b"/>
                </a:solidFill>
                <a:latin typeface="Albertus Medium"/>
              </a:rPr>
              <a:t>(with thanks to Ian Nimmo-Smith)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02 November 2017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cc"/>
                </a:solidFill>
                <a:latin typeface="Albertus Medium"/>
              </a:rPr>
              <a:t>http://imaging.mrc-cbu.cam.ac.uk/statswiki/FAQ/cdaFAQ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th Octo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52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53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872DB-C1E4-4258-A67B-6CDE9F019710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Simple use of SPSS Crosstab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155" name="Picture 3" descr=""/>
          <p:cNvPicPr/>
          <p:nvPr/>
        </p:nvPicPr>
        <p:blipFill>
          <a:blip r:embed="rId1"/>
          <a:stretch/>
        </p:blipFill>
        <p:spPr>
          <a:xfrm>
            <a:off x="5281560" y="2590920"/>
            <a:ext cx="3979800" cy="1463400"/>
          </a:xfrm>
          <a:prstGeom prst="rect">
            <a:avLst/>
          </a:prstGeom>
          <a:ln w="0">
            <a:noFill/>
          </a:ln>
        </p:spPr>
      </p:pic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577440" y="2133720"/>
            <a:ext cx="412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Word recognition looks quite good (80%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But Non-word rejection is low (50%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th Octo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58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59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20F29-56B5-4869-9E8E-73BF51E5888B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Goodness-of-Fit Chi-squared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uppose we have a Theory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.e. a ‘model’ that predicts the expected frequencies (E) in each categor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We actually observe the frequencies (O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We measure how good a fit the data are to the theory by the formula: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X</a:t>
            </a:r>
            <a:r>
              <a:rPr b="0" lang="en-US" sz="24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= </a:t>
            </a:r>
            <a:r>
              <a:rPr b="0" lang="en-US" sz="3200" spc="-1" strike="noStrike">
                <a:solidFill>
                  <a:srgbClr val="8f210b"/>
                </a:solidFill>
                <a:latin typeface="Symbol"/>
                <a:ea typeface="Symbol"/>
              </a:rPr>
              <a:t>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(O-E)</a:t>
            </a:r>
            <a:r>
              <a:rPr b="0" lang="en-US" sz="24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/E where the sum is over all the categori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s is called Pearson’s Chi-Squared Statistic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th Octo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63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64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CBF75-25FF-4210-B6BB-DF4DFC0F6B05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Significanc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6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Large values of X</a:t>
            </a:r>
            <a:r>
              <a:rPr b="0" lang="en-US" sz="2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suggest the model doesn’t fit the data wel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This leads to Goodness-of-fit te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We look at the value of X</a:t>
            </a:r>
            <a:r>
              <a:rPr b="0" lang="en-US" sz="2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and see whether it is unusually large by reference to a </a:t>
            </a:r>
            <a:r>
              <a:rPr b="0" lang="en-US" sz="3600" spc="-1" strike="noStrike">
                <a:solidFill>
                  <a:srgbClr val="8f210b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38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3200" spc="-1" strike="noStrike">
                <a:solidFill>
                  <a:srgbClr val="8f210b"/>
                </a:solidFill>
                <a:latin typeface="Albertus Medium"/>
              </a:rPr>
              <a:t>-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distribution with k-1 degrees-of-freedom where k is the number of categories in the classifica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th Octo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68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69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F60F2-73C2-4CD8-8B99-CE3D8953C309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‘</a:t>
            </a: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Degrees of Freedom’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An elusive concept that occurs throughout statistics. In essence it means the number of independent pieces of information in a sample relevant to the estimation of some parameters or calculation of a statistic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5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For example in a two-by-two contingency table with a given set of marginal totals only 1 of the cells at a time is ‘free’ -- once it is specified all the others are determined -- and the table thus has a single degree of freedom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The important point here is we can only interpret X</a:t>
            </a:r>
            <a:r>
              <a:rPr b="0" lang="en-US" sz="2000" spc="-1" strike="noStrike" baseline="40000">
                <a:solidFill>
                  <a:srgbClr val="8f210b"/>
                </a:solidFill>
                <a:latin typeface="Albertus Medium"/>
              </a:rPr>
              <a:t>2 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if we also know its degrees of freedom, as we see later when we look at the chi-squared distribution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th Octo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73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74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B4E0B-1F29-4BDB-8FC2-00555491F860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515f7b"/>
                </a:solidFill>
                <a:latin typeface="Albertus Medium"/>
              </a:rPr>
              <a:t>Degrees of Freedom = 1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1176" name=""/>
          <p:cNvGraphicFramePr/>
          <p:nvPr/>
        </p:nvGraphicFramePr>
        <p:xfrm>
          <a:off x="1281240" y="2017800"/>
          <a:ext cx="8416800" cy="4114800"/>
        </p:xfrm>
        <a:graphic>
          <a:graphicData uri="http://schemas.openxmlformats.org/drawingml/2006/table">
            <a:tbl>
              <a:tblPr/>
              <a:tblGrid>
                <a:gridCol w="2805120"/>
                <a:gridCol w="2806560"/>
                <a:gridCol w="2805120"/>
              </a:tblGrid>
              <a:tr h="1371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x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10-x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Row 1 Total = 1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13-x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x-3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Row 2 Total = 1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Column 1 Total = 13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Column 3 Total = 7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Table Total = 2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th Octo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78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79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5A437-BD56-4C1D-928E-F3392CF0F890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15f7b"/>
                </a:solidFill>
                <a:latin typeface="Albertus Medium"/>
              </a:rPr>
              <a:t>Degrees of Freedom = 4 (#rows-1) times (#cols -1)</a:t>
            </a:r>
            <a:endParaRPr b="0" lang="en-US" sz="28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1181" name=""/>
          <p:cNvGraphicFramePr/>
          <p:nvPr/>
        </p:nvGraphicFramePr>
        <p:xfrm>
          <a:off x="487440" y="2017800"/>
          <a:ext cx="9210600" cy="4114800"/>
        </p:xfrm>
        <a:graphic>
          <a:graphicData uri="http://schemas.openxmlformats.org/drawingml/2006/table">
            <a:tbl>
              <a:tblPr/>
              <a:tblGrid>
                <a:gridCol w="2303280"/>
                <a:gridCol w="2301840"/>
                <a:gridCol w="2303640"/>
                <a:gridCol w="2301840"/>
              </a:tblGrid>
              <a:tr h="1028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x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y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10-x-y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Row 1 Total = 1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u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v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10-u-v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Row 2 Total = 1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noFill/>
                  </a:tcPr>
                </a:tc>
              </a:tr>
              <a:tr h="1028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12-x-u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7-y-v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x+y+u+v-9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Row 3 Total = 1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Column 1 Total = 12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Column 2 Total = 7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Column 3 Total = 11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Table Total = 3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th Octo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83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84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AE390-0643-4F84-8422-3072E848EF90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olman, Ritchie and Kalish (1946)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86" name="PlaceHolder 2"/>
          <p:cNvSpPr>
            <a:spLocks noGrp="1"/>
          </p:cNvSpPr>
          <p:nvPr>
            <p:ph/>
          </p:nvPr>
        </p:nvSpPr>
        <p:spPr>
          <a:xfrm>
            <a:off x="1066320" y="1904760"/>
            <a:ext cx="413244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lace learning in ra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grpSp>
        <p:nvGrpSpPr>
          <p:cNvPr id="1187" name="Group 1062"/>
          <p:cNvGrpSpPr/>
          <p:nvPr/>
        </p:nvGrpSpPr>
        <p:grpSpPr>
          <a:xfrm>
            <a:off x="914400" y="2971800"/>
            <a:ext cx="3341880" cy="3263760"/>
            <a:chOff x="914400" y="2971800"/>
            <a:chExt cx="3341880" cy="3263760"/>
          </a:xfrm>
        </p:grpSpPr>
        <p:grpSp>
          <p:nvGrpSpPr>
            <p:cNvPr id="1188" name="Group 1058"/>
            <p:cNvGrpSpPr/>
            <p:nvPr/>
          </p:nvGrpSpPr>
          <p:grpSpPr>
            <a:xfrm>
              <a:off x="914400" y="2971800"/>
              <a:ext cx="3341880" cy="2819160"/>
              <a:chOff x="914400" y="2971800"/>
              <a:chExt cx="3341880" cy="2819160"/>
            </a:xfrm>
          </p:grpSpPr>
          <p:sp>
            <p:nvSpPr>
              <p:cNvPr id="1189" name="Oval 1033"/>
              <p:cNvSpPr/>
              <p:nvPr/>
            </p:nvSpPr>
            <p:spPr>
              <a:xfrm>
                <a:off x="914400" y="4267080"/>
                <a:ext cx="1447920" cy="1523880"/>
              </a:xfrm>
              <a:prstGeom prst="ellipse">
                <a:avLst/>
              </a:prstGeom>
              <a:noFill/>
              <a:ln w="9360">
                <a:solidFill>
                  <a:srgbClr val="8f210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700"/>
                  </a:spcBef>
                  <a:buClr>
                    <a:srgbClr val="a3ce82"/>
                  </a:buClr>
                  <a:buSzPct val="5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8f210b"/>
                  </a:solidFill>
                  <a:latin typeface="Albertus Medium"/>
                </a:endParaRPr>
              </a:p>
            </p:txBody>
          </p:sp>
          <p:sp>
            <p:nvSpPr>
              <p:cNvPr id="1190" name="AutoShape 1034"/>
              <p:cNvSpPr/>
              <p:nvPr/>
            </p:nvSpPr>
            <p:spPr>
              <a:xfrm>
                <a:off x="1524240" y="2971800"/>
                <a:ext cx="1904760" cy="1295280"/>
              </a:xfrm>
              <a:custGeom>
                <a:avLst/>
                <a:gdLst>
                  <a:gd name="textAreaLeft" fmla="*/ 1095120 w 1904760"/>
                  <a:gd name="textAreaRight" fmla="*/ 1841400 w 1904760"/>
                  <a:gd name="textAreaTop" fmla="*/ 290520 h 1295280"/>
                  <a:gd name="textAreaBottom" fmla="*/ 438120 h 1295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6079"/>
                    </a:moveTo>
                    <a:lnTo>
                      <a:pt x="18078" y="0"/>
                    </a:lnTo>
                    <a:lnTo>
                      <a:pt x="18078" y="4846"/>
                    </a:lnTo>
                    <a:lnTo>
                      <a:pt x="12427" y="4846"/>
                    </a:lnTo>
                    <a:cubicBezTo>
                      <a:pt x="5564" y="4846"/>
                      <a:pt x="0" y="8120"/>
                      <a:pt x="0" y="12158"/>
                    </a:cubicBezTo>
                    <a:lnTo>
                      <a:pt x="0" y="21600"/>
                    </a:lnTo>
                    <a:lnTo>
                      <a:pt x="2521" y="21600"/>
                    </a:lnTo>
                    <a:lnTo>
                      <a:pt x="2521" y="12158"/>
                    </a:lnTo>
                    <a:cubicBezTo>
                      <a:pt x="2521" y="9482"/>
                      <a:pt x="6956" y="7312"/>
                      <a:pt x="12427" y="7312"/>
                    </a:cubicBezTo>
                    <a:lnTo>
                      <a:pt x="18078" y="7312"/>
                    </a:lnTo>
                    <a:lnTo>
                      <a:pt x="18078" y="12158"/>
                    </a:lnTo>
                    <a:lnTo>
                      <a:pt x="21600" y="6079"/>
                    </a:lnTo>
                    <a:close/>
                  </a:path>
                </a:pathLst>
              </a:custGeom>
              <a:noFill/>
              <a:ln w="9360">
                <a:solidFill>
                  <a:srgbClr val="8f210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8f210b"/>
                  </a:solidFill>
                  <a:latin typeface="Albertus Medium"/>
                </a:endParaRPr>
              </a:p>
            </p:txBody>
          </p:sp>
          <p:sp>
            <p:nvSpPr>
              <p:cNvPr id="1191" name="Text Box 1035"/>
              <p:cNvSpPr/>
              <p:nvPr/>
            </p:nvSpPr>
            <p:spPr>
              <a:xfrm>
                <a:off x="3094560" y="3047760"/>
                <a:ext cx="1161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700"/>
                  </a:spcBef>
                  <a:buClr>
                    <a:srgbClr val="a3ce82"/>
                  </a:buClr>
                  <a:buSzPct val="5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8f210b"/>
                    </a:solidFill>
                    <a:latin typeface="Albertus Medium"/>
                  </a:rPr>
                  <a:t>Food</a:t>
                </a:r>
                <a:endParaRPr b="0" lang="en-US" sz="2800" spc="-1" strike="noStrike">
                  <a:solidFill>
                    <a:srgbClr val="8f210b"/>
                  </a:solidFill>
                  <a:latin typeface="Albertus Medium"/>
                </a:endParaRPr>
              </a:p>
            </p:txBody>
          </p:sp>
          <p:sp>
            <p:nvSpPr>
              <p:cNvPr id="1192" name="Text Box 1057"/>
              <p:cNvSpPr/>
              <p:nvPr/>
            </p:nvSpPr>
            <p:spPr>
              <a:xfrm>
                <a:off x="1467000" y="3200400"/>
                <a:ext cx="326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8f210b"/>
                    </a:solidFill>
                    <a:latin typeface="Albertus Medium"/>
                  </a:rPr>
                  <a:t>A</a:t>
                </a:r>
                <a:endParaRPr b="0" lang="en-US" sz="1800" spc="-1" strike="noStrike">
                  <a:solidFill>
                    <a:srgbClr val="8f210b"/>
                  </a:solidFill>
                  <a:latin typeface="Albertus Medium"/>
                </a:endParaRPr>
              </a:p>
            </p:txBody>
          </p:sp>
        </p:grpSp>
        <p:sp>
          <p:nvSpPr>
            <p:cNvPr id="1193" name="Text Box 1060"/>
            <p:cNvSpPr/>
            <p:nvPr/>
          </p:nvSpPr>
          <p:spPr>
            <a:xfrm>
              <a:off x="2142000" y="5715000"/>
              <a:ext cx="1629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700"/>
                </a:spcBef>
                <a:buClr>
                  <a:srgbClr val="a3ce82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8f210b"/>
                  </a:solidFill>
                  <a:latin typeface="Albertus Medium"/>
                </a:rPr>
                <a:t>Phase 1</a:t>
              </a: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grpSp>
        <p:nvGrpSpPr>
          <p:cNvPr id="1194" name="Group 1067"/>
          <p:cNvGrpSpPr/>
          <p:nvPr/>
        </p:nvGrpSpPr>
        <p:grpSpPr>
          <a:xfrm>
            <a:off x="4469760" y="2590920"/>
            <a:ext cx="5128200" cy="3582720"/>
            <a:chOff x="4469760" y="2590920"/>
            <a:chExt cx="5128200" cy="3582720"/>
          </a:xfrm>
        </p:grpSpPr>
        <p:grpSp>
          <p:nvGrpSpPr>
            <p:cNvPr id="1195" name="Group 1064"/>
            <p:cNvGrpSpPr/>
            <p:nvPr/>
          </p:nvGrpSpPr>
          <p:grpSpPr>
            <a:xfrm>
              <a:off x="4572000" y="2590920"/>
              <a:ext cx="5025960" cy="3582720"/>
              <a:chOff x="4572000" y="2590920"/>
              <a:chExt cx="5025960" cy="3582720"/>
            </a:xfrm>
          </p:grpSpPr>
          <p:sp>
            <p:nvSpPr>
              <p:cNvPr id="1196" name="Text Box 1046"/>
              <p:cNvSpPr/>
              <p:nvPr/>
            </p:nvSpPr>
            <p:spPr>
              <a:xfrm>
                <a:off x="7696080" y="3886200"/>
                <a:ext cx="190188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8f210b"/>
                    </a:solidFill>
                    <a:latin typeface="Albertus Medium"/>
                  </a:rPr>
                  <a:t>D: New alley to original food source</a:t>
                </a:r>
                <a:endParaRPr b="0" lang="en-US" sz="1800" spc="-1" strike="noStrike">
                  <a:solidFill>
                    <a:srgbClr val="8f210b"/>
                  </a:solidFill>
                  <a:latin typeface="Albertus Medium"/>
                </a:endParaRPr>
              </a:p>
            </p:txBody>
          </p:sp>
          <p:grpSp>
            <p:nvGrpSpPr>
              <p:cNvPr id="1197" name="Group 1063"/>
              <p:cNvGrpSpPr/>
              <p:nvPr/>
            </p:nvGrpSpPr>
            <p:grpSpPr>
              <a:xfrm>
                <a:off x="4572000" y="2590920"/>
                <a:ext cx="3798720" cy="3582720"/>
                <a:chOff x="4572000" y="2590920"/>
                <a:chExt cx="3798720" cy="3582720"/>
              </a:xfrm>
            </p:grpSpPr>
            <p:grpSp>
              <p:nvGrpSpPr>
                <p:cNvPr id="1198" name="Group 1059"/>
                <p:cNvGrpSpPr/>
                <p:nvPr/>
              </p:nvGrpSpPr>
              <p:grpSpPr>
                <a:xfrm>
                  <a:off x="4572000" y="2590920"/>
                  <a:ext cx="3798720" cy="3352680"/>
                  <a:chOff x="4572000" y="2590920"/>
                  <a:chExt cx="3798720" cy="3352680"/>
                </a:xfrm>
              </p:grpSpPr>
              <p:sp>
                <p:nvSpPr>
                  <p:cNvPr id="1199" name="Oval 1038"/>
                  <p:cNvSpPr/>
                  <p:nvPr/>
                </p:nvSpPr>
                <p:spPr>
                  <a:xfrm>
                    <a:off x="4876560" y="4419720"/>
                    <a:ext cx="1447920" cy="1523880"/>
                  </a:xfrm>
                  <a:prstGeom prst="ellipse">
                    <a:avLst/>
                  </a:prstGeom>
                  <a:noFill/>
                  <a:ln w="9360">
                    <a:solidFill>
                      <a:srgbClr val="8f210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spcBef>
                        <a:spcPts val="700"/>
                      </a:spcBef>
                      <a:buClr>
                        <a:srgbClr val="a3ce82"/>
                      </a:buClr>
                      <a:buSzPct val="55000"/>
                      <a:buFont typeface="Wingdings" charset="2"/>
                      <a:buChar char="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0" name="AutoShape 1040"/>
                  <p:cNvSpPr/>
                  <p:nvPr/>
                </p:nvSpPr>
                <p:spPr>
                  <a:xfrm rot="20100000">
                    <a:off x="4952520" y="3809880"/>
                    <a:ext cx="380880" cy="762120"/>
                  </a:xfrm>
                  <a:prstGeom prst="upArrow">
                    <a:avLst>
                      <a:gd name="adj1" fmla="val 46259"/>
                      <a:gd name="adj2" fmla="val 0"/>
                    </a:avLst>
                  </a:prstGeom>
                  <a:noFill/>
                  <a:ln w="9360">
                    <a:solidFill>
                      <a:srgbClr val="8f210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spcBef>
                        <a:spcPts val="700"/>
                      </a:spcBef>
                      <a:buClr>
                        <a:srgbClr val="a3ce82"/>
                      </a:buClr>
                      <a:buSzPct val="55000"/>
                      <a:buFont typeface="Wingdings" charset="2"/>
                      <a:buChar char="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1" name="AutoShape 1041"/>
                  <p:cNvSpPr/>
                  <p:nvPr/>
                </p:nvSpPr>
                <p:spPr>
                  <a:xfrm rot="1500000">
                    <a:off x="5943600" y="3809520"/>
                    <a:ext cx="304560" cy="762120"/>
                  </a:xfrm>
                  <a:prstGeom prst="upArrow">
                    <a:avLst>
                      <a:gd name="adj1" fmla="val 60111"/>
                      <a:gd name="adj2" fmla="val 0"/>
                    </a:avLst>
                  </a:prstGeom>
                  <a:noFill/>
                  <a:ln w="9360">
                    <a:solidFill>
                      <a:srgbClr val="8f210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spcBef>
                        <a:spcPts val="700"/>
                      </a:spcBef>
                      <a:buClr>
                        <a:srgbClr val="a3ce82"/>
                      </a:buClr>
                      <a:buSzPct val="55000"/>
                      <a:buFont typeface="Wingdings" charset="2"/>
                      <a:buChar char="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2" name="AutoShape 1042"/>
                  <p:cNvSpPr/>
                  <p:nvPr/>
                </p:nvSpPr>
                <p:spPr>
                  <a:xfrm>
                    <a:off x="5467320" y="3705120"/>
                    <a:ext cx="304560" cy="762120"/>
                  </a:xfrm>
                  <a:prstGeom prst="upArrow">
                    <a:avLst>
                      <a:gd name="adj1" fmla="val 60111"/>
                      <a:gd name="adj2" fmla="val 0"/>
                    </a:avLst>
                  </a:prstGeom>
                  <a:noFill/>
                  <a:ln w="9360">
                    <a:solidFill>
                      <a:srgbClr val="8f210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spcBef>
                        <a:spcPts val="700"/>
                      </a:spcBef>
                      <a:buClr>
                        <a:srgbClr val="a3ce82"/>
                      </a:buClr>
                      <a:buSzPct val="55000"/>
                      <a:buFont typeface="Wingdings" charset="2"/>
                      <a:buChar char="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3" name="AutoShape 1043"/>
                  <p:cNvSpPr/>
                  <p:nvPr/>
                </p:nvSpPr>
                <p:spPr>
                  <a:xfrm rot="2700000">
                    <a:off x="6666840" y="3086280"/>
                    <a:ext cx="457200" cy="2057400"/>
                  </a:xfrm>
                  <a:prstGeom prst="upArrow">
                    <a:avLst>
                      <a:gd name="adj1" fmla="val 50000"/>
                      <a:gd name="adj2" fmla="val 112500"/>
                    </a:avLst>
                  </a:prstGeom>
                  <a:noFill/>
                  <a:ln w="9360">
                    <a:solidFill>
                      <a:srgbClr val="8f210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spcBef>
                        <a:spcPts val="700"/>
                      </a:spcBef>
                      <a:buClr>
                        <a:srgbClr val="a3ce82"/>
                      </a:buClr>
                      <a:buSzPct val="55000"/>
                      <a:buFont typeface="Wingdings" charset="2"/>
                      <a:buChar char="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4" name="Text Box 1045"/>
                  <p:cNvSpPr/>
                  <p:nvPr/>
                </p:nvSpPr>
                <p:spPr>
                  <a:xfrm>
                    <a:off x="7209000" y="3352680"/>
                    <a:ext cx="116172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spcBef>
                        <a:spcPts val="700"/>
                      </a:spcBef>
                      <a:buClr>
                        <a:srgbClr val="a3ce82"/>
                      </a:buClr>
                      <a:buSzPct val="55000"/>
                      <a:buFont typeface="Wingdings" charset="2"/>
                      <a:buChar char="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800" spc="-1" strike="noStrike">
                        <a:solidFill>
                          <a:srgbClr val="8f210b"/>
                        </a:solidFill>
                        <a:latin typeface="Albertus Medium"/>
                      </a:rPr>
                      <a:t>Food</a:t>
                    </a:r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5" name="Text Box 1047"/>
                  <p:cNvSpPr/>
                  <p:nvPr/>
                </p:nvSpPr>
                <p:spPr>
                  <a:xfrm>
                    <a:off x="5505480" y="3276720"/>
                    <a:ext cx="3268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spcBef>
                        <a:spcPts val="4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8f210b"/>
                        </a:solidFill>
                        <a:latin typeface="Albertus Medium"/>
                      </a:rPr>
                      <a:t>A</a:t>
                    </a:r>
                    <a:endParaRPr b="0" lang="en-US" sz="1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6" name="Text Box 1048"/>
                  <p:cNvSpPr/>
                  <p:nvPr/>
                </p:nvSpPr>
                <p:spPr>
                  <a:xfrm>
                    <a:off x="6103080" y="3505320"/>
                    <a:ext cx="32544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spcBef>
                        <a:spcPts val="4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8f210b"/>
                        </a:solidFill>
                        <a:latin typeface="Albertus Medium"/>
                      </a:rPr>
                      <a:t>C</a:t>
                    </a:r>
                    <a:endParaRPr b="0" lang="en-US" sz="1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7" name="Text Box 1049"/>
                  <p:cNvSpPr/>
                  <p:nvPr/>
                </p:nvSpPr>
                <p:spPr>
                  <a:xfrm>
                    <a:off x="4572000" y="3505320"/>
                    <a:ext cx="4600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4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8f210b"/>
                        </a:solidFill>
                        <a:latin typeface="Albertus Medium"/>
                      </a:rPr>
                      <a:t>B</a:t>
                    </a:r>
                    <a:endParaRPr b="0" lang="en-US" sz="1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8" name="Text Box 1052"/>
                  <p:cNvSpPr/>
                  <p:nvPr/>
                </p:nvSpPr>
                <p:spPr>
                  <a:xfrm>
                    <a:off x="7465680" y="3048120"/>
                    <a:ext cx="3484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spcBef>
                        <a:spcPts val="4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8f210b"/>
                        </a:solidFill>
                        <a:latin typeface="Albertus Medium"/>
                      </a:rPr>
                      <a:t>D</a:t>
                    </a:r>
                    <a:endParaRPr b="0" lang="en-US" sz="1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9" name="Line 1053"/>
                  <p:cNvSpPr/>
                  <p:nvPr/>
                </p:nvSpPr>
                <p:spPr>
                  <a:xfrm flipH="1" flipV="1">
                    <a:off x="7009920" y="4114800"/>
                    <a:ext cx="685800" cy="5335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10" name="Text Box 1054"/>
                  <p:cNvSpPr/>
                  <p:nvPr/>
                </p:nvSpPr>
                <p:spPr>
                  <a:xfrm>
                    <a:off x="5140800" y="2590920"/>
                    <a:ext cx="102960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spcBef>
                        <a:spcPts val="4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8f210b"/>
                        </a:solidFill>
                        <a:latin typeface="Albertus Medium"/>
                      </a:rPr>
                      <a:t>Blocked</a:t>
                    </a:r>
                    <a:endParaRPr b="0" lang="en-US" sz="1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11" name="Line 1056"/>
                  <p:cNvSpPr/>
                  <p:nvPr/>
                </p:nvSpPr>
                <p:spPr>
                  <a:xfrm>
                    <a:off x="5410080" y="2895480"/>
                    <a:ext cx="228600" cy="838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</p:grpSp>
            <p:sp>
              <p:nvSpPr>
                <p:cNvPr id="1212" name="Text Box 1061"/>
                <p:cNvSpPr/>
                <p:nvPr/>
              </p:nvSpPr>
              <p:spPr>
                <a:xfrm>
                  <a:off x="6210720" y="5653080"/>
                  <a:ext cx="16297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spcBef>
                      <a:spcPts val="700"/>
                    </a:spcBef>
                    <a:buClr>
                      <a:srgbClr val="a3ce82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8f210b"/>
                      </a:solidFill>
                      <a:latin typeface="Albertus Medium"/>
                    </a:rPr>
                    <a:t>Phase 2</a:t>
                  </a:r>
                  <a:endParaRPr b="0" lang="en-US" sz="2800" spc="-1" strike="noStrike">
                    <a:solidFill>
                      <a:srgbClr val="8f210b"/>
                    </a:solidFill>
                    <a:latin typeface="Albertus Medium"/>
                  </a:endParaRPr>
                </a:p>
              </p:txBody>
            </p:sp>
          </p:grpSp>
        </p:grpSp>
        <p:sp>
          <p:nvSpPr>
            <p:cNvPr id="1213" name="Text Box 1065"/>
            <p:cNvSpPr/>
            <p:nvPr/>
          </p:nvSpPr>
          <p:spPr>
            <a:xfrm>
              <a:off x="4469760" y="3186000"/>
              <a:ext cx="609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f210b"/>
                  </a:solidFill>
                  <a:latin typeface="Albertus Medium"/>
                </a:rPr>
                <a:t>New</a:t>
              </a:r>
              <a:endParaRPr b="0" lang="en-US" sz="16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14" name="Text Box 1066"/>
            <p:cNvSpPr/>
            <p:nvPr/>
          </p:nvSpPr>
          <p:spPr>
            <a:xfrm>
              <a:off x="5954040" y="3200400"/>
              <a:ext cx="609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f210b"/>
                  </a:solidFill>
                  <a:latin typeface="Albertus Medium"/>
                </a:rPr>
                <a:t>New</a:t>
              </a:r>
              <a:endParaRPr b="0" lang="en-US" sz="16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th Octo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16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17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362A1-2964-49C9-BEF2-28810E281364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Chi-Squared Goodness of Fit Test by hand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/>
          </p:nvPr>
        </p:nvSpPr>
        <p:spPr>
          <a:xfrm>
            <a:off x="1280880" y="3123720"/>
            <a:ext cx="8126280" cy="300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eceaac"/>
              </a:buClr>
              <a:buSzPct val="5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Tolman, Ritchie and Kalish (1946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eceaac"/>
              </a:buClr>
              <a:buSzPct val="5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X</a:t>
            </a:r>
            <a:r>
              <a:rPr b="0" lang="en-US" sz="1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=(4-8)</a:t>
            </a:r>
            <a:r>
              <a:rPr b="0" lang="en-US" sz="1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/8+(5-8)</a:t>
            </a:r>
            <a:r>
              <a:rPr b="0" lang="en-US" sz="1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/8+(8-8)</a:t>
            </a:r>
            <a:r>
              <a:rPr b="0" lang="en-US" sz="1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/8+(15-8)</a:t>
            </a:r>
            <a:r>
              <a:rPr b="0" lang="en-US" sz="1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/8 = 9.25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eceaac"/>
              </a:buClr>
              <a:buSzPct val="5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The 95% percentile of the </a:t>
            </a:r>
            <a:r>
              <a:rPr b="0" lang="en-US" sz="1800" spc="-1" strike="noStrike">
                <a:solidFill>
                  <a:srgbClr val="8f210b"/>
                </a:solidFill>
                <a:latin typeface="Symbol"/>
                <a:ea typeface="Symbol"/>
              </a:rPr>
              <a:t></a:t>
            </a:r>
            <a:r>
              <a:rPr b="0" lang="en-US" sz="1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(3) distribution is 7.82 (from tables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499"/>
              </a:spcBef>
              <a:spcAft>
                <a:spcPts val="499"/>
              </a:spcAft>
              <a:buClr>
                <a:srgbClr val="ee92b7"/>
              </a:buClr>
              <a:buSzPct val="55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P &lt; 0.05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499"/>
              </a:spcBef>
              <a:spcAft>
                <a:spcPts val="499"/>
              </a:spcAft>
              <a:buClr>
                <a:srgbClr val="ee92b7"/>
              </a:buClr>
              <a:buSzPct val="55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Exact P = 0.0261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499"/>
              </a:spcBef>
              <a:spcAft>
                <a:spcPts val="499"/>
              </a:spcAft>
              <a:buClr>
                <a:srgbClr val="a3dc96"/>
              </a:buClr>
              <a:buSzPct val="50000"/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f210b"/>
                </a:solidFill>
                <a:latin typeface="Albertus Medium"/>
              </a:rPr>
              <a:t>Via MATLAB: 1-chi2cdf(9.25,3)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eceaac"/>
              </a:buClr>
              <a:buSzPct val="5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We reject the Null Hypothesis that Alleys are chosen equiprobably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1220" name="Object 1030"/>
          <p:cNvGraphicFramePr/>
          <p:nvPr/>
        </p:nvGraphicFramePr>
        <p:xfrm>
          <a:off x="1733400" y="1981080"/>
          <a:ext cx="4125960" cy="2484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21" name="Object 103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33400" y="1981080"/>
                    <a:ext cx="4125960" cy="248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th Octo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23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24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C0274-6E35-458E-8B90-DB4F1BFC4F4D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Chi-Square(d) Goodness of Fit Test by SPS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26" name="PlaceHolder 2"/>
          <p:cNvSpPr>
            <a:spLocks noGrp="1"/>
          </p:cNvSpPr>
          <p:nvPr>
            <p:ph/>
          </p:nvPr>
        </p:nvSpPr>
        <p:spPr>
          <a:xfrm>
            <a:off x="1280880" y="2017800"/>
            <a:ext cx="412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Enter the dat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alley’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51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nominal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349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1,2,3,4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choices’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51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frequencie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349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4,5,8,15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27" name="Picture 1031" descr=""/>
          <p:cNvPicPr/>
          <p:nvPr/>
        </p:nvPicPr>
        <p:blipFill>
          <a:blip r:embed="rId1"/>
          <a:stretch/>
        </p:blipFill>
        <p:spPr>
          <a:xfrm>
            <a:off x="5694480" y="2133720"/>
            <a:ext cx="3187440" cy="30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th Octo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29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30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6E9D9-9FE8-46B3-9BB7-6DE2E16CDB44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Chi-Square(d) Goodness of Fit Test by SPS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32" name="PlaceHolder 2"/>
          <p:cNvSpPr>
            <a:spLocks noGrp="1"/>
          </p:cNvSpPr>
          <p:nvPr>
            <p:ph/>
          </p:nvPr>
        </p:nvSpPr>
        <p:spPr>
          <a:xfrm>
            <a:off x="1280880" y="2017800"/>
            <a:ext cx="412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Give the alleys label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1 = ‘A’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2 = ‘B’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etc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33" name="Picture 5" descr=""/>
          <p:cNvPicPr/>
          <p:nvPr/>
        </p:nvPicPr>
        <p:blipFill>
          <a:blip r:embed="rId1"/>
          <a:stretch/>
        </p:blipFill>
        <p:spPr>
          <a:xfrm>
            <a:off x="6024600" y="2209680"/>
            <a:ext cx="2701800" cy="12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th Octo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6AAF8-C6F9-4CCC-93D6-219F77A02D01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515f7b"/>
                </a:solidFill>
                <a:latin typeface="Albertus Medium"/>
              </a:rPr>
              <a:t>The Naming of Part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ategorical Dat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requency Tabl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Chi-Squared Goodness-of-Fit Tes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Chi-squared Distribut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Binomial Tes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Chi-squared test for associat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impson, Cohen and McNemar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th Octo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35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36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D5B67-BB83-4372-93B1-91476E23E2CE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Chi-Square(d) Goodness of Fit Test by SPS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1280880" y="2017800"/>
            <a:ext cx="412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Data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Weight Cases …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lect ‘choices’ as this contains the frequency dat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39" name="Picture 1030" descr=""/>
          <p:cNvPicPr/>
          <p:nvPr/>
        </p:nvPicPr>
        <p:blipFill>
          <a:blip r:embed="rId1"/>
          <a:stretch/>
        </p:blipFill>
        <p:spPr>
          <a:xfrm>
            <a:off x="5364000" y="2514600"/>
            <a:ext cx="3970440" cy="13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th Octo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41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42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CCD62-9F59-4911-BF08-887F255AADDC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4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Chi-Square(d) Goodness of Fit Test by SPS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44" name="PlaceHolder 2"/>
          <p:cNvSpPr>
            <a:spLocks noGrp="1"/>
          </p:cNvSpPr>
          <p:nvPr>
            <p:ph/>
          </p:nvPr>
        </p:nvSpPr>
        <p:spPr>
          <a:xfrm>
            <a:off x="533160" y="2057400"/>
            <a:ext cx="412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nalyze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Non-parametric statistics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Chi-square ..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Enter the hypothetical probabilities …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or the expected frequenci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45" name="Picture 5" descr=""/>
          <p:cNvPicPr/>
          <p:nvPr/>
        </p:nvPicPr>
        <p:blipFill>
          <a:blip r:embed="rId1"/>
          <a:stretch/>
        </p:blipFill>
        <p:spPr>
          <a:xfrm>
            <a:off x="4951440" y="1371600"/>
            <a:ext cx="4019400" cy="2327400"/>
          </a:xfrm>
          <a:prstGeom prst="rect">
            <a:avLst/>
          </a:prstGeom>
          <a:ln w="0">
            <a:noFill/>
          </a:ln>
        </p:spPr>
      </p:pic>
      <p:pic>
        <p:nvPicPr>
          <p:cNvPr id="1246" name="Picture 6" descr=""/>
          <p:cNvPicPr/>
          <p:nvPr/>
        </p:nvPicPr>
        <p:blipFill>
          <a:blip r:embed="rId2"/>
          <a:stretch/>
        </p:blipFill>
        <p:spPr>
          <a:xfrm>
            <a:off x="4648320" y="3429000"/>
            <a:ext cx="5013360" cy="29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Date Placeholder 2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th Octo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48" name="Footer Placeholder 3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49" name="Slide Number Placeholder 4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03D5F-EFF1-4A05-B0B1-27EFF35C17A9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Output from Chi-Square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51" name="Rectangle 4"/>
          <p:cNvSpPr/>
          <p:nvPr/>
        </p:nvSpPr>
        <p:spPr>
          <a:xfrm>
            <a:off x="2313360" y="1981080"/>
            <a:ext cx="251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i-Square Tes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52" name="Picture 5" descr=""/>
          <p:cNvPicPr/>
          <p:nvPr/>
        </p:nvPicPr>
        <p:blipFill>
          <a:blip r:embed="rId1"/>
          <a:stretch/>
        </p:blipFill>
        <p:spPr>
          <a:xfrm>
            <a:off x="2394000" y="2590920"/>
            <a:ext cx="3870360" cy="1636560"/>
          </a:xfrm>
          <a:prstGeom prst="rect">
            <a:avLst/>
          </a:prstGeom>
          <a:ln w="0">
            <a:noFill/>
          </a:ln>
        </p:spPr>
      </p:pic>
      <p:pic>
        <p:nvPicPr>
          <p:cNvPr id="1253" name="Picture 6" descr=""/>
          <p:cNvPicPr/>
          <p:nvPr/>
        </p:nvPicPr>
        <p:blipFill>
          <a:blip r:embed="rId2"/>
          <a:stretch/>
        </p:blipFill>
        <p:spPr>
          <a:xfrm>
            <a:off x="2394000" y="4419720"/>
            <a:ext cx="3662280" cy="146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th Octo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55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56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D3D0D-64E6-478A-ACB3-3B15487C803D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Chi-Squared (</a:t>
            </a:r>
            <a:r>
              <a:rPr b="0" lang="en-US" sz="4400" spc="-1" strike="noStrike">
                <a:solidFill>
                  <a:srgbClr val="515f7b"/>
                </a:solidFill>
                <a:latin typeface="Symbol"/>
                <a:ea typeface="Symbol"/>
              </a:rPr>
              <a:t></a:t>
            </a:r>
            <a:r>
              <a:rPr b="0" lang="en-US" sz="4000" spc="-1" strike="noStrike" baseline="38000">
                <a:solidFill>
                  <a:srgbClr val="515f7b"/>
                </a:solidFill>
                <a:latin typeface="Albertus Medium"/>
              </a:rPr>
              <a:t>2</a:t>
            </a: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) Distribution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258" name="Picture 7" descr="chisquared"/>
          <p:cNvPicPr/>
          <p:nvPr/>
        </p:nvPicPr>
        <p:blipFill>
          <a:blip r:embed="rId1"/>
          <a:stretch/>
        </p:blipFill>
        <p:spPr>
          <a:xfrm>
            <a:off x="4703760" y="2057400"/>
            <a:ext cx="5010120" cy="3429000"/>
          </a:xfrm>
          <a:prstGeom prst="rect">
            <a:avLst/>
          </a:prstGeom>
          <a:ln w="0">
            <a:noFill/>
          </a:ln>
        </p:spPr>
      </p:pic>
      <p:sp>
        <p:nvSpPr>
          <p:cNvPr id="1259" name="PlaceHolder 2"/>
          <p:cNvSpPr>
            <a:spLocks noGrp="1"/>
          </p:cNvSpPr>
          <p:nvPr>
            <p:ph/>
          </p:nvPr>
        </p:nvSpPr>
        <p:spPr>
          <a:xfrm>
            <a:off x="412920" y="1981080"/>
            <a:ext cx="4125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hape determined by ‘degrees of freedom’ (df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J-shaped for df = 1 or 2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Unimodal for df &gt; 2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Mode = df - 2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Mean = df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th Octo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61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62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95EA7-EF8A-492A-B920-91427BE3B07D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hance performance and the Binomial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6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n a multiple choice tes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2-alternative forced choice (2AFC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p(correct) = p(error) = 0.5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4AFC …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p(correct) = 0.25, p(error) = 0.75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Was the subject just guessing when she got 14/20 in a 2AFC test?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th Octo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66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67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0DDD4-BBD1-44DC-9547-625D00D1A0E3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6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Binomial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69" name="PlaceHolder 2"/>
          <p:cNvSpPr>
            <a:spLocks noGrp="1"/>
          </p:cNvSpPr>
          <p:nvPr>
            <p:ph/>
          </p:nvPr>
        </p:nvSpPr>
        <p:spPr>
          <a:xfrm>
            <a:off x="412920" y="2133720"/>
            <a:ext cx="4125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nalyze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Non-Parametric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Binomial Test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70" name="Picture 5" descr=""/>
          <p:cNvPicPr/>
          <p:nvPr/>
        </p:nvPicPr>
        <p:blipFill>
          <a:blip r:embed="rId1"/>
          <a:stretch/>
        </p:blipFill>
        <p:spPr>
          <a:xfrm>
            <a:off x="4869000" y="2590920"/>
            <a:ext cx="4394160" cy="24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Date Placeholder 2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th Octo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72" name="Footer Placeholder 3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73" name="Slide Number Placeholder 4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463AC-5773-4086-B241-02533464C554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7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Output of Binomial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275" name="Picture 3" descr=""/>
          <p:cNvPicPr/>
          <p:nvPr/>
        </p:nvPicPr>
        <p:blipFill>
          <a:blip r:embed="rId1"/>
          <a:stretch/>
        </p:blipFill>
        <p:spPr>
          <a:xfrm>
            <a:off x="2228760" y="2133720"/>
            <a:ext cx="6297840" cy="1261800"/>
          </a:xfrm>
          <a:prstGeom prst="rect">
            <a:avLst/>
          </a:prstGeom>
          <a:ln w="0">
            <a:noFill/>
          </a:ln>
        </p:spPr>
      </p:pic>
      <p:sp>
        <p:nvSpPr>
          <p:cNvPr id="1276" name="Text Box 4"/>
          <p:cNvSpPr/>
          <p:nvPr/>
        </p:nvSpPr>
        <p:spPr>
          <a:xfrm>
            <a:off x="1303200" y="3952800"/>
            <a:ext cx="7691400" cy="233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 data (14/20) are consistent with chance performanc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onfidence interval approach can be a more informative alternativ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45720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Date Placeholder 2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th Octo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78" name="Footer Placeholder 3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79" name="Slide Number Placeholder 4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8F630-3357-4D8C-95DE-A1E74B6C4634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onfidence Intervals for Binomial Proportion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81" name="Text Box 4"/>
          <p:cNvSpPr/>
          <p:nvPr/>
        </p:nvSpPr>
        <p:spPr>
          <a:xfrm>
            <a:off x="907920" y="2438280"/>
            <a:ext cx="7691400" cy="37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X=14, N=20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95% CI (WALD)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(0.499,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0.901)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	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95% CI (WILSON)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(0.481,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0.855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Consistent with the P values, the Confidence Interval only </a:t>
            </a:r>
            <a:r>
              <a:rPr b="1" i="1" lang="en-US" sz="2000" spc="-1" strike="noStrike">
                <a:solidFill>
                  <a:srgbClr val="000000"/>
                </a:solidFill>
                <a:latin typeface="Albertus Medium"/>
              </a:rPr>
              <a:t>just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 includes 0.5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lbertus Medium"/>
              </a:rPr>
              <a:t>(Calculated using a spreadsheet available on the CBU statistics website at </a:t>
            </a:r>
            <a:r>
              <a:rPr b="1" lang="en-US" sz="1600" spc="-1" strike="noStrike" u="sng">
                <a:solidFill>
                  <a:srgbClr val="a3ce82"/>
                </a:solidFill>
                <a:uFillTx/>
                <a:latin typeface="Times New Roman"/>
                <a:hlinkClick r:id="rId1"/>
              </a:rPr>
              <a:t>http://imaging.mrc-cbu.cam.ac.uk/statswiki/FAQ/BinomialConfidence</a:t>
            </a:r>
            <a:r>
              <a:rPr b="1" lang="en-US" sz="1600" spc="-1" strike="noStrike">
                <a:solidFill>
                  <a:srgbClr val="000000"/>
                </a:solidFill>
                <a:latin typeface="Albertus Medium"/>
              </a:rPr>
              <a:t>. which also features a similar solution to the difference in two (in)dependent proportions)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th Octo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83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84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696E4-6AE0-46C5-A3C7-CE8644EAFF61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Noah’s Ark, </a:t>
            </a:r>
            <a:r>
              <a:rPr b="0" lang="en-US" sz="2000" spc="-1" strike="noStrike">
                <a:solidFill>
                  <a:srgbClr val="515f7b"/>
                </a:solidFill>
                <a:latin typeface="Albertus Medium"/>
              </a:rPr>
              <a:t>or The World of Two by Two</a:t>
            </a:r>
            <a:endParaRPr b="0" lang="en-US" sz="20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Pearson’s Chi-squared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35480" indent="-28296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Yates’ Continuity Correct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39480" indent="-3394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sher’s Exact Tes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39480" indent="-3394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Odds and Odds Ratio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35480" indent="-28296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log odds and log odds ratio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39480" indent="-3394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nsitivity and Specificity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35480" indent="-28296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Gerd Gigerenzer (2002). </a:t>
            </a:r>
            <a:r>
              <a:rPr b="0" i="1" lang="en-US" sz="2400" spc="-1" strike="noStrike">
                <a:solidFill>
                  <a:srgbClr val="8f210b"/>
                </a:solidFill>
                <a:latin typeface="Albertus Medium"/>
              </a:rPr>
              <a:t>Reckoning with Risk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, Penguin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35480" indent="-28296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ignal Detection Theor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87" name="Picture 6" descr=""/>
          <p:cNvPicPr/>
          <p:nvPr/>
        </p:nvPicPr>
        <p:blipFill>
          <a:blip r:embed="rId1"/>
          <a:stretch/>
        </p:blipFill>
        <p:spPr>
          <a:xfrm>
            <a:off x="7467480" y="2743200"/>
            <a:ext cx="1197000" cy="184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Date Placeholder 2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th Octo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89" name="Footer Placeholder 3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90" name="Slide Number Placeholder 4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F6ABF-7677-4A43-BD47-25E3680F3E1D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Signal Detection Theory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292" name="Picture 3" descr=""/>
          <p:cNvPicPr/>
          <p:nvPr/>
        </p:nvPicPr>
        <p:blipFill>
          <a:blip r:embed="rId1"/>
          <a:stretch/>
        </p:blipFill>
        <p:spPr>
          <a:xfrm>
            <a:off x="4648320" y="1905120"/>
            <a:ext cx="3921120" cy="2654280"/>
          </a:xfrm>
          <a:prstGeom prst="rect">
            <a:avLst/>
          </a:prstGeom>
          <a:ln w="0">
            <a:noFill/>
          </a:ln>
        </p:spPr>
      </p:pic>
      <p:sp>
        <p:nvSpPr>
          <p:cNvPr id="1293" name="Text Box 4"/>
          <p:cNvSpPr/>
          <p:nvPr/>
        </p:nvSpPr>
        <p:spPr>
          <a:xfrm>
            <a:off x="457200" y="2590920"/>
            <a:ext cx="3200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8f210b"/>
                </a:solidFill>
                <a:latin typeface="Verdana"/>
              </a:rPr>
              <a:t>Example 2a from Macmillan &amp; Creelman, 1991, p.31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94" name="Picture 5" descr=""/>
          <p:cNvPicPr/>
          <p:nvPr/>
        </p:nvPicPr>
        <p:blipFill>
          <a:blip r:embed="rId2"/>
          <a:stretch/>
        </p:blipFill>
        <p:spPr>
          <a:xfrm>
            <a:off x="1905120" y="4724280"/>
            <a:ext cx="3665520" cy="136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th Octo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4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5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F703B-BE91-4A92-AAC9-3A80EA160152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SPSS procedures that help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f210b"/>
                </a:solidFill>
                <a:latin typeface="Albertus Medium"/>
              </a:rPr>
              <a:t>FREQUENCI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or information about one classification at a tim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f210b"/>
                </a:solidFill>
                <a:latin typeface="Albertus Medium"/>
              </a:rPr>
              <a:t>CROSSTAB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or combined information about more than one classification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f210b"/>
                </a:solidFill>
                <a:latin typeface="Albertus Medium"/>
              </a:rPr>
              <a:t>CHI-SQUAR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or comparing observed frequencies with hypothetical ones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f210b"/>
                </a:solidFill>
                <a:latin typeface="Albertus Medium"/>
              </a:rPr>
              <a:t>BINOMIA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or testing whether performance differs from ‘chance’ </a:t>
            </a:r>
            <a:r>
              <a:rPr b="0" i="1" lang="en-US" sz="1400" spc="-1" strike="noStrike">
                <a:solidFill>
                  <a:srgbClr val="8f210b"/>
                </a:solidFill>
                <a:latin typeface="Albertus Medium"/>
              </a:rPr>
              <a:t>(whatever that is)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th Octo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96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97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8F5BD-6202-4F52-B1EC-988A2B90A8A4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515f7b"/>
                </a:solidFill>
                <a:latin typeface="Albertus Medium"/>
              </a:rPr>
              <a:t>Sensitivity and Specificity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9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esting for the presence of a Disease in a person from a populat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nsitivity: Probability that a Positive result means when the Disease is present - P(+|D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pecificity: Probability that a person who tests Positive has the Disease – P(D|+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Influenced by the Prevalence of the Disease in the population: P(D)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f210b"/>
                </a:solidFill>
                <a:latin typeface="Albertus Medium"/>
              </a:rPr>
              <a:t>See Martin Bland: An Introduction to Medical Statistic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f210b"/>
                </a:solidFill>
                <a:latin typeface="Albertus Medium"/>
              </a:rPr>
              <a:t>http://imaging.mrc-cbu.cam.ac.uk/statswiki/FAQ/Bay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th Octo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01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02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C4074-8148-479D-A248-3C2814091B1E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0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Simpson’s Paradox: example (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0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Hospital I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1305" name="Object 0"/>
          <p:cNvGraphicFramePr/>
          <p:nvPr/>
        </p:nvGraphicFramePr>
        <p:xfrm>
          <a:off x="3135240" y="2895480"/>
          <a:ext cx="4656240" cy="2630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06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35240" y="2895480"/>
                    <a:ext cx="4656240" cy="263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7" name="Text Box 5"/>
          <p:cNvSpPr/>
          <p:nvPr/>
        </p:nvSpPr>
        <p:spPr>
          <a:xfrm>
            <a:off x="1403280" y="5105520"/>
            <a:ext cx="815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The New treatment is positively associated with recovery (Recovery rate 10.6% vs 4.8%)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th Octo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0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1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A57E9-FD98-4FDB-B555-B8F6D1C60A22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Simpson’s Paradox: example (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1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Hospital II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1313" name="Object 4"/>
          <p:cNvGraphicFramePr/>
          <p:nvPr/>
        </p:nvGraphicFramePr>
        <p:xfrm>
          <a:off x="3500280" y="2898720"/>
          <a:ext cx="4884840" cy="2629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1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0280" y="2898720"/>
                    <a:ext cx="4884840" cy="262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5" name="Text Box 5"/>
          <p:cNvSpPr/>
          <p:nvPr/>
        </p:nvSpPr>
        <p:spPr>
          <a:xfrm>
            <a:off x="1403280" y="5181480"/>
            <a:ext cx="815508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Again, the New treatment is positively associated with recovery (Recovery rate 98.8% vs 67.2%)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th Octo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17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18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8118E-D027-4C31-8481-6DECB475C850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Simpson’s Paradox: example (I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ombined data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1321" name="Object 4"/>
          <p:cNvGraphicFramePr/>
          <p:nvPr/>
        </p:nvGraphicFramePr>
        <p:xfrm>
          <a:off x="4381560" y="2819520"/>
          <a:ext cx="4113000" cy="3116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2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81560" y="2819520"/>
                    <a:ext cx="4113000" cy="31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3" name="Text Box 5"/>
          <p:cNvSpPr/>
          <p:nvPr/>
        </p:nvSpPr>
        <p:spPr>
          <a:xfrm>
            <a:off x="1403280" y="5181480"/>
            <a:ext cx="815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When combined, the New treatment is negatively associated with recovery (Recovery rate 35.8% vs 57.9%)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th Octo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25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26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3CF8E-EDC7-4243-A0AF-8EA1C3365463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2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515f7b"/>
                </a:solidFill>
                <a:latin typeface="Albertus Medium"/>
              </a:rPr>
              <a:t>Simpson’s Paradox explained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1328" name="Object 5"/>
          <p:cNvGraphicFramePr/>
          <p:nvPr/>
        </p:nvGraphicFramePr>
        <p:xfrm>
          <a:off x="343080" y="2133720"/>
          <a:ext cx="5016240" cy="3816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2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3080" y="2133720"/>
                    <a:ext cx="5016240" cy="381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0" name="Text Box 7"/>
          <p:cNvSpPr/>
          <p:nvPr/>
        </p:nvSpPr>
        <p:spPr>
          <a:xfrm>
            <a:off x="5599080" y="2637000"/>
            <a:ext cx="3960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 end points of the in-between line are differently weighted averages of the end points of the upper and lower lin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th Octo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32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33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46B45-2A2F-4233-B3E1-02E8D466B188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Measuring agreemen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Kappa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Two judges rate items on the same categorical sca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How well do they agree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Use Crosstabs with two classifying variable having the same categori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lect Kappa under the Statistics options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a3ce82"/>
                </a:solidFill>
                <a:uFillTx/>
                <a:latin typeface="Albertus Medium"/>
                <a:hlinkClick r:id="rId1"/>
              </a:rPr>
              <a:t>http://imaging.mrc-cbu.cam.ac.uk/statswiki/FAQ/kapp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cc"/>
                </a:solidFill>
                <a:latin typeface="Albertus Medium"/>
              </a:rPr>
              <a:t>Alternative kappa (Brennan and Prediger, 1981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th Octo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37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38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E4F9B-411D-48CB-AFAA-0B9FFE35B71B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3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Agreement 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40" name="PlaceHolder 2"/>
          <p:cNvSpPr>
            <a:spLocks noGrp="1"/>
          </p:cNvSpPr>
          <p:nvPr>
            <p:ph/>
          </p:nvPr>
        </p:nvSpPr>
        <p:spPr>
          <a:xfrm>
            <a:off x="1568520" y="4038480"/>
            <a:ext cx="73008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% Agreement is 21/30 = 70% but could be high due to chance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341" name="Picture 5" descr=""/>
          <p:cNvPicPr/>
          <p:nvPr/>
        </p:nvPicPr>
        <p:blipFill>
          <a:blip r:embed="rId1"/>
          <a:stretch/>
        </p:blipFill>
        <p:spPr>
          <a:xfrm>
            <a:off x="3135240" y="2057400"/>
            <a:ext cx="4127400" cy="1490760"/>
          </a:xfrm>
          <a:prstGeom prst="rect">
            <a:avLst/>
          </a:prstGeom>
          <a:ln w="0">
            <a:noFill/>
          </a:ln>
        </p:spPr>
      </p:pic>
      <p:sp>
        <p:nvSpPr>
          <p:cNvPr id="1342" name="Oval 6"/>
          <p:cNvSpPr/>
          <p:nvPr/>
        </p:nvSpPr>
        <p:spPr>
          <a:xfrm>
            <a:off x="8915400" y="121932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3" name="Oval 7"/>
          <p:cNvSpPr/>
          <p:nvPr/>
        </p:nvSpPr>
        <p:spPr>
          <a:xfrm>
            <a:off x="5045040" y="2843280"/>
            <a:ext cx="152280" cy="15228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4" name="Oval 8"/>
          <p:cNvSpPr/>
          <p:nvPr/>
        </p:nvSpPr>
        <p:spPr>
          <a:xfrm>
            <a:off x="5646600" y="2987640"/>
            <a:ext cx="152640" cy="15228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5" name="Oval 9"/>
          <p:cNvSpPr/>
          <p:nvPr/>
        </p:nvSpPr>
        <p:spPr>
          <a:xfrm>
            <a:off x="6248520" y="3124080"/>
            <a:ext cx="152280" cy="15264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th Octo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7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8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9F4CF-39FD-4F4F-A8C5-22E787D84C4D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hance-corrected agreement 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350" name="Picture 6" descr=""/>
          <p:cNvPicPr/>
          <p:nvPr/>
        </p:nvPicPr>
        <p:blipFill>
          <a:blip r:embed="rId1"/>
          <a:stretch/>
        </p:blipFill>
        <p:spPr>
          <a:xfrm>
            <a:off x="1981080" y="2819520"/>
            <a:ext cx="5305680" cy="1360440"/>
          </a:xfrm>
          <a:prstGeom prst="rect">
            <a:avLst/>
          </a:prstGeom>
          <a:ln w="0">
            <a:noFill/>
          </a:ln>
        </p:spPr>
      </p:pic>
      <p:sp>
        <p:nvSpPr>
          <p:cNvPr id="1351" name="Text Box 7"/>
          <p:cNvSpPr/>
          <p:nvPr/>
        </p:nvSpPr>
        <p:spPr>
          <a:xfrm>
            <a:off x="495360" y="4876920"/>
            <a:ext cx="8186760" cy="10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Cohen’s Kappa (</a:t>
            </a:r>
            <a:r>
              <a:rPr b="0" lang="en-US" sz="2000" spc="-1" strike="noStrike">
                <a:solidFill>
                  <a:srgbClr val="8f210b"/>
                </a:solidFill>
                <a:latin typeface="Symbol"/>
                <a:ea typeface="Symbol"/>
              </a:rPr>
              <a:t>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 = 0.473) is chance-corrected: 47.3%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Agreement between the judges is well above chance, but is it good enough?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th Octo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53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54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2A5EF-8AD2-4A90-A04D-78EEC77E986E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5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Measuring chang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56" name="PlaceHolder 2"/>
          <p:cNvSpPr>
            <a:spLocks noGrp="1"/>
          </p:cNvSpPr>
          <p:nvPr>
            <p:ph/>
          </p:nvPr>
        </p:nvSpPr>
        <p:spPr>
          <a:xfrm>
            <a:off x="1320840" y="1980720"/>
            <a:ext cx="8416800" cy="14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 patient with acquired dyslexia does a 40 item picture naming task twice at a 6 month interva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57" name="Rectangle 5"/>
          <p:cNvSpPr/>
          <p:nvPr/>
        </p:nvSpPr>
        <p:spPr>
          <a:xfrm>
            <a:off x="1403280" y="4836960"/>
            <a:ext cx="8417160" cy="14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ccuracy falls from 19/40 to 11/40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29040" indent="-32904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s this a real deterioration, noting that 28/40 items show no change across the two tests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29040" indent="-32904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358" name="Picture 6" descr=""/>
          <p:cNvPicPr/>
          <p:nvPr/>
        </p:nvPicPr>
        <p:blipFill>
          <a:blip r:embed="rId1"/>
          <a:stretch/>
        </p:blipFill>
        <p:spPr>
          <a:xfrm>
            <a:off x="3382920" y="3352680"/>
            <a:ext cx="3565440" cy="1463760"/>
          </a:xfrm>
          <a:prstGeom prst="rect">
            <a:avLst/>
          </a:prstGeom>
          <a:ln w="0">
            <a:noFill/>
          </a:ln>
        </p:spPr>
      </p:pic>
      <p:sp>
        <p:nvSpPr>
          <p:cNvPr id="1359" name="Oval 7"/>
          <p:cNvSpPr/>
          <p:nvPr/>
        </p:nvSpPr>
        <p:spPr>
          <a:xfrm>
            <a:off x="5073480" y="4175280"/>
            <a:ext cx="152640" cy="15228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60" name="Oval 8"/>
          <p:cNvSpPr/>
          <p:nvPr/>
        </p:nvSpPr>
        <p:spPr>
          <a:xfrm>
            <a:off x="5765760" y="4335480"/>
            <a:ext cx="152280" cy="15228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th Octo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62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63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75145-CE6B-4AC5-8A71-83C66157C970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6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McNemar’s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65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4825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This is specifically designed for this type of hypothesi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22200" indent="-32220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Equivalent to a Binomial Test (with p=0.5) of Freq(Correct</a:t>
            </a:r>
            <a:r>
              <a:rPr b="0" lang="en-US" sz="18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Error) vs. Freq(Error</a:t>
            </a:r>
            <a:r>
              <a:rPr b="0" lang="en-US" sz="18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Correct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22200" indent="-32220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In this case 10 vs. 2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366" name="Picture 4" descr=""/>
          <p:cNvPicPr/>
          <p:nvPr/>
        </p:nvPicPr>
        <p:blipFill>
          <a:blip r:embed="rId1"/>
          <a:stretch/>
        </p:blipFill>
        <p:spPr>
          <a:xfrm>
            <a:off x="5410080" y="1905120"/>
            <a:ext cx="3951360" cy="2838240"/>
          </a:xfrm>
          <a:prstGeom prst="rect">
            <a:avLst/>
          </a:prstGeom>
          <a:ln w="0">
            <a:noFill/>
          </a:ln>
        </p:spPr>
      </p:pic>
      <p:pic>
        <p:nvPicPr>
          <p:cNvPr id="1367" name="Picture 5" descr=""/>
          <p:cNvPicPr/>
          <p:nvPr/>
        </p:nvPicPr>
        <p:blipFill>
          <a:blip r:embed="rId2"/>
          <a:stretch/>
        </p:blipFill>
        <p:spPr>
          <a:xfrm>
            <a:off x="1066680" y="4191120"/>
            <a:ext cx="3565800" cy="1463400"/>
          </a:xfrm>
          <a:prstGeom prst="rect">
            <a:avLst/>
          </a:prstGeom>
          <a:ln w="0">
            <a:noFill/>
          </a:ln>
        </p:spPr>
      </p:pic>
      <p:sp>
        <p:nvSpPr>
          <p:cNvPr id="1368" name="Oval 7"/>
          <p:cNvSpPr/>
          <p:nvPr/>
        </p:nvSpPr>
        <p:spPr>
          <a:xfrm>
            <a:off x="3405240" y="4968720"/>
            <a:ext cx="228600" cy="2286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69" name="Oval 8"/>
          <p:cNvSpPr/>
          <p:nvPr/>
        </p:nvSpPr>
        <p:spPr>
          <a:xfrm>
            <a:off x="2717640" y="5132520"/>
            <a:ext cx="228600" cy="2286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th Octo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9F59E-1F70-4C79-AEB2-00822F944631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ypes of Data: Quantitativ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Numerical measurements or count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Continuous measuremen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Reaction time, BOLD signal, EEG signal, …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Discrete measuremen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Whole numbers, like numbers of errors, marks in an exam …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th Octo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71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72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4B306-0866-41D6-BC9E-EBF435409B0C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7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McNemar’s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74" name="PlaceHolder 2"/>
          <p:cNvSpPr>
            <a:spLocks noGrp="1"/>
          </p:cNvSpPr>
          <p:nvPr>
            <p:ph/>
          </p:nvPr>
        </p:nvSpPr>
        <p:spPr>
          <a:xfrm>
            <a:off x="412560" y="1981080"/>
            <a:ext cx="4825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n this case we can assert that there is evidence of deteriora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375" name="Picture 6" descr=""/>
          <p:cNvPicPr/>
          <p:nvPr/>
        </p:nvPicPr>
        <p:blipFill>
          <a:blip r:embed="rId1"/>
          <a:stretch/>
        </p:blipFill>
        <p:spPr>
          <a:xfrm>
            <a:off x="5281560" y="2057400"/>
            <a:ext cx="4446720" cy="1289160"/>
          </a:xfrm>
          <a:prstGeom prst="rect">
            <a:avLst/>
          </a:prstGeom>
          <a:ln w="0">
            <a:noFill/>
          </a:ln>
        </p:spPr>
      </p:pic>
      <p:sp>
        <p:nvSpPr>
          <p:cNvPr id="1376" name="Rectangle 7"/>
          <p:cNvSpPr/>
          <p:nvPr/>
        </p:nvSpPr>
        <p:spPr>
          <a:xfrm>
            <a:off x="271440" y="4076640"/>
            <a:ext cx="8612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an obtain confidence intervals for the difference in proportions: http://imaging.mrc-cbu.cam.ac.uk/statswiki/FAQ/BinomialConfidence/2gpp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th Octo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78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79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F25B5-3EBB-40B7-9754-AB8BF7AF0C60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8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Association or Independenc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8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hi-squared test of associa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omparing two or more classified sampl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esting whether the frequencies for one classification depend on the category of another classifica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Only to be used when the numbers in the cells are frequencies, never with proportions, percentages or measurement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th Octo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83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84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0C9F1-68AE-44EA-9212-7FFF50798C19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8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Association or Independenc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86" name="PlaceHolder 2"/>
          <p:cNvSpPr>
            <a:spLocks noGrp="1"/>
          </p:cNvSpPr>
          <p:nvPr>
            <p:ph/>
          </p:nvPr>
        </p:nvSpPr>
        <p:spPr>
          <a:xfrm>
            <a:off x="412920" y="2209680"/>
            <a:ext cx="4125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s Side of Lesion associated with Sex of Patient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lect Frequencies and then ‘Chi-square’ and ‘Phi’ under Statistics, and  ‘Exact’ under Exact…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387" name="Picture 5" descr=""/>
          <p:cNvPicPr/>
          <p:nvPr/>
        </p:nvPicPr>
        <p:blipFill>
          <a:blip r:embed="rId1"/>
          <a:stretch/>
        </p:blipFill>
        <p:spPr>
          <a:xfrm>
            <a:off x="4869000" y="2286000"/>
            <a:ext cx="4951440" cy="14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8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th Octo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89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90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9996E-6F57-4C2B-85BF-CFC8D0EA3EAF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Output ...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92" name="PlaceHolder 2"/>
          <p:cNvSpPr>
            <a:spLocks noGrp="1"/>
          </p:cNvSpPr>
          <p:nvPr>
            <p:ph/>
          </p:nvPr>
        </p:nvSpPr>
        <p:spPr>
          <a:xfrm>
            <a:off x="329760" y="3962160"/>
            <a:ext cx="412596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No evidence of any above-chance association between Sex and Side of Les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393" name="Picture 5" descr=""/>
          <p:cNvPicPr/>
          <p:nvPr/>
        </p:nvPicPr>
        <p:blipFill>
          <a:blip r:embed="rId1"/>
          <a:stretch/>
        </p:blipFill>
        <p:spPr>
          <a:xfrm>
            <a:off x="3630600" y="1905120"/>
            <a:ext cx="6083280" cy="2157120"/>
          </a:xfrm>
          <a:prstGeom prst="rect">
            <a:avLst/>
          </a:prstGeom>
          <a:ln w="0">
            <a:noFill/>
          </a:ln>
        </p:spPr>
      </p:pic>
      <p:pic>
        <p:nvPicPr>
          <p:cNvPr id="1394" name="Picture 6" descr=""/>
          <p:cNvPicPr/>
          <p:nvPr/>
        </p:nvPicPr>
        <p:blipFill>
          <a:blip r:embed="rId2"/>
          <a:stretch/>
        </p:blipFill>
        <p:spPr>
          <a:xfrm>
            <a:off x="4621320" y="4114800"/>
            <a:ext cx="4811760" cy="1646280"/>
          </a:xfrm>
          <a:prstGeom prst="rect">
            <a:avLst/>
          </a:prstGeom>
          <a:ln w="0">
            <a:noFill/>
          </a:ln>
        </p:spPr>
      </p:pic>
      <p:sp>
        <p:nvSpPr>
          <p:cNvPr id="1395" name="Rectangle 7"/>
          <p:cNvSpPr/>
          <p:nvPr/>
        </p:nvSpPr>
        <p:spPr>
          <a:xfrm>
            <a:off x="382680" y="5734080"/>
            <a:ext cx="900756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an derive confidence intervals for difference in proportion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http://imaging.mrc-cbu.cam.ac.uk/statswiki/FAQ/BinomialConfidence/2gp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th Octo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97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98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8B996-B5B9-4FEC-BB5F-D11BFE8F8AB0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Larger table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wo way tables can be analysed the same way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ree- (or more)  way classifications need a more analytical approach such as Log Linear Modelling, available with the Loglinear procedure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th Octo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02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03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95B8E-5D00-4A23-895A-92C800AF2189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0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A 3 x 3 Exampl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405" name="Picture 5" descr=""/>
          <p:cNvPicPr/>
          <p:nvPr/>
        </p:nvPicPr>
        <p:blipFill>
          <a:blip r:embed="rId1"/>
          <a:stretch/>
        </p:blipFill>
        <p:spPr>
          <a:xfrm>
            <a:off x="247680" y="1981080"/>
            <a:ext cx="5010120" cy="1636920"/>
          </a:xfrm>
          <a:prstGeom prst="rect">
            <a:avLst/>
          </a:prstGeom>
          <a:ln w="0">
            <a:noFill/>
          </a:ln>
        </p:spPr>
      </p:pic>
      <p:pic>
        <p:nvPicPr>
          <p:cNvPr id="1406" name="Picture 6" descr=""/>
          <p:cNvPicPr/>
          <p:nvPr/>
        </p:nvPicPr>
        <p:blipFill>
          <a:blip r:embed="rId2"/>
          <a:stretch/>
        </p:blipFill>
        <p:spPr>
          <a:xfrm>
            <a:off x="5199120" y="2057400"/>
            <a:ext cx="3960720" cy="1920960"/>
          </a:xfrm>
          <a:prstGeom prst="rect">
            <a:avLst/>
          </a:prstGeom>
          <a:ln w="0">
            <a:noFill/>
          </a:ln>
        </p:spPr>
      </p:pic>
      <p:pic>
        <p:nvPicPr>
          <p:cNvPr id="1407" name="Picture 7" descr=""/>
          <p:cNvPicPr/>
          <p:nvPr/>
        </p:nvPicPr>
        <p:blipFill>
          <a:blip r:embed="rId3"/>
          <a:stretch/>
        </p:blipFill>
        <p:spPr>
          <a:xfrm>
            <a:off x="2146320" y="4267080"/>
            <a:ext cx="4653000" cy="15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th Octo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0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1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CFBFE-987D-4D78-B2FC-6DBA4E59EEA7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1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autions (I)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1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Pooling of data can mislead, or even violate the assumptions of the tests (cf </a:t>
            </a:r>
            <a:r>
              <a:rPr b="0" i="1" lang="en-US" sz="2800" spc="-1" strike="noStrike">
                <a:solidFill>
                  <a:srgbClr val="8f210b"/>
                </a:solidFill>
                <a:latin typeface="Albertus Medium"/>
              </a:rPr>
              <a:t>Simpson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05280" indent="-3052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Each individual observation is supposed to be independent of the other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05280" indent="-3052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o pooling multiple observations across a group of subjects will typically violate this rul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05280" indent="-3052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s needs to be handled using either summary measures (e.g. Log Odds), Generalised Linear Mixed Models or Matched Pairs: 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http://imaging.mrc-cbu.cam.ac.uk/statswiki/FAQ/MatchedPair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th Octo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14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15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70C2C-B3F0-444D-ADC9-2C7190CBB7D6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1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autions (II)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1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t is conventional to be cautious if there are low  Expected values in any cell (e.g. E&lt;5).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Recent research suggest this is overcautious, though use of Fisher’s Exact Test is recommended in the general case. Campbell (2007) however suggests (N-1/N) x chi-square for 2x2 tables with Expected Values &gt; 1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lternatively one can amalgamate across two or more categorie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th Octo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1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2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A1114-EFE9-4FBD-85B6-DF574EDBEDC9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2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Next week at 11am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2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NOVA of balanced multi-factorial designs: between subject designs, and single subject studies 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                                                                                             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th Octo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E49D9-B1DA-4B08-9381-BC5F062C41BE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ypes of Data: Qualitativ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Nomina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Ordinal data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th Octo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6983B-ED87-417F-9C8F-08B8BE8C77CB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Nominal 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 categories are descriptive label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Outcome: {</a:t>
            </a:r>
            <a:r>
              <a:rPr b="0" i="1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Error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0" i="1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Correct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}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x: {</a:t>
            </a:r>
            <a:r>
              <a:rPr b="0" i="1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Female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0" i="1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Male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}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..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th Octo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4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5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939B1-30DB-4325-B334-A58707BEDFF8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5f7b"/>
                </a:solidFill>
                <a:latin typeface="Albertus Medium"/>
              </a:rPr>
              <a:t>From ICD-10: Chapter V: Mental and behavioural disorders</a:t>
            </a:r>
            <a:br>
              <a:rPr sz="2000"/>
            </a:br>
            <a:r>
              <a:rPr b="0" lang="en-US" sz="1400" spc="-1" strike="noStrike">
                <a:solidFill>
                  <a:srgbClr val="515f7b"/>
                </a:solidFill>
                <a:latin typeface="Albertus Medium"/>
              </a:rPr>
              <a:t>(International Statistical Classification of Diseases and Related Health Problems)</a:t>
            </a:r>
            <a:endParaRPr b="0" lang="en-US" sz="1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34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00-F99 - Mental and behavioural disorders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0-F09) Organic, including symptomatic, mental disorders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0.) Dementia in Alzheimer's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1.) Vascular dementia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40040" indent="-207720">
              <a:spcBef>
                <a:spcPts val="34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1.1) Multi-infarct dementia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2.) Dementia in other diseases classified elsewher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40040" indent="-207720">
              <a:spcBef>
                <a:spcPts val="34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2.0) Dementia in Pick's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40040" indent="-207720">
              <a:spcBef>
                <a:spcPts val="34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2.1) Dementia in Creutzfeldt-Jakob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40040" indent="-207720">
              <a:spcBef>
                <a:spcPts val="34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2.2) Dementia in Huntington's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40040" indent="-207720">
              <a:spcBef>
                <a:spcPts val="34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2.3) Dementia in Parkinson's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40040" indent="-207720">
              <a:spcBef>
                <a:spcPts val="34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2.4) Dementia in human immunodeficiency virus (HIV)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3.) Unspecified dementia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4.) Organic amnesic syndrome, not induced by alcohol and other psychoactive substances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5.) Delirium, not induced by alcohol and other psychoactive substances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6.) Other mental disorders due to brain damage and dysfunction and to physical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7.) Personality and behavioural disorders due to brain disease, damage and dysfunction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9.) Unspecified organic or symptomatic mental disorder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th Octo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FC342-6677-4092-8CAD-399A58BF4549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Ordinal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 categories are ranged in an orde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Rating scale: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Endorsement of a statement: {</a:t>
            </a:r>
            <a:r>
              <a:rPr b="0" i="1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Strongly agree</a:t>
            </a:r>
            <a:r>
              <a:rPr b="0" i="1" lang="en-US" sz="20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0" i="1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Agree</a:t>
            </a:r>
            <a:r>
              <a:rPr b="0" i="1" lang="en-US" sz="20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0" i="1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Neutral</a:t>
            </a:r>
            <a:r>
              <a:rPr b="0" i="1" lang="en-US" sz="20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0" i="1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Disagree</a:t>
            </a:r>
            <a:r>
              <a:rPr b="0" i="1" lang="en-US" sz="20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0" i="1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Strongly disagree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}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ge: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Age Group: {20+ to 30, 30+ to 40, 40+}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osit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Birth order: {1st, 2nd, 3rd, 4th, ...}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Target position: {Left, Central, Right}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Trial block: {1st, 2nd, 3rd, …}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5T17:30:56Z</dcterms:created>
  <dc:creator>CBU</dc:creator>
  <dc:description/>
  <dc:language>en-US</dc:language>
  <cp:lastModifiedBy>Peter Watson</cp:lastModifiedBy>
  <cp:lastPrinted>2004-10-20T13:39:49Z</cp:lastPrinted>
  <dcterms:modified xsi:type="dcterms:W3CDTF">2017-07-03T09:06:17Z</dcterms:modified>
  <cp:revision>114</cp:revision>
  <dc:subject/>
  <dc:title>Aims and Objectives</dc:title>
</cp:coreProperties>
</file>