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png" ContentType="image/png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1E57-5E08-47E6-86CD-8CFAE446BA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1CA9-6D88-4AA9-B38F-A8B471362454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1641-1A00-4D18-9AFD-49B9F1389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69041-E709-4B61-8EE9-8488CBB5D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0BE9-3093-45F5-A619-C17151202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08CD9-8F58-45B3-8F55-4A23F5E06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4456C-E94A-4AF1-A8FB-A60A5B337F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38387-76DA-49C2-98BB-1383785C6E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ED77A-76D8-4D05-AD4C-38D742C2CD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04401-C48C-4DEA-8914-EDF3CBAD57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A61AE-03D1-40FF-B5E3-37E6CE2F86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21297-4076-488A-80C3-25881F054A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AD8F9-E23A-4978-A786-ECF7C6C1F8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12B81-6F72-4443-93EB-347B89ADB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550AC-3E0E-4983-ACFF-A6633976F7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A1AB3-35D3-49CE-AA4F-0316B7EFC4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EF888-5A25-40F4-8DDA-44A849CAD6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D52C3-2B2B-4FEA-BA34-BDF467C459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F242F-50A4-4447-942E-F21EBDD046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65FB7-34A3-498F-B22A-C6C60917D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36802-16E3-455A-ABB7-24A1CC4CE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89C4A-6F88-42DD-87BF-ABB8709E2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2E69D-8E76-46F4-BB34-178D4EDFB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303EA-95A6-4C72-8578-4A8F7F53A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F9FED-3EE3-437B-9C68-DD5F85834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4649-D994-4725-B2BE-340092F72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C91A756-4AA3-464F-A6E4-9E61C301959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6BAA214-A246-4ACD-A54D-17F19F16F9E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4267080" y="301680"/>
            <a:ext cx="4572000" cy="69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4356000" y="301680"/>
            <a:ext cx="4616640" cy="807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C6C8656-67CB-43E6-86EF-CF8C11233C1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D92EBD4-2194-4EB4-850D-22624533607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7-07-03T08:52:35Z</dcterms:modified>
  <cp:revision>350</cp:revision>
  <dc:subject/>
  <dc:title>Exploratory Data Analysis</dc:title>
</cp:coreProperties>
</file>