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4A768-B100-4E9D-B161-64C325F5AE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E8772-B8F4-4968-9B7F-B38206E912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7B523-0F72-40FE-921E-0BC6793B39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122F3-CD01-4A8B-9C4F-BFE0D88B37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2620B8-63C2-431B-BA8C-CFD0BBA640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59861-812A-4735-B769-D6B0C76B31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C24701-3A8F-40AC-AB1B-66E05D94B1A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8BD97A-30CA-4E78-A580-EB54F19ED7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EAB951-E176-4E4B-AB46-E3ADE6E20C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2093A5-891B-48BC-9B34-DAFD8E5290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9391CA-A28C-40D6-A567-D0FB6F2DBA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77EF7-6AF8-40CF-8A22-E082A3C494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DE5C94-4B30-4E28-BF18-75615F4CF4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031F2C-CA5F-4FF0-83F2-8C3DC7E6F1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82B7B6-E6FB-49C7-9E98-5C5A337DA3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45C03F-7BDE-4EFA-B81E-F9B792F3FE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C09631-38F6-431B-AFA3-2E0DCF7378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C07A5-C48F-45AB-9F0F-55D0243E9E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EF213-DC59-4185-84F4-E64F07AF65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DEE43-3E46-4847-A52A-770A308C4A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711D2-9F7F-450D-B531-F638FE2AF5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508EC-68B4-4C21-92D3-088237208D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9E13B-4AA0-4AA4-9773-63D01CFC3B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454CA-794C-4F9C-9664-DEDEF99C91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1C53DACA-14FE-4300-B4D9-D78DD1849692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0B0B084-CD66-47B4-B70D-5E30C3EEF9C6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219640" y="301680"/>
            <a:ext cx="3567240" cy="53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4572000" y="490680"/>
            <a:ext cx="3567240" cy="5364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3C558172-F2A2-41FB-8CA1-20744140A6FB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82011478-B1AD-44C4-B986-4F5155A6E9F8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0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3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5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rho of Raykov(1997) – better than Cronbach’s alpha . (http://imaging.mrc-cbu.cam.ac.uk/statswiki/FAQ/Raykov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; SPSS and R code to test this are available at http://imaging.mrc-cbu.cam.ac.uk/statswiki/FAQ/mvnorm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LAVAAN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R. B. Kline (1998). Software programs for structural equation modeling: AMOS, EQS, and LISREL. </a:t>
            </a:r>
            <a:r>
              <a:rPr b="1" i="1" lang="en-US" sz="1600" spc="-1" strike="noStrike">
                <a:solidFill>
                  <a:srgbClr val="7030a0"/>
                </a:solidFill>
                <a:latin typeface="Verdana"/>
              </a:rPr>
              <a:t>Journal of Psychoeducational Assessment</a:t>
            </a: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 (16): 343-364.  Also: Beaujean (2014) SEM in 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dealised scre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1709640" y="1989000"/>
            <a:ext cx="5724720" cy="4581720"/>
          </a:xfrm>
          <a:prstGeom prst="rect">
            <a:avLst/>
          </a:prstGeom>
          <a:ln w="0">
            <a:noFill/>
          </a:ln>
        </p:spPr>
      </p:pic>
      <p:cxnSp>
        <p:nvCxnSpPr>
          <p:cNvPr id="328" name="Straight Arrow Connector 6"/>
          <p:cNvCxnSpPr/>
          <p:nvPr/>
        </p:nvCxnSpPr>
        <p:spPr>
          <a:xfrm flipH="1" flipV="1">
            <a:off x="3779280" y="2761560"/>
            <a:ext cx="2377080" cy="37080"/>
          </a:xfrm>
          <a:prstGeom prst="straightConnector1">
            <a:avLst/>
          </a:prstGeom>
          <a:ln w="93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329" name="TextBox 8"/>
          <p:cNvSpPr/>
          <p:nvPr/>
        </p:nvSpPr>
        <p:spPr>
          <a:xfrm>
            <a:off x="6300720" y="25495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2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1403280" y="155736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5736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716480" y="147312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 – not always quite so clear in real lif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0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1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3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4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7" name="AutoShape 65"/>
          <p:cNvCxnSpPr>
            <a:stCxn id="345" idx="0"/>
            <a:endCxn id="344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8" name="AutoShape 66"/>
          <p:cNvCxnSpPr>
            <a:stCxn id="344" idx="7"/>
            <a:endCxn id="346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9" name="AutoShape 67"/>
          <p:cNvCxnSpPr>
            <a:stCxn id="345" idx="7"/>
            <a:endCxn id="346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0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1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2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3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4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5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6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, Heene et al (2011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0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22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3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1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5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6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7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8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9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468360" y="6021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a04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Preacher &amp; Kelley(2011) suggest using ab/Max(ab) effect size</a:t>
            </a:r>
            <a:endParaRPr b="0" lang="en-US" sz="18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93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0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1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2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3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4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5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6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;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differences &gt;10 suggest better fit (Raftery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acher et al (2012) suggest 95% bootstrap CIs for B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60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24CA-BA82-4785-9FE2-E9A8DDA3049F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3286080" y="4956120"/>
            <a:ext cx="1859040" cy="785880"/>
          </a:xfrm>
          <a:prstGeom prst="rect">
            <a:avLst/>
          </a:prstGeom>
          <a:ln w="0">
            <a:noFill/>
          </a:ln>
        </p:spPr>
      </p:pic>
      <p:sp>
        <p:nvSpPr>
          <p:cNvPr id="579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1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2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3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2"/>
          <a:stretch/>
        </p:blipFill>
        <p:spPr>
          <a:xfrm>
            <a:off x="2395440" y="2998800"/>
            <a:ext cx="785880" cy="1859040"/>
          </a:xfrm>
          <a:prstGeom prst="rect">
            <a:avLst/>
          </a:prstGeom>
          <a:ln w="0">
            <a:noFill/>
          </a:ln>
        </p:spPr>
      </p:pic>
      <p:sp>
        <p:nvSpPr>
          <p:cNvPr id="589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4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5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6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0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11" name="Straight Arrow Connector 96"/>
          <p:cNvCxnSpPr>
            <a:stCxn id="610" idx="1"/>
            <a:endCxn id="601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12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3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4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5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6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out which combination of items “best” accounts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 (see e.g. Khattree and Naik, 2000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2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1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17-07-03T09:03:33Z</dcterms:modified>
  <cp:revision>336</cp:revision>
  <dc:subject/>
  <dc:title>No Slide Title</dc:title>
</cp:coreProperties>
</file>