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F1E2D1E-DDF9-425D-9AF0-67652300F327}"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9904A3B-CE4E-4245-9E45-12EF754DFC6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79C29-7F95-4CF5-8116-9C531E8B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76F5-5CAA-4977-BBCA-F1B5A491E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D9CCC-1384-4FB5-929C-B6B365750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7328C-66C7-43B3-8D2E-12C1908F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EEEF-1AAB-4238-866D-0BB00472E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64714-FA40-46CA-BF65-616C1A73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D1670-4BFC-40E1-96C8-C624759E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79407-4984-465F-9E8F-B7EDEA504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44B7-E453-4C37-AADC-8898793E5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1933-80B5-4F5D-96C4-041BEA0FF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054F-EFC5-4BCA-818A-9E5708C4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29102-92B0-42CD-86AA-6F3196B07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38D2-8117-4CC2-8398-7BEFED5EC684}"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F9F3-3ECF-4C45-9B07-665AD1649E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0A3C-1B90-4637-9639-1CDCF700E6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BB18-9D06-4B9A-B88E-34AF973050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7B0B-9E8A-4727-AA10-059FE0E888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9339-D1C0-410E-8D55-030D89E378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A7E7-59E5-4A7A-918E-FE73C195C7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C773-555D-4AA7-A71E-DF3FF5284D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4EA3-EAE5-4765-9769-13BEB525E2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72DB-5312-4665-94B0-D25CF3214A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DEA8-4ED4-4FCB-866E-9FC8F94ACA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C5A2-283C-4691-A725-2F0D602215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44C5-AB84-45B8-9018-8AABB970FC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F3AD-5C42-4942-930D-E3BA9C4DBE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4752-09F2-4F4C-A646-4F12C51C02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79A2-C119-4EB8-8AA0-348A01D4A1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8D4B-02FE-4978-A1F5-000836A455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93A-F4B0-4B87-82E6-ED35F24B92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1636-2290-47E5-8D13-160E49579F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49EF-C20D-4832-A92B-33C04EE191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58AF-6352-429E-88F4-2EEF205EAE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91D6-7964-477F-AE94-552F4520CF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B762-5DE0-476A-A432-FAB004B105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C70-91FF-4331-AC4D-42BB3C0AD6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526C-8955-4917-8631-4601023CFE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6A13-F40D-40C0-B6D0-2945A5073D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DBF1-4223-4243-AADB-CAB7E14C06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0B3B-39A2-46B0-8D42-0177CD536E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489E-189E-47A4-B6A1-7EA9F95047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6A03-AFEA-4F66-A646-B5FB1D596A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C8FA-9AF7-4B6F-ABBD-0EDECB152D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61E7-7262-40E3-AD40-07ACADC768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AD19-A698-4451-9989-7E8712E84C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6EF3-65E2-47B1-A313-8576E9140D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BCD6-C1DB-4406-B7CB-0832846807B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76A6-CA06-4F25-9389-312C544A46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4F19-0B91-4CFA-97B8-EC756424F2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9112-8D1A-4214-A68E-52D7D949FE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1A57-2764-4FBC-B68A-9A45684BBB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AD91-1493-42DF-BCD0-4F91E68783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7160-76D4-46E4-A1A1-04EA2E1014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9B80-CD9F-4447-A07D-36D0887383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7-07-03T09:07:12Z</dcterms:modified>
  <cp:revision>71</cp:revision>
  <dc:subject/>
  <dc:title>Aims and Objectives</dc:title>
</cp:coreProperties>
</file>