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46194793-4704-4E5A-B808-7EB3B6A02902}"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DD657169-869F-4D8D-BF98-B1517B9C9358}"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BF08F8-7A19-44C4-B31D-B7C1272262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40283-7774-4CBB-8C11-1C72ABFAB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D3E92-82FA-4AF9-9CBF-4BF876F138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3D0212-C9D2-4315-8393-DCE56B3E8A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B95A1-3C12-4F68-964F-AE998C1A0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4D2C0-E56D-4979-B2DB-B3C2BB876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9378E-935C-4E04-8954-193BD00BE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AF6C7-7FB2-4DE7-96D3-BC5F88663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62322-3563-46A9-AC79-9E9639C9D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B95CE-F554-4418-A47B-1A998CAD8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DEEEC-6470-43E0-BF13-E3B74B339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79B2E-8E3C-4192-BE93-BC2AE453A1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210b"/>
                </a:solidFill>
                <a:latin typeface="Albertus Medium"/>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000000"/>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4D1AB-CBD6-48F6-AA78-F566E3FE7025}"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1" descr=""/>
          <p:cNvPicPr/>
          <p:nvPr/>
        </p:nvPicPr>
        <p:blipFill>
          <a:blip r:embed="rId2"/>
          <a:stretch/>
        </p:blipFill>
        <p:spPr>
          <a:xfrm>
            <a:off x="5380200" y="617400"/>
            <a:ext cx="356544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A0736-573E-4E74-B6C8-D2D0C715BF6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C8F4C-5BD1-4113-96AB-B8CB2ED865E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2B75B-9F31-430C-B68E-C800B6B4946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D4EB7-147D-495C-AB46-6EC1349CFE4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C3A2B-391A-48B6-96F6-A21B9332DBF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12074-2A45-4895-8E72-EA682351AE8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D6C97-BEE6-4901-B112-207D5E865AD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47516-0B1B-4563-8A6E-4FDAF198FE0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0B5A0-1507-46BC-8357-EF81E8DFA95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21A8D-CD7A-4311-8C3F-7B568D95F66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F88CC-FF74-425B-872D-2B42BA00EB0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6CFA6-3711-487D-B94B-7365DC9FD9D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3BE64-8EEB-416D-824D-BF7DA00CF67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D0DB4-5C83-426C-9AB6-228854F3055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DF7BE-15FF-48D1-AEBA-59173C8E669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A03B8-4A15-441A-95BC-E6C7FCF0B55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945AC-E34A-4266-89B5-BAE215C548E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8F181-4C3F-4D00-B7AF-E8574362F5E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FF019-C13B-4626-9293-C2596752C15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58BD8-536A-4B6B-BAFF-32323E278B3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6485C-63DD-4924-825D-91F62BACB85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8CEFB-78C4-4133-A4C3-9C281E29075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5652C-7551-46F7-A613-98CB991D04C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BA2CA-3EF5-44E1-A726-094EFCC2B48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B2ABE-B0BF-453B-AA2A-6665722072E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181F3-1023-487A-912D-E6CA0BA113C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D0DDD-BA24-470E-BC60-50723D2839F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72257-B668-4B17-ADF8-FA59F9552B9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AF3C5-A9E2-40EA-92D7-C27FE0A2310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2C5F3-0ADF-4C92-B0E8-FB99AB439A2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32DA3-81B4-4D94-BE89-6624F950837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E430C-343F-4B3A-8093-062E0478D7C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B8ED5-759B-4C16-96D4-CA5EFC71437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DD811-6B4F-4F6E-B5EC-07204ACFEF1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C0AC9-48E2-472C-8A70-E84CB634C0C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16D20-529D-4171-8E21-D403F53F29C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2</a:t>
            </a:r>
            <a:r>
              <a:rPr b="0" lang="en-GB" sz="3600" spc="-1" strike="noStrike" baseline="30000">
                <a:solidFill>
                  <a:srgbClr val="515f7b"/>
                </a:solidFill>
                <a:latin typeface="Albertus Medium"/>
              </a:rPr>
              <a:t>nd</a:t>
            </a:r>
            <a:r>
              <a:rPr b="0" lang="en-GB" sz="3600" spc="-1" strike="noStrike">
                <a:solidFill>
                  <a:srgbClr val="515f7b"/>
                </a:solidFill>
                <a:latin typeface="Albertus Medium"/>
              </a:rPr>
              <a:t> November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1720A-F7B9-4FA0-85C6-8EFB73EE47B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46B39-0D4B-450A-9415-FF1D99E4D8D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9A520-9D80-4FD1-BFB9-6D688DF44FB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364B9-B17D-4385-817B-FE5DCBB4FB9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6286A-11FE-42A6-8771-0D0CDF6A061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17-07-03T09:07:12Z</dcterms:modified>
  <cp:revision>71</cp:revision>
  <dc:subject/>
  <dc:title>Aims and Objectives</dc:title>
</cp:coreProperties>
</file>