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3DB9-CBCC-45F8-9E7D-7D9520CEB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7F6-56E8-4DA2-972E-5D7FF8F937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81C1-A3CE-44FE-952D-63D213C9EF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178-D89B-4C6C-8B74-C0C6EDB51A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7B43-7225-4B04-BBA3-3CBCBFAE57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21F8-BB1E-4926-8701-3373CCF07A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49C-8982-4488-ABC8-E890DEF214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9DC-E4D3-4B4D-B875-30A0DBCD65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B975-9949-4CFB-92B8-966518E1A0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033B-244D-4334-A3B3-0AE443CC65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93ED-8C72-48EE-ACF2-7FFDE8B885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D94A-0810-4FE1-880E-76118C9A0A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C50-46E0-4C1E-ADFB-45A824605C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1E3D-9D1A-4A8D-BCBF-9FF6259DCE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34A7-503B-4852-9013-DA42B03001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648-8660-4825-81CC-6C03E08905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F46E-92E9-461E-916C-BA8293DA9D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C4E7-40D1-4786-91A7-977AEC494F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6D1-3C1D-41AD-A4F7-F7EC6CD644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48A-9DAF-4A6F-BD5A-98D6532D35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927-9DFE-4268-AAD4-6536242A0F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3B1-3684-41A7-BD9B-94431939CA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3AE-3DD9-4C94-A5EE-DDE7BFABFB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C082-6FFD-47EB-AB8B-D5DC3E4DCF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121-91DF-4735-B7E9-7A57881AF2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1D9C-E7AE-4830-AD52-C12DAC0D01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4BC1-E986-4669-88A8-297B29FF05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2DE-3B88-4910-AC3F-08DD352638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EDF5-CB75-4979-9E32-AE2776B064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C2CD-50AA-40A8-94C0-6B9BBE5256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B48-76AC-495E-8AFF-B1C7E70DA8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08A-C800-4728-AE20-18376E4D1A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4C6-A4E6-4FC2-989F-1052428782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DF4D-C675-400D-A4AA-857ED35805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9720-0229-4439-8020-866EA45CE8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A69-A0DE-4719-8332-AFDB837249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8E5E-F73C-40BB-B04E-C347E0A86A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A0D0-59FF-4153-90E0-8D7DC2FC32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0FD-F9BB-457E-8D38-D31C20E4D4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1EF-0FC0-4105-8923-4E5A904727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357C-98BE-4DFB-8F35-066E51956E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E6B5-75B7-4F35-AE34-ADBDD9F876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607-9800-4538-9CC5-3D5997226E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A202-E58C-4732-B9BD-9594D3FA80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DEE-4CF5-4B26-B4EE-A654EFC3FD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239-5274-425C-A40A-5379C620A4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A3D1-7D0D-4D81-90AE-299419AEBE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57E-7C2D-4F1C-A5C4-D1641DA074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F085-3DDB-4DAF-8806-C0501B126D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58CE-EDF2-4C23-84FB-0662E56B14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86E-CCC2-4DA8-96DF-8516C91DE3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455-BFA1-4D2D-879C-DC4E12CED4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645-B359-4266-9562-9092E99994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FB8-E59A-49F8-8A70-BC353AB8DE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297-D594-42E2-9E7B-180016A4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BD3-23CE-4FAE-9F43-7E852174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571-A2FC-4409-B0CC-21D4F17E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365-1E9A-4EE8-8DDA-2855BDFB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97F-84C1-45D2-BFD9-84749B5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62E-485A-4010-975D-8E3E3CF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92F-26DE-406A-8DCB-8DE5A905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8BD-BDA9-4F0B-8A69-A0FD540A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26A-61FA-4509-8FD2-D6247FF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525-BF03-4C3C-9C1A-5804008F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EA6-E525-4604-809D-E7F8588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2BB-1361-44B0-AA93-2F27A52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847-9AE4-4832-BA03-3D9A65345D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7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0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7-07-03T09:08:21Z</dcterms:modified>
  <cp:revision>110</cp:revision>
  <dc:subject/>
  <dc:title>Aims and Objectives</dc:title>
</cp:coreProperties>
</file>