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7647-BFFC-44FA-94FB-29EE6A743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9E8-36F7-4416-B25C-189035CD5D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D14-0CBE-4C28-B5E5-67FEF41650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A7E2-117B-413A-AE5F-73FE826524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2191-8CA4-477D-BFBE-F353AF4B50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7BC-D05A-43BC-9A8F-41AE72B14A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E35C-5E48-4647-98E1-6002720EE2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230F-FD30-4A02-978E-579282C082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74C-8D34-4A3E-9D63-0DC1CE714E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15E-C507-47DE-A3A8-3844041EF2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0ECC-1E73-444E-A21F-D9D5F0E8B8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54C-5326-49BA-AC01-4448D41F5D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293-9AB8-4545-97D8-82D7A05B10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55B7-5455-49F1-88DF-E24C476386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C3D-B97E-4207-9111-BB1C3224AF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3A84-E0A4-41CA-9149-6E9E648264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4B78-2C0C-42D0-9B27-3FC7D0BA67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5980-B296-4498-8F91-9038FB21A3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8F87-E7AD-4734-A417-93D3B80AD0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C21-E152-433C-82BC-3D91048A1E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3229-B8F7-4138-92D7-6357A8BA6A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EA6C-69E7-477E-A293-80FB5ECF88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A857-83C3-4D1B-9880-98545732AE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033-0191-4173-B50B-58A34B9023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62EB-2AA3-466B-8B17-2D6F37EADF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1C3-D7F7-405A-926C-6CA6CF0BA4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DFD7-015E-4D20-9596-82A932D79B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3462-4125-4D1F-9DEC-27AA589B55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C4E-27E6-4192-AF21-9238736C86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646C-6F3C-497A-867D-0729492A6F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281-B919-49D9-A418-870595742B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423-F0C3-4594-9366-2DB5BB3111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C21-5BC6-4E20-A8CA-12E083D8C4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9F24-EDBB-436C-B48F-F78FFC89D7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C95-FC7F-4A83-8B88-D191732D31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912F-508A-4B78-8748-87D90F5BEC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485-68DB-4D45-B7AA-2ADC9321D0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FEB-0D4C-4E00-B637-F5032462CD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7B84-CF96-48CC-B013-58FFE2213A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DC49-3827-43CB-B50E-E92FF7251B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C59-8660-48EE-8385-B765D17152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5769-7754-40D3-99EE-3CA0251137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E76-5034-4F48-996F-0058B4EE0F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23D2-D8D5-4DCF-83CF-3A1B6A56BE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651-3C87-4EF1-A732-3DE0A8B0E8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8A0-0100-412A-9786-0545DD99A9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252C-7D21-418D-8592-99AA52A122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15D7-85ED-4EE5-98CE-A9538A1645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4BE8-4D19-4429-ABC5-84AC1C1D48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4121-D003-444F-9C78-E8D6AB08CF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015-4AA4-4EAD-812B-CD08BF7E19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72B-1E91-4F05-8C7E-CA8C62167F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E194-D586-492B-8881-74A70F6A1C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535-87AD-4256-AD32-3BDD33AC6B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54A-B5DF-43F7-8F8F-721ECDFC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9F8-FF76-451A-8E9B-EBB593F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356-CE7B-42B8-8412-E51A3B8B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C22-AD44-4659-93A1-16997140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DDF-11C1-493F-8E44-1EC3CE3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AD1-A7C4-4BFA-8074-781E047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BEB-1072-4A9F-B022-B9D60337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75C-A59A-4E37-89FA-1C68E31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3A4-F6EC-4F59-A102-5DFC1208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0CB-6C5D-440C-AF54-36128EC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5AD-37BB-42FC-AEEC-D4441F7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06D-B179-46D1-B3E8-F50F72E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F706-CACA-4895-BE1C-95243757A3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7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0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7-07-03T09:08:21Z</dcterms:modified>
  <cp:revision>110</cp:revision>
  <dc:subject/>
  <dc:title>Aims and Objectives</dc:title>
</cp:coreProperties>
</file>