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354C1-CC19-4A2A-B37D-2115AA04C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37473-429E-40EB-A14C-1D5A5B564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CCEE9-06D3-4A2B-B509-3D85910B5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72998-E8B5-43A7-B3FB-CFB888B39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44EB2-1903-43B0-999F-DCFCBD40F9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52A71-101A-4987-B1C0-C73D3722BD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55E32-CF47-4F37-BE5B-371BB736A2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C790E-39AF-4379-97CD-4740D863B1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353E7-EFF3-4953-8793-6DA607A783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DC312-1B37-4FA6-B6EE-DF2A84F23F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B555C-4EED-4CD2-80B1-6BFD8DD042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84ECF-5A4D-436E-88B1-97C5ACCF2A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60483-0D63-4C74-AAD6-33EEE1BCBF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2EFCE-080E-4A58-89E7-B7CF00F373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EE68B-2C52-4469-B90E-1605C866F9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4DBB9-9373-4CDA-8925-D17F0A781E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360D6-4E3F-4B12-812B-C13FF2D765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DD6B8-3E43-4927-AE78-C7D1D3A48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F8539-2AD9-4E1E-9F75-0C8EBC430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D8976-5EAD-4666-B855-CC05F12ED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80B25-C114-4B05-BFE8-EF1935AD0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09FA0-72B5-4EF9-95FF-5B360B53B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03F6F-119F-4731-84F9-7B92D4916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B057E-1A02-4F54-A484-794A00026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1CCAF23-E830-4A91-93D7-DC3F57E027F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C59048C-DC90-4CB6-83E9-834494942FA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119560" y="225360"/>
            <a:ext cx="356724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932360" y="474840"/>
            <a:ext cx="3565440" cy="534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09FEBFC-BC66-47BD-8348-E58347D49B3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2779780-E86D-4B90-AD8D-DE3809F7C59C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7-07-03T09:02:26Z</dcterms:modified>
  <cp:revision>256</cp:revision>
  <dc:subject/>
  <dc:title>8: SAMPLE SIZE DETERMINATION</dc:title>
</cp:coreProperties>
</file>