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9.wmf" ContentType="image/x-wmf"/>
  <Override PartName="/ppt/media/image17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0847-4285-4514-991B-47AE80704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435B-ED6E-4AEF-9C4A-710AA299C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5F9E-F18B-4C33-82A0-B7C182E7A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2CCB-47A6-41F0-BBEC-C54C3C62A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4F1DB-9BD6-4595-B473-B386CA4FF1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57D23-742B-47B2-B04D-CAD92D2948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9FB2C-B0D6-4286-9BE8-991B1E81EC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387CE-E105-4591-8647-CEC3E58AB3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BDEA8-50A2-4AF1-95C0-C1AAFDF02A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EAB31-521A-4069-BACD-409AD2D308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34011-D3A4-46C9-8754-CC35D8F1A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AEA5-F3F2-4114-96EB-A7F612CB9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6EFBD-BAA7-482B-9CBC-B9052ECAC5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28C19-31A6-4B1D-8B7D-D79B3B3EDE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9DAD4-1585-4E36-BD18-1044104450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BC52E-4A31-46D3-9855-713E106D3D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59680-F632-469D-83A9-93234FE8E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725B-40BA-40FA-9F24-7183E0FB9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0A9E-E23D-4D40-B56A-EFC4DDC9D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F537-FB4E-4025-A0E7-8E57EF30F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CD78-57E0-41E0-8481-5DA048F86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FB1B-0FF0-4AC7-8934-9078F0BA9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6780-5E93-410A-8E41-5585DD619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69B1-230C-456A-A3C9-6130EC40D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69280DC-1478-441E-AFE9-B1BB236C4BE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9C3D48C-BE05-4C3E-8FFC-B33430EE57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346720" y="393840"/>
            <a:ext cx="3348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292720" y="399960"/>
            <a:ext cx="3564000" cy="5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F048FFB-A5AE-465D-8200-F80CC23E109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64CC1F5-5427-4B2B-B7BB-0DD25B916C0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7-07-03T08:54:52Z</dcterms:modified>
  <cp:revision>312</cp:revision>
  <dc:subject/>
  <dc:title>REGRESSION ANALYSIS</dc:title>
</cp:coreProperties>
</file>