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EC39-1310-4E12-A3EB-714AA2BB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7FC-F39D-45A9-8BFD-93FB68A132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C8A-CFC9-4FA3-A753-5AAB8C5A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7B4-BFA6-44A2-8AF6-4E666D3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455-EF62-4196-9635-9A7449E7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292-0130-41B2-90F5-557EB58F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42A-1457-45AC-AC52-BEEA3282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8E7-C783-447E-85C3-D8B44F4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6CD-1C74-4F62-9126-FAA772D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960-0FEC-45F7-8EBD-D768ED6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39D-DF8E-4E85-A41D-DE3BCD85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2DA-061B-4094-93F5-3AAE06CD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939-C066-4C7A-8D62-F7FE23AA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A20-F0AD-431F-8D0C-DADBDEA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77DA-E490-4C45-AA41-96A816DE59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7-07-03T09:09:32Z</dcterms:modified>
  <cp:revision>89</cp:revision>
  <dc:subject/>
  <dc:title>No Slide Title</dc:title>
</cp:coreProperties>
</file>