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DF23B-4C8B-4C20-B54A-0FE2C7B9CA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173E2-145D-4925-8893-F10BEEBCC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A8EF3-719F-4612-AEB7-7D9FB1FF0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8E37B-173A-4858-9367-EF3B41337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8DC36-4B3C-43CB-954D-970EB75C74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CB41B-43A9-45E9-B79E-2A0167BECA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D173B-953E-4396-9146-A5F17E84D3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DA643-017E-4A31-BE50-247062B6CE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E1BD4-EB87-4111-AA1E-8557118458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D9D2A-671F-4186-91E2-4C5FC8C242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3F608-BA4C-45A3-86F3-A9AF88A248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B3606-0D52-4A15-AE12-EA177D662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A1785-0B92-4021-AF70-F72DB0C216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8E545-06F9-4B63-8B89-7296404F4C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8BEF9-8B11-42E6-875D-42553E9CB8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D1EA3-F853-48B5-9B31-E3867DF8BE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9B3B3-6E77-4014-AFAF-61217F3360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4A4CD-E9E1-4EE4-9427-0E7B4554D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B681C-CD10-4CE8-84E6-3B2D2BBB6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4140E-AE38-4747-8650-CF6632034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BA9E4-C8D9-4CB1-8BD9-03C1AC0DD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765CF-B385-4F20-832E-53532D820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49C39-7F35-440A-93A9-09A581017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3A9EE-C72D-466A-97C7-B23CABE11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63CED14-FC78-43D9-B62D-5819F07FECF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FB83C2E-93DD-4969-BA96-ADDDACDF0B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583240" y="208080"/>
            <a:ext cx="3565440" cy="53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003640" y="490680"/>
            <a:ext cx="3567240" cy="536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1E8FC073-DF32-4F40-8620-88FEF3512A10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44BF1858-395C-4A81-BC50-F7BC79270B53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n TWO weeks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7-07-03T09:01:17Z</dcterms:modified>
  <cp:revision>367</cp:revision>
  <dc:subject/>
  <dc:title>No Slide Title</dc:title>
</cp:coreProperties>
</file>