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E333-8D51-40C7-B92A-9D86CB067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3E6D-ABE7-4882-BF8E-0327822EC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E3D0-F05C-43CA-BE0E-CA3B6BF83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02EE-94CC-4AE3-B247-5F136CE12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8803D-2C9D-4020-A9BC-B1AB7EB76B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F474B-8594-4045-A2C2-547797F1E3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5C77E-2821-4C1B-984C-B3CFDBBDB3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D1DDD-5D86-4D3E-9B41-26C1FBA946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CBEAE-F16A-43C4-97A3-5BE1ACEA99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B613D-CAEA-4971-8122-2CFD6151A0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E4BD2-281E-4914-92E9-8C4F9371AC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4E72-26A9-4E72-8CB5-6E3BC7E1F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4876D-8D24-47DD-94A3-6118CD5CD0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4032B-00FF-4C80-A5DB-DF8F4F2104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28172-B2A0-4421-B938-2DEE83D344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9E83F-2BA8-4028-92F5-9B2C8294CA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B4009-23FE-413C-9A11-59F3EF1F30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52A6-D706-4ABB-A36C-D91D05CCD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AF51-A490-46D5-BE58-813A9FD70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C04A-E0B9-4A0B-9F53-A3C1D6F71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00C0-54F9-41A0-8E57-FA4262A26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C131-E895-4190-A0B1-51EEAE537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218C-07EC-46E1-9337-5EA906689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31D1-6E9D-4955-B07E-36E6888D3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747DCB9-BDD5-401F-A078-4CC83CA3392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E83E351-947E-4655-A680-9C6AE2566E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3240" y="208080"/>
            <a:ext cx="35654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00364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6AA87FFD-4FB6-4487-893D-776236B9A9E0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44CD3199-0B6A-4C85-8B23-DF0B80588DD4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7-07-03T09:01:17Z</dcterms:modified>
  <cp:revision>367</cp:revision>
  <dc:subject/>
  <dc:title>No Slide Title</dc:title>
</cp:coreProperties>
</file>