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  <p:sldId id="313" r:id="rId78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slide" Target="slides/slide58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dt" idx="5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ftr" idx="53"/>
          </p:nvPr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 type="sldNum" idx="54"/>
          </p:nvPr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65E8ED-99CD-4FC6-A8D8-CBCACD13DD0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B76AFF-2437-40E2-99CC-E1058815014B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BD9F17-DB23-4D64-8667-99F1270A1276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C658-3329-4AD6-A393-3E528A3C0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2EBD-7E30-458B-9900-B53C5EDF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24859-3352-478E-A5F6-1080045F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CFA9C-A854-4F33-B052-6CD9FE61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09FD7-DEA3-4353-9BD9-CEF67867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6DA52-2C6A-418D-B3DC-774AE2FC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E4A14-2E13-43A6-904B-5684FA11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1FCF8-F781-47F4-ADE2-CB16F21F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AF338-40A8-41EB-A484-ADAD9F2E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7818B-6EE4-4895-BE40-2D333371B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B5605-867D-4188-A1A4-103768274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6849C-C473-4C0E-BE3F-73DBAE0E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B910-C126-4ABF-B95A-A483D2D4D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B3B4F-6F86-42EA-A5B2-A151427D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50C1D-A6D9-461E-8294-CEB80FE6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6F907-58F9-4A75-A8B2-9691F00C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A8666-BCCC-4BF3-AFEE-B87C6FD6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0AE86-4261-495A-8A9E-040F5020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A857D-4B29-4856-B1CE-42BDEF02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604AD-FA53-4FC6-BA68-9C5C9C08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447D5D-B9FB-45C6-AD3D-9F73AA44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D115CE-00AD-4BA1-A7F8-547E3494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8E53B-606D-44E0-9D09-605FECA54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46B9-C63C-4604-90AB-0113A9BE1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3C5C3-3291-4534-A42E-169BB951E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EDDC1-4C72-4F0B-BCA5-C90D6C916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4538D7-0089-47C0-8534-ABE64313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B7E320-ECC8-44FC-8CDE-472A70BE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73F4B-EFD4-433B-8379-CF11BAA8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A4976-1B27-43D7-8940-0B521016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D42DA6-26A9-4E2F-AF76-6727505E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C0B389-B507-4F38-8450-113E310E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2C9D7-25BA-49A4-9FEF-55B47459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59892-5B84-403F-B854-7BA3DC15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214CF-8EB3-4FE9-80EB-84070200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CBABD3-5F42-4BC2-94DC-F13A7F671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FAD878-1D84-4740-843C-7941F56DB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6B2E3-8B56-4FF5-B39C-3B4D92851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75E3E-F8D9-4F5F-9DCF-F7C65C70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C838A-D143-4AF4-8910-4F3E26B8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5D9EA-6F39-4272-B996-24FDF1FD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6A0D6-4246-426E-95CF-F41F9D57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2E5B3-BC6C-42C8-8FCC-4646BA83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ED54C-AD22-4974-B37A-02C05394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3DEBA-7FD8-4A16-8B93-98E91ABB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ADBC5-D511-4711-BE1C-31BBF784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75F6A-80F5-4D5F-9B73-6CBD06A9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1ACDD-CF7A-411C-88BF-4DE25441D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97166-AEC5-417C-96D1-D80736B23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5CBA74-DBB0-43F2-8D23-D3ACFFBBE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A887F9-18AB-4512-A905-3A3333A1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602430-F41A-4CDC-B1E0-5CDBE2E2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AB9B29-C386-4F88-8D32-A36988FA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5165CB-8C6E-4177-A6E2-6DF3713A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5BDA0E-F2A7-4F53-9331-19AC4290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2D4BCB-2703-4E80-B1F8-87A5D571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E344A5-B597-437D-9CD3-7C0AD46B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FFA2C3-0228-4E71-A143-B4D538F3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602D91-86CA-45DE-8C9E-8CEE7B78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F850AD-88D1-47DD-AF3E-013A41731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AD8EB3-227E-4C30-BF79-41A2BE053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0B2B80-1D98-4106-B675-46327497A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6B4180-61C1-4999-A1D0-5D5DFF4A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B3CA18-8C2D-4B5F-898E-89595969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C81BDC-39F0-4D8E-8950-086060C3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500DBD-66F2-44FB-8B2D-70A6E87B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5A343B-EF06-4E12-A177-C61AB2D7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0EE97F-4D74-4A56-A851-7460DCFE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8A2C14-37F8-48BF-959A-031687B7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41F77B-89B6-4932-991B-153C44DC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ABDEDA-13A4-4A22-8737-28CA7646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D041BB-2ED4-48E8-85F0-BF9C17BE4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DCC037-74E0-466A-AA97-9F0D9370E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E401DC-5CB0-4FC2-8FE5-E3988A178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D037A8-E4F6-49C1-90DF-D2E98F41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02216B-6BF3-4C94-9A5E-7A4AF66E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122D01-E2C2-4DCE-87DD-44121216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8C4E8C-9A38-4E14-8D05-88B18F10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FB1352-CAAC-46A7-9E2F-A155DE0B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B0D542-AFF2-42FE-B092-5471874E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21AEB5-37C0-4452-8877-A89CE46F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07977C-2C06-4977-9621-AA6AC47D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36FB14-708D-45BF-AC70-63A43FC0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B8EEF6-78E8-45BC-B3C6-DA68A560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404111-E7AE-461B-BF31-CC7126C9E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4400A2-7BE1-4015-8E9B-607FD72E5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BEEDA8-A84E-4FAC-BD49-B666B4B7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6E3011-9578-49B0-BFE5-FBBB33F1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AB3C85-FF57-453E-A94A-1BEB641A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10322E-FC62-4BBE-832B-EA7B83B3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9E84E7-AA9E-4A1A-B837-22871F26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5103A5-68FB-455E-88AF-47BD69F0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6C3522-5D31-4673-BDC9-8F891128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E4A6DC-E515-4F16-AD33-EE1BC367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2E56B4-100B-4F76-90D9-A103B22D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941C66-4456-4A8D-8BED-8FA94B91E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ED9A95-002A-48F3-85BF-12CD1F65E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FC69A2-A8DD-4C5B-8627-FC6AF321E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B566A5-3E62-493D-9FEA-65AC79EB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38F199-F80F-4BA0-8D93-1F86C19D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A141AF-D98D-4AF7-B872-4C85CAFC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5132E1-0982-4296-AFDA-EC432BA2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E06CF4-D2A8-4EF7-99FD-5491E6B5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55DDD5-9F40-49E2-8BE6-15E750C8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EDA2-3401-49AF-B2F1-642E0895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2C641C-D756-4F26-BE51-2018F65D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33C1F2-C615-4E10-A785-1AE291AB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42AA9B-3674-4EE8-8821-6D85698F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8155E9-6384-4EF2-A300-DB7DDE37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1127D2-E36B-45AE-BB87-45EF99C29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349DDE-BC65-4D40-93C1-EE1E811E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A0FE1B-EE93-40F3-84F2-CA22ACC7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007F31-0E70-4966-88B7-DC44308F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01F62B-F483-4D6E-BAB5-53E2F71B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C182D0-F0C4-4904-9482-0EC3BA6D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F3C756-C4E3-4CF5-B37C-608647E0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CF62E6-24C5-4A3B-99EB-077D151D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FA3236-6068-4328-8C0B-D406226B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7A74DB-52D9-4531-8B22-A6C93DC9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0D828D-51C9-4624-B5F3-158DF33D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8C9338-1197-4EAD-8F96-8221086D8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21C2BF-FD87-44A0-A8BA-BE4806FE8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C3B3-6DBC-4275-888E-1B44AD91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0FEB-A0A3-4FFA-BA27-0D624D42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8C921-01E8-4CD2-9347-5BC7EE1A7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3BA7-C6CD-4A7D-BE2A-31731C7C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8F43B-30FF-4E1F-857D-5AE6418E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FA53D-FDCC-46D4-86DF-30059867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63E32-5B72-45B2-A615-CC573CE4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0A537-E407-4BFA-BD7A-AC9486B7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A7640-E6B4-42BA-846C-DFBE9515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4D0D3-945D-4260-B7E9-9D90BC4E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F60AA-4363-4A16-B5F2-D8305C14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AEC8F-1DCC-4FDD-983E-664AD399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3624A-8E7E-46F4-9273-BA7C7B5B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5B98E-ADCC-4CD5-8B75-E0CBCDA56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C1C0-FA93-483C-A80E-F6531C34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5D953-46FD-4827-9C8E-792150249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D91BC-A80B-4F87-88D4-5AFD3CC38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DFD1F-8433-4D6E-9543-8C93007F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85ED1-3374-4B4A-B88E-1E96D14A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1758A-40C0-44F0-8C93-42EEA10A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76434-F698-4B40-91BF-D28D9C69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88955-C03F-4337-B456-788F3F8D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371CC-CA25-42C9-9BE1-8EB28188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BD599-9793-4310-97B4-1C4DA639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61DC6-B5CB-4AFB-8322-DA840FF1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7FA8-02AF-4648-B2E6-A743F1A7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9D8CB-ECEF-429E-B748-8504299F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ADA75-A80E-4BBA-8D52-CBFF0883A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9B6BE-1479-4A15-A12A-3932AA3EC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0F09C-C47E-4083-A77B-9E05650DC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F1388-6B51-4360-A298-F00D78C2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FAAC4-B832-49BC-8A98-3ABE92DA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59DEF-EB6B-4938-AE87-6A6F707D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71B71-0D98-41F8-A186-15965525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4EA2A-774B-441B-8131-198F421D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98C8F-283A-41EC-926F-00A94885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C6C1-97B7-4A07-A161-7CFD134D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86B66-A7FC-4DAF-8E38-FD32945A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12CF8-E76B-4513-A275-4C9B7969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3BCE0-D81B-4CC0-B14C-E86E8494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AD3C8-30E6-4671-9368-57D2E89EB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8D04F-87D3-417F-96DF-40A907FDB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8DA8B-6A03-4342-89BC-40D4DC389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1EF59-BE0E-4DE9-B4FD-663F9ED1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82686-59BD-4223-934E-23CA8A10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2EB0A-6239-4AD6-863F-FF226567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E8253-96A8-4646-9213-D31D7E0A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91B4-E153-4DDD-A1A3-95A526D8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B7E40-4CD7-4502-BBF1-6239AC56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A2F62-5A3E-4BB4-A76E-45DEF2C0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0E161-C5E7-419B-B0BC-335FE03E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10091-A8ED-42EC-8068-98F543B3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CF4BC-3C83-48CA-A7CD-1AEACF91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B5831-F04C-4D6D-A2AC-097F25AD8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37D02-316C-474D-AE00-53E90EF2E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F38DF-5EF4-4B42-AC88-B3BEBA24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A0200-4F2A-46FF-AE28-B3497E6F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82826-B86B-45D5-9EDA-7AAF068D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5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6653-13B4-4210-9E96-1F80C6B4B32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7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7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3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E477-9EFF-4B8C-B988-1943FDD8A37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626B-7BF0-4155-990B-0DE970FF165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09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8959-0FDA-4C0A-8B58-EDB9B2D2C4E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67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388A-6B50-49E2-A0E4-FB157C934BD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5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0289-62EF-41A6-9558-A54ADCB0447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6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6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3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DC74-B132-4B84-B5EB-ED8B974EB77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49CA-EB74-430A-9162-8F2CB00CB4B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99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7419-8336-4CC9-A454-38442F6439E4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88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5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5968-EC63-401A-B216-13294BABE05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8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8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3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CE37-7495-4A57-8CF1-DE8B13EF34B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09C0-8EEC-4332-8867-3F4F8223EAD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19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84B4-FF3F-444F-957F-AB9896C6BF7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77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CC8F-D24A-408B-A3E9-BE394170F69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AE21-0CC4-4B8A-94BD-919B0A5A16D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7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7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4079-590A-4677-99A7-AF9934A2C25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CC5C-0D7D-40C4-932C-8956E48F3BA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02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1CB7-682E-4A0E-9CA3-41A01CAD2C6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7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9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CE21-1392-4365-8D50-D964C99DE68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4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B200-9143-4CD0-A046-7B715703B68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0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A89F-33A1-42E2-8449-B26FB87D3DC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4B32-3B37-42D2-9DCF-4447A6F5767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1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32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C0CE-AC7A-40D3-A234-B4FD5D43C5C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E66F-9F66-4717-BA20-A3B3667087A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D301-DE26-42F4-B0FC-12F0ADAAB95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50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1B08-941C-4049-A87D-4238F765187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6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02 November 2017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7809-671A-4964-AF06-61EA042430C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5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F7E1-E608-4F39-875A-ADBC7AE2283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86BD-B3CF-40E5-A2A4-8AF634CE05D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B529-8330-4ED9-9B5B-AF848D735FF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8C59-FBFB-48BD-B0BE-C80C6429FAF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6A2C-73F4-4FAE-A573-41E92067396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81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92F3-87B4-46C6-9644-6DA9E21E3C9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7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8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9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0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1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2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93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4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5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6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7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8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9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8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9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0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1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12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13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4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A19E-FB4A-4304-85D7-10963791A1C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20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1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A3E7-7E19-42B0-9839-F149F4A25EF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7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4DE6-2C7C-4EF7-8B6C-40BAD597B9F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3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0F63-54BC-433B-8535-3A6A22B3271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AB526-FBEB-4920-A782-043EBE8ADDB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9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53C0-F1E4-4009-9E9B-F7B77A51055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5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572D-9DF6-4DA7-B4A3-FE799259A3B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51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52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F822-7F27-49DD-B609-8FD1B1C0EA1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8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DBC9-19B5-4392-9CB6-87427458CD2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6911-7AF8-4160-BEE1-04CBF0BB037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70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2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3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4DCE-A1E2-406E-8065-28639E11F4A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5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6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2C54-1D7F-4F1E-8D58-0F28CB92692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1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422C-0ED8-4AD5-A463-63497585103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7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9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0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6B8C-7601-4E02-9934-8A566B50438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92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93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4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DAF4-C9AB-4199-B4E1-F48AB8F8D24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7EEA-1301-4F72-AAB0-84E74D69DAB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D8D0-E723-4C63-94B4-359A967834E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5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7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7DCF-A471-4B8D-AA3F-E448F17F8D6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3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5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0122-835B-467C-B04A-F921493AB13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21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3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99EB-C287-4A6C-B223-FD7BB3AD916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8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0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80AB-7F8D-4F81-A316-DEE2BACC900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A8A1-2AEB-43B6-A496-B2E931E92E6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41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42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DE3A-9E5E-483D-B7CB-5282D1768A2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0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0163-8B01-4FF1-886D-55A73BBB636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7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8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9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7725-EF63-4F39-875E-CECEF05CA63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6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8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3EF9-C421-4E40-95F1-0496920B151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8191-1AA1-4AFE-9999-EDA27A315D9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5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6" name="Rectangle 7"/>
          <p:cNvSpPr/>
          <p:nvPr/>
        </p:nvSpPr>
        <p:spPr>
          <a:xfrm>
            <a:off x="271440" y="4076640"/>
            <a:ext cx="86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58E7-590D-4C99-9330-B81E7B9FA97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49CC-831D-4ABC-B989-10BB39E902A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7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F4ED-E264-42EA-9B8B-520D84ECD81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93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5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7593-C7D4-4C4D-A3AA-8ED9FA8BE9F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13C1-6ADE-4626-810D-F90CCC68BCF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5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7EEE-4E97-460B-9A46-CFB95F7B9DF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FFBA-9B32-4668-87D6-F0D63E08010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4A85-7BBC-462F-B8BE-5207DB889FA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2658-060C-41D5-B760-3032F8345EB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E256-FDA7-4B75-87D4-F5EE1A0881C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1DF7-48B7-40C8-90AF-D825A241479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5737-8A71-422E-B01B-EF729252CA5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8-01-23T11:28:41Z</dcterms:modified>
  <cp:revision>115</cp:revision>
  <dc:subject/>
  <dc:title>Aims and Objectives</dc:title>
</cp:coreProperties>
</file>