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91F836-136A-4183-A03B-6633B2A04C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84B796-AABF-40EE-82D7-7D42673A98B5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7A1DB1-5B53-4AA8-AEF4-B5D505609D1F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F65-C036-4055-8003-E986A88E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9AB-D17C-41D6-8913-EC806E26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153BC-E688-4D8B-9CF1-48A165E2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A2A99-3A54-4C1F-8448-27B6BC80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0875C-863D-47A4-80C1-43FA7EC7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200A4-8788-40D2-8260-02E3CE5C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176F6-723C-4C2B-8CC6-CF737159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D23CE-7CEF-46A1-B7F0-D42F8213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2B10C-9C55-4BD9-85A4-7FC04FE9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EFD39-38F7-4BC6-9B0D-BDD5A7CE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69448-8CC0-4726-854D-CA9C122B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2E002-0485-4EC3-9D34-D1DEB364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3F8-C110-48DC-ABCE-C3B08836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C0717-AE1F-4DE9-B2BD-F1A08DD6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86899-9156-46A5-9583-D786DE30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3050C-B785-4399-BCF2-EFE19EFF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DE545-04C6-48EA-BA7D-46B97F5A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4AA1F-E8F4-408F-8CF1-B0965830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F91F9-DE1F-4D13-9100-1DD85F3D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95CC4-1248-4C39-B892-E805AB65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6A7F7-FD9B-40D7-9C59-955982D1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491F8-4305-4E4B-91C2-15D4530E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5DDCD-8C7B-415F-9CBA-75255400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2E7F-60BB-43E1-9968-B5F6921C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3143B-DDB6-4949-8811-C91E9D32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C96E7-0D27-45D4-8F4C-D45B7798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D1DE2-CA7A-4A41-A8BE-86A3D945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E1E1F-FE34-47C0-8E6F-7F93B518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F8C2B-41C4-4F1F-A813-B7240DCF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D8C63-6B50-4774-9F0D-72167A68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5431C-BB70-476A-968C-D8BABEFF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D1684-8029-44C2-8446-231801C2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1C606-2330-4853-B5BC-38BF3678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60B16-7E84-4FD0-B36F-6908C247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55D36-BEC8-49AF-A830-9FE984F2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76C2F-C718-4BA0-B4B2-05E70429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0856E-45A7-4503-91DB-228A19C5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1AE85-7040-4526-B40E-B458D729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0E4D7-C842-45AC-ACC4-0DAED215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96B33-2D8D-43E8-B3DA-6F50679F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10143-D3EB-4A6E-9221-4340ADDF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556D9-7D58-470C-8736-F2B5CCC5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B7127-594E-4391-8650-75DAEBE9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3FA75-FB44-4736-98C8-9D284FCA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7A2E0-9AD4-4D8D-AE07-2E963F88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C69B2-F7B5-456D-A9F0-9F824F12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140B8-36A5-4F1C-B0A9-2EFFA170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16A2F-27F3-4A46-A0F6-A2109AB4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9DAC8-586F-4A75-9394-5669F689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8D7BB-F66C-4D63-AC8D-08FD3F68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7AFBD-71BA-4643-AC3A-8783485E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87A27-833F-472D-BC6D-3C43326E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F6135-A8B1-4FED-AFDF-011C8D39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5C366-9BDB-4453-A4D0-2D13DE78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F3B07-938C-4C10-9568-82D2FD1D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3DEA8-8918-48C8-8980-1E7A3FB6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51D66-F7B2-470A-AB03-809AEABF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155CC-7FFF-4033-9FB3-C4D30466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B27D0-3054-4C58-85A8-5DE03AD6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67538-7A65-436C-BF96-B790F144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B613B-F030-4DCB-A2E1-2A855EEE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46A27-FBE3-4A31-BDF1-2BB8C213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B906CE-C8F3-40AA-9F88-A970B3AD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32582-4583-4528-B894-1C93D084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BCDA8-7512-4979-BF30-FF8366BA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A9B75-10B8-4795-A83D-708A55F0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B96F77-C055-400B-BA4D-5B6C0172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38EBF-8872-402C-8104-2F89291D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78E9D-0C18-4890-8357-E6BB7F88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835DB-4C1D-4BA5-9467-8DB47C5F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642A1-8CC2-4DD8-A68B-F096CC6D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9D1F1-D103-45B5-8364-EFEDFAC0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854F1-7BB8-41BF-821C-07A09DA6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9C9B1A-0AA6-4238-A4C4-FE4DFB7F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9ED81A-41D3-4F1F-A265-B95B1F56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281EDD-2AA1-4422-80F7-2D802D89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672491-2F27-43F9-8283-5780DECB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E5C230-73EE-4F25-AD51-6119142E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49962-1872-4F18-87BE-39BA1FAD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D62085-6AFB-4516-B622-F9DAE1C8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E6462-8CB0-4569-815E-B35E4ECC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D96A20-A5A3-4509-BBE5-B9014AEC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BF4E08-F1C5-44C6-8D5A-090D4674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1F0C6-85F8-4246-BDE9-2A9CAA2C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9DB35-A4E5-4D66-BC54-98F5303D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3C2B8B-1486-4022-A21D-D0D7D3C3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9A9B80-FF63-4245-BF2D-4717934B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401CDC-84B8-4E93-BD32-2023DAC6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77CE06-DC2A-4EC0-9229-862844AE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79D865-319C-4B2C-A0DD-A8BA95AA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309ACC-43E3-4FB9-B2FB-85925530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70CC23-13DD-40BF-A36C-28DB1871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74236-8782-455C-ADDF-1759FE80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39626E-4B77-4816-9C18-C861685B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9381D-C239-4A3F-88B4-ACC7107B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592A95-3C51-4D49-8D8E-9C028FDD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E2057B-7C84-482F-8522-F3B65933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560D4B-FAB0-4A85-9550-4ED61331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3AB376-F163-4DDE-ABCE-42BD06A9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38A917-12EC-4B0C-99CD-2F159C64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5B59A3-7A9D-4E0F-835D-5F9EE1F6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F3AB6-242E-44C1-8F04-48AC2010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EB7D15-D7A5-4161-9A23-5E8A3643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98771-41D8-4924-B89D-5DC4814E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A9A-C71D-43B4-BB9F-B972683F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CBD026-FBAB-4874-81C4-22A1A6F9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459299-E104-4EF2-80F0-30C983EB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F7AA13-93F3-4CA2-8E8F-216090AA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93AF47-51BC-4D69-9667-C45F06A7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5293F9-753D-4A2E-B292-CAB81374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775609-5132-4943-AD5E-71ACA4A2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23B77F-AF9F-4DAE-A7B4-6CCA487A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E09055-9C0C-4FA1-B6A5-4C87972B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B55FE4-AFB6-4EE4-9D80-1B235407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285DCD-0C3D-404E-A6F8-C4A72D96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03E5C8-27DD-4A27-B720-29897AFC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DEB7AA-297A-46AB-BB02-7F36B55B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08513D-9272-4E2A-9FCD-315440AF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99579D-2E38-4F52-9599-4681284A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173C3F-E1D6-4731-86D6-24C4A1D7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711666-F07C-4878-B782-B4B658A9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4563F9-02CC-43BF-A1CF-D429BC36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D5C-FF2E-44E2-A0B5-A1507C99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EC1-F7C4-427F-B316-3F99B7FC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3C5E7-0CC5-4A6F-B56C-E01B38FA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AC1-13A3-4D3E-AF6B-10627228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1F2D6-5A6B-4BC4-B99B-2B0A4957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B568B-C709-4C20-BE4C-08A81935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12C29-FAE0-4C4D-8F4B-02E8C5BB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4C6FB-29B9-41EA-89A6-458D1A9C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8926E-6A0A-4F74-BF2B-4D3AA925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E30C2-061D-4D03-B03E-9DD2A987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DB8E8-04EA-4A1C-BF9D-DD65676C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87934-35A9-4DDB-8CAF-89143650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B6AC1-0385-4BF8-959E-2FAA71E5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76831-AFEF-4578-A3F3-AD828195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C3E-6B0F-48A0-A9DA-C785F563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A8F57-8A42-40B6-AFB5-43EAB708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992C6-E125-47E3-8DC3-7AD9C960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1E508-9CAF-435D-83FF-B28F5DFD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5A906-96DA-487A-8EE2-1E075CF4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63318-C8B2-435D-9679-FC9AC09C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E6B17-69A0-46D7-B028-1120E38E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606CE-3B8D-4BFF-9D98-416C422F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98032-EB20-4547-B43F-A85B8538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EDC87-9A64-4ECC-84DA-C7D34AF4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2F959-22E8-4802-BF08-26CBBBFB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2F3-4F54-447C-9826-DBABECB7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01531-A68C-44E5-A799-4378C3C8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393CC-1C5D-40E8-AFF5-C9BB959F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71566-6EF6-4E62-9C32-7B4D691B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C1B4C-32C2-47FC-BEF0-7F758E49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D4200-64A6-4555-B867-A263C398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41FBF-6EDF-4389-8573-77BD1D07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7E66F-D250-45B7-8881-597DB8EE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C115E-FC36-4157-BAB2-D8748D8A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CC325-0281-4199-8CAF-4BFF2B60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C2E27-EC9B-445D-ADEA-D485AF42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8B9-6526-4276-A7CB-FB183790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1251A-7753-4D29-9D4F-632AE20B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C169B-2A3C-433B-A52D-633FA584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35994-4050-4C20-B476-055C936D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27F7E-5CB4-4F33-9A8E-C5C03CBE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1AC1E-1515-47D5-A1AC-275B4420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345B5-4E4C-401C-AF58-7D3441F8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62404-AACB-4810-B0F7-1F3DC3CE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9ED4F-2104-4144-A50A-F16A5C8C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8BF9E-EA1D-412B-ADB5-E3733AD6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5BB3C-9BB6-4DCB-BD5E-F8602E1D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E8C-C6F3-4E25-892E-6A43D8E9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67BBC-4DE5-420C-8BD8-2C90C702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FF390-3047-4B02-B452-F6DA8FF9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CD5C5-467E-4BD8-9C77-087189F8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494BE-80E3-4A77-ADB4-530396D0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53113-37CD-42A2-ACF0-61EBECF1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B2A3A-809D-40AE-8DCE-4DE58AEF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391A6-FD0E-435A-8DF4-5E710383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69366-E009-4B5A-BDD4-50B4FD21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692BB-CA1F-4512-9FF8-49DBB1F0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BE8A7-49F1-45AC-A7BD-5A146A14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E1B6-707A-4D83-B679-43633C5019A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4AB0-3EFE-40CC-BD93-462CCA78F1F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9E88-215F-4084-9CBB-3CD18E5460C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99CB-BA58-4071-94C8-2C32B9B6DD9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43E7-B1F2-44D1-844E-8DD600997A6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9DC8-A1FF-4007-ABD2-8A09090C446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A568-181B-438B-95D1-24B09E04A69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AF87-FCB3-4EC7-8C4F-0D04B76E80D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2C62-28A1-46BE-8EBB-0223A901DD43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D370-5306-47FA-A647-95405201BE5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E0BA-CB0C-431E-93CA-B1315521F80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9680-C550-4F18-BF7C-5E961E615D7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3B07-9C08-44C4-81A3-37CD5F3B494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601B-10CF-4021-9297-8983DF34E63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1210-E992-4461-A1D9-3A5B99ADAA4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7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7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D63F-DEAD-4609-8C8D-D069C66AA3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4C35-E0BD-49AD-A266-618B0B2FAE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BA63-EA21-46AD-B9B6-B37464B149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7E5D-697B-46A5-AD0A-00FDB27021B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25CC-47DB-426E-975D-59823B78889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4FBA-75BF-4A35-9D1B-544BE254569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E973-EC13-4960-8286-5B521D3BCB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9AFA-F810-4C7E-98F2-D5B4AA4A07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D205-4C88-424B-9713-1B4E6FDFC83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DED3-75AA-4067-8CD8-EDEE470420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8D4D-ED97-425B-941A-3F543C313C2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2 November 2017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EE70-D5DB-432A-AC69-A22D0B034D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CE6F-0ECB-4877-BA8C-170D399C4EB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746A-4657-4D26-9D71-138FD5737B4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9F7B-FB33-4C28-BF3E-5D419D24A2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37A9-60E6-47EE-A9A0-CB5CD214C6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4FD1-EF02-40AB-A093-C67F905295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3509-1385-4041-AD88-3F1238B906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CFEC-A998-41CC-A95F-E71184A5FD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812E-C0A8-43E0-8339-FE4D763C99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1860-9DA7-4949-92CD-7499F2D807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BDBB-528B-430E-A0CE-A6EBDD1B76C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E721-E5D5-4560-9BCA-619E99C3F59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6C6A-F3B7-467E-A549-9BD0826174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C1E5-B50F-474E-9C9A-7ABAC986F7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149C-720E-46C1-9D79-511E1FAFCD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8659-935A-4B0A-9832-4DF26C5215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1F45-E406-43CE-AEBB-1861C778144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B7F4-1B1D-43BB-A2F6-8A2BB1486E7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DE17-AE18-43D8-9399-B35CDCE9F2F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8DDD-2AFD-400B-868E-F4AF876162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F434-BC4C-41D3-9126-F3F538564A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BE68-9AA0-4060-B3D0-32BB8C688E4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EBBE-B2ED-404C-9649-A12105CC1AD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1D8A-1AE6-4D8D-9C58-E64E5D0503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29FA-0C9E-4578-A5EC-196C9E778C5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E1FB-CC36-4320-A1CC-97DDCFC3985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522A-0355-4A26-B8F3-3384C4C0B2C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FE6D-637C-4DCC-B083-27679E5AC2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649F-180B-44D4-ACF5-DBDE62033D6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673F-9F2B-4104-945D-7E0D57AC12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B27E-0F1E-4829-9FEC-CF414BD84A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736E-A404-4F24-B5B5-717D02B8C4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BC5D-8541-4367-B499-3EBCCB8C709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8E1E-242E-4F46-BC8C-66C90774B6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58F4-D7A0-46A0-83C6-A8E2A52CA3C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6F31-8F64-40BE-99E5-EEEAC37B4A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A142-0BF4-4BA9-B5BC-CE163E353A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5047-4015-48E0-BE23-6354EE7224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FEAC-88FB-43D9-A58F-BC09816FE3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5F08-AC93-4A3F-823C-D94F25BD36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95E7-C6A7-48AF-8684-19402F9A26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353D-4D7E-4916-B315-AD941D0B37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911B-A0C5-479F-8310-99A69BDDD8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0326-13F7-4D60-B67A-8F9D99E9863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E0CB-6F88-4F08-9122-D99C11EAE7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3BEB-46CD-49F8-A59A-38290954B6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8-01-23T11:28:41Z</dcterms:modified>
  <cp:revision>115</cp:revision>
  <dc:subject/>
  <dc:title>Aims and Objectives</dc:title>
</cp:coreProperties>
</file>