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19781F-5A72-4205-AFF8-3A42D08DEC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2E03B5-392C-4622-82FB-42B681BF519D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D24D8B-F5FB-4A76-8DD5-0F8DAC8E63E4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861-0A32-4941-95AE-E363A686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C53-8CDD-4AFB-BE95-FCFE0EFF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59B83-D279-4B34-91B7-187A49C7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485F4-26E8-4F84-98A9-1F822DD2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F80EA-D3AD-425D-853C-9BCA8186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D2F5F-6113-43F7-8EFD-1C2D5A30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9BE14-63FA-4AB4-8605-FDD2C6C0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64748-9F4D-435C-BD2E-1AAB486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74C96-7A33-4C72-A58A-308FD127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9CDD2-E6FD-401B-8BDB-EEA67230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42AC4-C6EE-49C8-A0A9-C97736C0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3A610-349D-428E-9429-61290DFB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5E3-1625-4F40-99BE-6A0D4077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619CF-BB37-4D40-AA4A-3C5330E3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C79FD-770B-4719-9A92-A364633A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1DC59-9ADE-452C-9EF0-B1AF7C21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EA425-7043-4FCC-8E50-187BB07D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F82C5-2986-408B-A988-EDC7A094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AF8C6-B1D3-4940-84A5-867065C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C5AD3-3071-4C35-A241-D50971E6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08EC6-CD75-4C64-9302-FDE3CAF2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2821B-6C88-464C-85A0-856A8D80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C6D9D-DA2B-4263-8798-21BF90E7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A36-4268-43C8-B470-3319B3F8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0AF44-2244-468A-AE0D-48BFD11A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96F78-3D17-404F-9092-9FE1E1C4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7DD75-519C-4CA9-B022-B4E05A60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5A29F-8428-41E3-869F-7E4C1A30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B95BC-FF17-49C3-8D15-4A226B1B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4A81D-3BF4-47E1-A551-C0755374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FF4E4-10E5-416C-B0BB-D9E50E3D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CEEC9-18C5-4381-AE22-21ED7EC3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7E593-A824-4A79-BC3B-DD82ABF2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68EB4-BBA6-49D5-BA52-372642EE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EA8EE-3561-46BF-BC7C-1370CFE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8AA6D-CB06-42CF-A4CE-8C9A7945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3220C-3811-449C-8377-26BC032B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A8371-9369-40E0-B5F2-07A1034F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A4923-7D1F-47C5-99F7-B4BB2330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AA442-B233-4024-A843-D6670B7D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01486-1D54-4E1A-A2E8-B2CA104E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AA198-B095-49C1-9EA0-E9880B7D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D2E78-807C-484F-8D00-F1123250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C1FED-1293-4DA4-82C6-AAF14C6D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71F48-F323-4A60-99D1-5081A16B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94227-A0A3-4146-902E-2E78FF5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83185-F492-4A44-8072-F267A3CA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43254-F2C5-41BF-851D-B816A217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825C3-481A-4FDF-AFC6-246C1578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A7EFD-9916-4C8E-9F91-1823509B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5B678-8A27-4947-BAD2-378A1A39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E6B09-4CA8-40EB-9975-40D5C256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FCE3B-64DA-4E1A-8093-5C8CCAE8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8BE5E-4820-4F2C-BE74-D97FFE37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F27BE-2A87-4026-8286-C00D9C92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B6045-9B7C-4A4B-A9AA-F0E98B33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B4D4E-B549-4C9C-96EE-68CE60AC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7E6AC-9DED-4AAB-93ED-F260B3E4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CBAD7-23B5-4971-98E9-0D3A04B0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738FC-E112-456B-BB44-F4BBF5A9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D0E95-8F40-4BDC-A2C0-3A067B58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980AF-5B71-4234-B9E7-D2951008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AC406-55EC-4D13-A432-BDA9A888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AF574-608C-431E-B15F-74660BB5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3D3A3-833F-4BE3-8E59-45C6387B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B8BCB-15DF-4DB3-AA55-31697B4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E6C5A-5BA4-417F-8B9F-A75D4569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FAF67-8A07-4CA9-9BC1-F764FCAD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D8771-9BBD-4F29-8BA2-4835DFC3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C9487-E923-41A9-B886-720DA5CF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D1FBD-480F-4EF4-8CBD-447F4EC3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2A45D-D995-498F-8A11-A4CB63E8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15084-CE71-4706-AC75-BB063EBD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791BF-A4B8-493F-9910-0698095E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6B17C-890D-4307-AFFB-7A431CBC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A0BA5-B9C6-4D4E-8FEB-2C058174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4B0A3-E34C-4CA9-96B9-C0C3D3E0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2AF29-2D17-415C-9B9C-F4DC63D9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B5992-8B29-4C06-BB06-D1EB7A11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A35DA-3F74-4A81-AB82-BA4F65A8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04909-D9AF-4051-B482-8AF4A998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98587-6BC3-4FEF-8EB5-F563BA1A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E1CB7-4ABB-4BC3-90EF-3A738421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EE777-0D0D-4AE0-A5ED-CC401601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073C1-D6B7-4943-BBD3-D02747B8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DF482-8EEF-482C-97ED-198D10CE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0DE27-80DC-4F63-8E63-5ABE0504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6573B-2A74-4971-8AFD-5C163B06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BF762-BD15-4F01-BBA8-ADC39652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2ACCF-4B65-4ECE-9603-3E85A31F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5B6DA-DDA0-4C20-84B0-39AA01D9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872DE-1683-4099-B360-79F96D9D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83A2A-AA62-4885-834A-5E841AF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F3B0C-C085-415D-AE5A-DF6FA386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E77CD-378C-4D05-B609-4D8F0FE9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38062-1216-47DC-94EC-0BC3BEFB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0B901-A67B-44F7-9417-77D29FB1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6047E-FAD6-4D03-999C-989FCEC6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3CE45-5CE0-4827-A16D-73562C5E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EF4E0-B64D-485E-815F-CCED13A9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15862-D506-41A3-86B4-EE9C250B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A0542-CBF9-49D9-9DA7-CC7E5D72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63439-9E3D-4D93-80CA-D6473E3F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C02F1-F7B4-41D2-8C20-18257EB6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5DF-CD6E-4655-8F61-0F736C21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77E7C-AE62-4DCD-B5F8-EA4931AF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937F03-73A8-47D0-9EE6-273CA529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17EB71-A5AD-45EB-BC35-8FF3EEF2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8A694-040D-4F26-969A-DAD56EA8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ECE6EA-A99F-4E83-B9FF-B64BCB9B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8F4C9A-0619-4538-8BBB-9367D3C2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B86B2-DD1B-4803-9E8A-0B470430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97EF5-37FF-4862-9135-559F74CF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6C481-0C01-47F8-9F98-0733228F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EFC0D-E9BC-4048-B268-823679D9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51689-555E-45D8-92FC-619F7857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9BE959-2ADD-48E8-9C8A-1F9CE055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1A41A-4368-4775-8206-5BF7E511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4F9C26-8486-439B-BFF2-448B903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75DB3-8527-48A1-8DDC-E812A733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55F0F-E9E2-42DA-BB42-E2D1D657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45D97-1D38-46FE-B141-90E6381C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DAA-A68C-4D4D-8DDF-A60EB243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AE6-3EE6-4288-9620-D2FAD381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11B4-98A3-4324-8E03-CA954C97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1BD-7808-4724-9E2C-4CED4B1B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7FCB-574D-43A7-BACD-FE7049E2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11F5-A802-4B69-9764-76DB405E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4867E-EDE5-4625-803D-226830A6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C7AF-E77F-471E-A618-62CE077C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4A7FD-1531-4D41-B3E1-8567474F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C0E01-A4B6-4F48-8BF0-DA64C8AD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8E780-9AC3-431E-8575-1C96CE4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9DCB2-5EDE-4437-B257-37FAB3BC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0400C-8F15-4B99-BC0D-22144074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7B41-2AD5-4704-8066-FA467EEB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11A-81D5-4370-8356-C8ED1593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D6139-62B0-4D11-A9DC-C39DDBCA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7CD66-65E4-4708-BA9B-7D22F07C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125D4-9088-4B10-BCD9-D2162CE1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D458-0F33-4AF2-8AB8-11226AF9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D4BEA-5E01-473A-B034-7AA47CC6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A9AE-EF04-4932-B81B-0DFD9CBE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134DC-E25A-45FF-AD57-A15BBD2E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B9C8-62CE-4BB0-89F0-E24E3138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373B9-7CB1-4218-BB05-F65D812D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207AC-C62D-4CA4-85CA-E7CA045D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6E5-61D9-4101-B066-A2A20519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B2A00-E3C7-47BA-BBE9-B0F0E1A2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4A448-C819-43C8-93D1-3882D93A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88CC-E828-4FC3-AA6A-DD571ECC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DC01E-6289-484F-99DA-A6B4C287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42AB1-D2D9-4A44-9BC3-A6D7BB1D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6FACE-6D5D-4E59-9E4D-0C5183AA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2286C-B4C7-47FE-BF30-8BDDFD03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60A3B-0AC6-49E6-A312-83F1BEE6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CC1CA-B4C2-4BC2-B5CA-72DBFF1E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93A71-BD18-405B-823F-B79B996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832-B515-459F-8383-7AE9E3B3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24F3-DCE8-47F6-AFC5-D8F4C80A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30FE9-BE2B-4A54-882F-DCB5913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76B5C-0B12-46CA-89B1-B1F58211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050B0-FE7B-4B1E-BF06-39ECEC00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69129-3850-4470-A80E-BCAFE8F4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70D20-867A-4EBE-8456-D60014DF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F1F01-4F2E-4B2F-AD61-3CEAEF87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CF7E8-1257-492C-9E97-3283E057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B5668-B686-4939-A3B6-3349A6E2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20862-106F-4CFA-8C6F-A015FE9C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55A-7095-4D3E-A26F-29BF368D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71FDC-8406-418E-A91F-FF299189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ED4AE-ECE7-4F30-B9F5-929FF170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17760-8600-421C-9E93-A3A3D0D1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F897E-B45B-431A-AF1E-4C96E63B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32A4E-C13A-4D29-9DA9-BE67AFED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1ACCC-AA68-4ACF-9384-804188B0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0F7D3-E3AD-4306-9DF3-24826498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7C76F-F0ED-4FE8-A62F-D06962A0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DE830-E878-40B7-BEF7-B31055C2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F4565-7CE4-4A70-9CC8-29085FB4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72FA-D598-40F4-9827-C1FC3364304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28E1-D433-48F3-986F-A4F9C51851F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425E-613E-43EB-ACCA-E13D2F2AA56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962D-1B15-4694-A07C-6488550F694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7505-C77D-4703-96A1-076E7545078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CAB1-557E-4014-9A0B-C9263994692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97D4-6266-4CCC-9713-CFB5A0A17F7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09BD-76F2-4235-AC48-ABFE00AA0B4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2295-7965-4153-9828-604A7934F22D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E6B4-9EE4-4773-9B0D-5617A23227F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681D-24B1-4FB6-A5DF-DB0D38A5F4E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8CE6-EC63-42AB-A3FA-006755D8F65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E7AD-612C-4A08-A9FF-97752F606EE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5823-5DB5-4E30-8CA8-9B06D084661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9A75-1EBC-4D06-9173-F1A01ECCFA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FF01-4368-4C94-8912-3A29C41321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2D30-A342-4280-8CB9-BFCDD7C47F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3F36-691A-4E70-B99C-14E13BCAC2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A7CD-36C5-4F1D-AB80-7A1738DF4D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E92A-A7F1-4004-AC69-FC70DE8CCA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0D88-BF99-451A-A4B4-1EEE68E2FE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BF15-90F1-4580-89AA-98B31BA9C9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4E96-DD26-4089-A2AF-84659B86F0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E2F1-4E1D-48F9-8F04-C3C2231D73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45C4-5FFB-4B47-97FE-D83EF12210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0DB9-85C1-4A0F-8B38-00931016D5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140F-1274-4458-A4F6-2B4D0E89DF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5928-2D5E-4218-B72F-FF499D588A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2DCD-3212-4EA5-A35C-439FCC8E5E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8182-ED21-4AFD-B043-734FF87385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1D8B-D8EA-405E-8151-39FDF4C3A8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4F26-BFFB-4B54-9D9E-81312F9EF9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B342-D455-4ECF-BCF4-53FD7EF165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A55B-7E92-4B94-83F0-D5FEF438EF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896A-FFCE-4C34-BBED-A729A12B06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A747-37DF-46E2-B775-C341C42C10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8BAB-42C1-4139-B993-3F4E7B76DD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0F53-6C9B-4D7F-A779-87210BFCE3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110F-0022-40A9-B541-32573D2EB7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508D-A782-48F3-AC3D-2C40E15EE8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3240-A71D-48E9-8E9F-F39D50D636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2314-3B0D-4D5A-AAF8-23BCA818A0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7DD0-C871-4590-A2B3-562C377344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C640-C9D6-4004-AEBD-F13EBAE3B3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1EBD-22B3-4937-879D-74CB7D4249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3D10-0CA3-4436-A661-AB675BBDED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1D24-8428-48CD-AEE8-C0AAADB3E6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C652-6286-4C7B-BAC8-2CB9C251B2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EE17-6004-414B-8F2E-9F9E1C1256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29E0-714A-4FD8-B932-035083966C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2612-1FBA-4391-B00F-B95EF6AEB7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6556-F2A5-44FD-8EFF-90C76E1E5F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809F-2FB8-43EF-A8CF-8E0982965E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6038-B83F-4780-9199-DF465AAF87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571C-5885-439E-A8DA-873B7EAAC6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3FB0-040F-4131-9D20-591F40B1D7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0237-2C7A-48D2-8CAE-28CC57E20F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F064-80E0-45FD-BCD8-E38BB192AA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BDEA-442A-4A52-A00E-443019088C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897F-DEEE-45E2-A219-D6D9670965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A273-464E-4B72-B65A-4D6D0F67C4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AF1E-73D6-4C87-90C2-D6B3519EF4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4BD3-332B-4AD5-A1C5-C56F00BD85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51D0-9313-4674-8329-A1E1BC66F4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1494-CC36-43FC-BC72-2F4D66C3C1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A5D2-DC83-41D4-AB42-D05459F9A2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C880-5312-48EF-9C3A-91826AA840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B7F2-A8BE-4D3B-9457-80484D5808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E2FD-9324-431A-BE39-EA753D267B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6FB9-AFB4-40A9-B578-6565C0CB4B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C608-5A07-4902-B761-71D309DC52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8837-CC3F-4820-B82D-A93B46CF8C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8-01-23T11:28:41Z</dcterms:modified>
  <cp:revision>115</cp:revision>
  <dc:subject/>
  <dc:title>Aims and Objectives</dc:title>
</cp:coreProperties>
</file>