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EE487-C879-4764-A980-88F1763906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C64D69-A4AA-4B7A-BD02-00AAED47E67E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E3C054-6CBA-4823-9354-81263C52E615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1F6-2774-4631-BAD7-F8FC5D6D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8AA-2D68-401F-A4F0-20D3EDF1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88DB-98DB-45B7-8091-9FE52012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91F4D-ED1A-4B88-A103-AE8BC711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CD99-84C3-473E-96AC-DB9D4C39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0A1EF-965A-4BAA-9FB2-035E39D4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E7878-98D1-4971-BA24-33F837F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927A1-1C72-406B-8791-0D0637D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FFB86-ECA6-4654-9846-1AF9824C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8B20-9951-4D08-B7FA-13F8BAAC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0C50A-3C1F-4451-B742-B40B4E91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59A81-411B-4317-91ED-51CBE031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FC5-FF5F-4B7E-A337-5590D63C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66EE3-E77D-4245-B126-2A7C96D3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4A9EE-D27A-4212-9243-3EC17D69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5FDA0-3CE4-4F7E-9C48-E75290FF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C7A09-BE32-4252-B49B-C7F4B787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BB8EF-F710-4BD1-9A9E-8A83DB9E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F10E7-7A82-45DA-801E-4CB4EC6B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0F0A0-74C6-4EFB-8BE4-C2820F8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2F541-EBAF-4AD1-94E8-012269FF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ED088-FCFB-4D3B-AE0B-1F83E882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36C84-7416-4A62-96BD-04F79CE8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84C-1A07-4A2C-B7FC-9F46F5B1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D7CAF-68D9-4EB8-AE48-092DE54B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C20AA-75EA-422D-9C89-88810940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9E3A6-ADF1-46E6-AA95-3B22AA8C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55C0B-769E-43A0-BCE0-FFB0286A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9F0D5-EB40-4D4A-8B7F-63F5F8E9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169E3-5DAC-46EF-8343-01F9E25B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2CB0A-1174-458D-9A7A-752A6F31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5CC01-933A-454D-B821-E2EC54B3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9198C-F64D-43B3-A84E-73F708B2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94169-609D-4AFC-A4FA-355297D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CEE99-1152-42EB-A12A-46A6FE86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298F9-8C7D-4555-B29B-9C4A9435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0CA73-A942-45DE-B7FB-7EADAF82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B4149-38F5-478F-B780-45FAFA2B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D264A-B838-483C-A283-13A6E306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00FFF-D645-4F2A-851A-51AC26A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829C0-A797-4214-8D43-1EE469BE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80F63-9D7C-4A4C-8659-7BF1D4AA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B91F8-2320-47C6-81D0-9D795A3B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06C61-2A1D-48BB-8CDB-302695CB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36056-3833-4070-8533-9192B27D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DA724-8DF8-4074-A18D-B2839291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ECECC-DFE0-47A4-BAFA-993C8076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3D0EC-4EFE-4835-B2CF-8EBF2E95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FAFE1-4E68-428B-BB61-9A8FABD6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027FB-59D4-4B27-A0FB-F5FEA765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C874D-2E00-4E66-807E-77A4F627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CFD5C-A65B-4029-B867-D3AB4832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A3D34-3B01-4AC3-84F9-4E8E3641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755C2-1F67-4A96-914B-640EB862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33B78-CD25-420B-A7E8-5B664001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22CFC-B09D-4589-B7CB-3073E53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4C492-834E-4E49-BA52-9936E39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E51AC-85C4-47F9-B276-CF58353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69A1F-ADCA-430B-B452-71719202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1FBF8-827B-49A3-BED5-114B91AF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20BA6-30D0-459F-97E3-0C7848A9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B66BF-497D-45BE-8DE8-F59F6E99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151C3-BF3B-4C61-A457-6BE389DC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22135-C3D7-44DC-877B-8C60A8CC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8056B-48D8-43E6-A4DB-91CD4964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99BE5-A546-4905-BCE1-C5E2F001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CD9F6-2B9B-417A-98C0-FB445F86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CB874-5C2F-4A51-B2D3-4EA96EB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B23C8-4AD0-4EF0-9206-398ED3E8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52232-5391-40BA-A2DE-53DF240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F2FC0-F9E5-42DF-AEEF-79FD7D7A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E12F3-9F33-4D64-839A-0366FF28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4DA74-F0FF-4300-A4B1-8408157D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68D2B-8991-4828-825D-977277D7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CAAF5-3C91-48BF-9457-C998A68A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1A4EF-231A-4B97-9E61-7AE6074A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72C77-B0C5-4EB2-8AAB-61E1B76A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DA628-9636-4573-B37A-30A8FE88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179D0-B657-4FD1-BCEF-3DEDBF5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6FBBF-1B48-4139-A5FF-2C78264B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07971-0C5C-4A39-B919-AAF1CC3F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8453D-850D-4CB3-A64B-C595989A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BAB7C-E50E-4ED5-8032-4373CE27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527D0-A55A-4178-86D1-A3A4D71A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5AE6B-47AB-42FD-BAA6-21AD84AA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FE5D7-1010-4712-838E-25AC941E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5E07D-674F-4F86-8D70-F57A2795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B417E-07AD-4259-8FB8-BC92F92B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1FAB6-B672-4BC5-A15E-86C15AAC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32328-056A-40DC-9391-B51BABAF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9117C-F720-45BB-9771-C2A3D0CC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E3277-5C02-43E8-846F-38F3E25D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9AAED-DC00-49A9-BE34-83831197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62E0B-AB19-4CC3-8E26-D16451F3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E9631-60A4-4D60-9F1D-EEAF9554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5B888-AA31-4C57-9A78-8A161363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75DC1-69CA-4ECD-B26B-CBEAD89B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5CD51-E270-419C-B211-743FBB4B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251B0-4FE0-438D-9F82-236C2717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AB392-2E5C-4D08-B45C-6FA08F79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F6C17-4C81-490D-B0E4-13975283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1C9C1-0C4A-4BE4-A7AD-017D837A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8B9D2-E023-4E4F-B967-0D8C9570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0BA94-D6A8-4823-A361-E7B0E3C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4B7-267B-40F3-9167-6F34A6C0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871AF-5A64-4375-8457-638516D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02B32-8E7C-4703-A977-A3C2C9DB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D871A-64C9-471D-940C-C875D461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50E49-2FA7-4A98-8674-9C8188A7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8F666-FF38-4445-9FB1-2C7EA867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96A39-6CD0-4C28-A5D1-68DF178D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E70D3C-73B6-420F-A550-62ECEA28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2FF8E-0D21-4C77-839D-13087946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B9C33-F4EA-4611-A5B9-7C256571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4AA0B-4929-4F93-863A-87BB5DD6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5A9FF-85E5-4A8B-A314-D4A21D62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05B8C-5C40-4FAB-863B-6504102E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A107C-A095-410E-A558-5135BAE5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9ADE4-901A-4A45-A16D-7E3CB703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06CC8B-A256-4404-8774-3D9E0714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F9C32-99BC-4CCD-8457-7356FEBA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EFDDD-99D7-49E3-BC78-FF0B750A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5E3-9C4F-4E66-908B-3AFCF793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9F6-4955-44F8-A271-65D9C880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42DD-5F3E-4D16-8481-82F20BDC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A38-620E-42D8-9C95-F988846E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4E2D-70B8-4167-BB53-951E9FB7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7CAA-ADE0-49F1-A24E-290A063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F4B7-3123-4501-8AB5-ACC6EA93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2EA11-F8C1-4EFC-A545-979F78EC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265C-B034-46FA-812A-2A60FBB4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F1CC3-E3FC-4BA7-929F-189181D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CCBF-02D4-4337-906F-5FF7B6F0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17ACD-FA42-499E-A0D8-448E78E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E558-34C7-447D-B122-BBC471B0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C0F1-D612-42B2-976D-D9CD78A9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971-4DB5-4346-BF9E-DBAB8D4C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69B9-3C6A-44C5-952E-505B8EF5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83BE-9B33-4218-928F-9B882200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408C2-7922-4663-976F-5250EBA6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0E8C1-F2BC-4EB3-ADB7-5731B828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E1C41-4F70-45DF-B06D-CFBDD0CA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C38D7-7E14-4FFA-AF6B-704C6BFF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D79B-622C-4BF0-89C8-393AFA28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90C20-4A61-4CF1-9E3C-7FA042F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E052-1195-491D-92D0-A663324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B5F70-79CD-48BE-99D8-CACBAFF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6AA-F7B0-40A7-8BBA-AAB967BC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5B630-01FD-4376-8885-22EAD323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E71D-ED68-4A15-8095-E1ACAB73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2A2C4-B446-4CB3-A960-4FE614B3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AF5E-992A-4E7C-9F0B-DF257F45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76550-2629-4FBB-8208-0285EEEC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7DA8F-7981-4DA1-96B3-692AA3B0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F37CD-1331-4202-B04A-8C6C1CA0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2770B-F495-46FD-9B2A-DE3D01C8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D015B-1DF6-441F-81EB-A013A5C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4BB62-B0AE-4806-BDC6-B2D25C65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6FD-E464-4973-B4D9-EFB647BA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4765F-3D82-478B-A31D-C8DED96D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D5437-77FE-498C-87B5-B131D663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897B-248E-4888-9EBC-7D6AC0FA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7D86D-76DB-4B77-AEF0-DD4C9E6B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0E2B2-F21A-418E-9B43-6BC90367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E4E2-0EBC-4A16-AE20-D819703E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DC5BA-2227-439A-A6D3-DD8F583F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02B2D-46AC-4BD5-BA40-C6BE3929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8DAD3-FC38-49C2-BC8A-8F6924F0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3C4DB-01CA-4129-9D29-E2D5FD7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7D0-8821-4FB6-B5C6-91650B06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C6EB2-DED4-4BCB-BD02-DB5B9DAE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DE09-A6E7-4578-B854-4960EA3F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95A74-601A-4B29-AEFE-4D30AD0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62C15-8A37-4F4B-8B79-714936F3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EF4DE-83C8-4F88-994C-EBA815C0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6C3CA-5090-493A-BD8E-8FE9AB39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72C22-1385-4AB3-99B1-702BB612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BFE06-70BF-47FF-A600-7F1FD37F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2A8C6-F5FF-43E1-8B09-C7352475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6177-CF92-4627-BBDB-6BE185B5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E324-A11C-44E8-B051-BE63B85F24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2520-3572-417E-A574-358895989F2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F976-1F33-4855-8A5D-A328D90F1A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AEBB-138F-4F11-A750-92C80DD24C3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A097-8E10-4378-8DB0-CAEF99EC7BA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9DF1-6EFD-4D3A-B09A-B6F68F532AB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6689-B9B2-4D04-81D4-C870EAA4897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630-E580-4F88-BFFA-5CF1ACC4500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91C-BB6B-4E50-A9CD-6BE43AE05FF8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5EC3-8353-40AD-90A3-1C9CEB3D46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6F88-0A9A-43EA-9530-A804E50FA15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0ACD-7D7E-4A7A-BF50-1437C811129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6DD5-6E77-4B1F-8139-E2E423686CA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0CB1-11C7-4CBB-8AB3-3C0073A3757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A6F4-A20C-43F2-A29E-279D2BD99E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6A3D-C490-4369-A3AF-337E462DE1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1F9C-6762-487E-BB0A-F4FCB480EE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68FF-EFAD-4F90-BCF3-B666FC18CB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3ACF-B76E-483E-A998-DE20797C0E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4F6F-DADB-4F9C-8B95-12679CF082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5709-A02A-48FC-8457-DBE461D37B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9A2-60BD-4E74-B3ED-0229A2B8DB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7297-4520-4D10-B746-01A341FCD0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25E7-76D4-48C6-9D2F-CBBA94F69C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7CC2-3CB7-4162-B593-279F91324E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7659-A310-4C6B-94A0-581FFA50E7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ABA3-BE83-45B4-8065-5B4178703F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9D5E-8145-483C-AD2F-833F2A2C9F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A381-BDE1-498E-8F51-0AAFB48385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7DB4-0E64-4F36-8A35-EA4874B51E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3AA-0E46-4A98-9F29-724A0CACFE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1EF-DCE9-48D9-A7B1-5E103C8175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BA22-9FFB-45E5-9EE3-A9632C477C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B9B8-A456-4D9B-953E-B137788BE5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1FA7-A395-494A-A3E9-636901306A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7563-3A88-4563-82AC-57CFBE8DBC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78FC-F118-4C05-8ECE-24CDD184DD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EDA2-FBA5-4F77-BA15-5B3C77EC3E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1F7E-75C5-43BB-B9D5-509F5CF195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1E3-AA46-4303-A367-E5814861AE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CEA9-5C7A-4982-9F93-D5B18AA8FA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6946-69E4-4C88-98CA-F3F44FF25D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4494-21D8-4E9A-88CB-FE6AE773A1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F323-EA4C-45D2-A9E5-7DEB074AE5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4571-4180-4A80-9129-9AC442B8C3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AD4E-7BEB-4A96-A435-488E5F92EB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D9B0-5F8D-4341-A5F3-C16EC033FC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56C5-6E63-43DD-83ED-0CBD9F1190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2749-E49F-4B70-AEB3-D17EEB7F41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1821-DA6F-4EB4-9A77-E419E86FC1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BA8B-0A6B-4FB6-A132-9E64359DB7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F376-12EA-45A0-9B83-87B83121C5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3F59-4BAE-436A-B1DA-9099C45034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3FC7-35DF-4B41-A9F4-4A98E5BD68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4F4-10B5-47D9-A97A-3584A62FA3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8763-83C9-458D-91EB-9ECFFB4853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47AE-7B50-4558-A288-64A432DEF5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AC1A-89E6-4E28-BB09-5ED37ED227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568-B8D8-4C5B-8E3C-52134E1C04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9114-1589-449E-A601-279E41F229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0BC7-B7E7-48F7-B494-3043FDEAE6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E14A-75EC-40DF-B646-E5D6E7BA46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D97E-56F9-4A0B-B0FE-C2B4AEE6A4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9D08-6E8A-409F-AF76-9477819DB6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7645-C1A2-4CFD-8F59-294874AAF4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A27A-655F-4211-9636-30F462A7BB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5D52-F2A9-465E-874E-B0DA19F3DA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9B9A-B402-4892-9DBD-0B2538DE0B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9915-15B9-48CA-880F-B10024C2FD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8E3A-A4E8-4F60-8055-E06EC0AC29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7EFD-CD61-4DF1-BB98-7DCA9D3776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0ADC-B36C-475F-A2D0-8EF894542A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8-01-23T11:28:41Z</dcterms:modified>
  <cp:revision>115</cp:revision>
  <dc:subject/>
  <dc:title>Aims and Objectives</dc:title>
</cp:coreProperties>
</file>