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wmf" ContentType="image/x-wmf"/>
  <Override PartName="/ppt/media/image6.wmf" ContentType="image/x-wmf"/>
  <Override PartName="/ppt/media/image29.wmf" ContentType="image/x-wmf"/>
  <Override PartName="/ppt/media/image31.wmf" ContentType="image/x-wmf"/>
  <Override PartName="/ppt/media/image7.jpeg" ContentType="image/jpeg"/>
  <Override PartName="/ppt/media/image10.wmf" ContentType="image/x-wmf"/>
  <Override PartName="/ppt/media/image11.wmf" ContentType="image/x-wmf"/>
  <Override PartName="/ppt/media/image12.png" ContentType="image/png"/>
  <Override PartName="/ppt/media/image3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png" ContentType="image/png"/>
  <Override PartName="/ppt/media/image16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8EBF-7CDD-4811-B1CA-E2C4A22FCF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00B6-A423-4FF3-B1D7-F6A13B82930E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AAF68-AE42-471E-98B3-6E28C8A03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B379B-839E-4EF2-B736-7C9423C75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3E536-D196-4DD9-8D61-F8722B579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03EA5-485B-45ED-85B9-51C56A331A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3FAD9-7D01-447A-9F01-DE3650416C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FBCD7-36BE-408A-B45E-1790EECF4B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F938A-6072-4721-8933-C6F06C9E5C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B81BB-F423-495B-A479-2E6FD8BBA9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BAE4A-2FFF-4C2C-9856-93EC93E729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EEE34-4AA4-4334-AB08-88E441AB5F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8A18C-C817-44BB-9CAD-99DE165CD3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0201B-A2BA-4CD0-8BF2-F442F6BB0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316C0-E32E-40A6-B556-4DC35AB182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25F8B-C4F6-4021-8691-BEE9E207FE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C42F1-EAFB-424E-8492-637F0CF2CF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BEE8D-CACC-46C6-B103-55B85D4A63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F08FE-5D81-450B-B026-AE345751BF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8FE42-C1E9-49AC-9AF6-EC79FF5D9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BB950-F045-4971-BD22-FE619906F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08136-77A6-44AD-944E-23C1F780A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169C2-5DB2-4458-A7D8-2BCCC4B3B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42704-A3DA-4529-A481-FF8C7C9A7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623E5-3951-4CD6-88FF-8817C7637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AA311-F68F-4936-9050-7664F247B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BE146F7-92EE-493B-BC3C-41DB9ECA9FD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2E039F9-4645-4029-96D9-A421D0A76EF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4267080" y="301680"/>
            <a:ext cx="4572000" cy="69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8" descr=""/>
          <p:cNvPicPr/>
          <p:nvPr/>
        </p:nvPicPr>
        <p:blipFill>
          <a:blip r:embed="rId2"/>
          <a:stretch/>
        </p:blipFill>
        <p:spPr>
          <a:xfrm>
            <a:off x="4356000" y="301680"/>
            <a:ext cx="4616640" cy="807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85222E1-F139-4D2B-90F8-4172CBEED87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60EF227-DD26-4CCF-8005-0E840A7E63B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7-07-03T08:52:35Z</dcterms:modified>
  <cp:revision>350</cp:revision>
  <dc:subject/>
  <dc:title>Exploratory Data Analysis</dc:title>
</cp:coreProperties>
</file>