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C94E-1D1F-4A6A-B6C8-43E58D610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C78DD-2EC2-41D3-816F-8BCBFD2A6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ED1B7-D4A5-4992-A2EC-E169FCAA2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C592-4790-4D5F-BD36-DF5554022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F1F8F-1E2D-4B61-B212-D88CDE4C35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5EC9B-5F0C-4074-87B1-ED8BB75B62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60992-8142-4061-B009-B9043E869F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CF172-F3E5-4768-85C7-31FF7F3A21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D25D3-52C1-411A-97BB-995CD7DC03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74E06-5D05-46A3-927C-554C681CF1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6A3D0-7440-46A2-A7B5-9F5230CDEF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351A-80FA-40CA-B07D-EC8CA5560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E5909-6695-4D40-812A-450B3443D3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AC453-36A1-41A7-AA8A-2FD61C5456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7C9F0-F456-4E89-83BC-9EE8190116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09E7A-4C20-4743-8833-60019F0244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C93B5-DF77-477B-9A7C-4ADF967C61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24349-2C00-46BF-9492-6571ECE6E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FAFB7-D377-47F7-9A41-931A03601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1307E-5853-4EBB-B255-CA18557E9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48B13-436A-4596-8B8A-4F104AB48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D5C94-C146-45CE-B1D9-993A3646C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3A6E-50EC-4E82-AA20-60CC0B040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59836-E862-4070-B888-9DEF62A92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D439A80-A4AA-45D2-94D9-8658C4E0DA1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04F294A-B32E-49EE-AA91-6C582F19ED0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219640" y="301680"/>
            <a:ext cx="3567240" cy="53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572000" y="490680"/>
            <a:ext cx="3567240" cy="536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6FDF1E1-A5D8-4214-B476-C351C331EA9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72415B6-4C54-4BCC-8E5C-3F7BEB9E33B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2FA7-26DC-4DDC-A433-5F3CB00670EB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7-07-03T09:03:33Z</dcterms:modified>
  <cp:revision>336</cp:revision>
  <dc:subject/>
  <dc:title>No Slide Title</dc:title>
</cp:coreProperties>
</file>