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CD91-A802-4E64-A4E3-1C0E7CCC2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BADA-4B09-4EE4-A6C5-EE00574BD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CE63-C25C-4F50-9AD5-CD98CB3C5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E70AE-C442-47B8-97BB-78E879260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6B2AB-FD7C-4020-8840-2AB28849D8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0971D-6B1F-4BE1-A0C1-0DB9B87CD1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036B9-2948-4974-A119-2F997D32CB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A1D7B-A5DF-4887-B5B5-B79484D4A7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D5F37-E6F1-4DD4-BECE-03CC2A8350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8E207-2E58-42D2-9A72-867606F58F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C3123-7338-4BDB-9E7E-ABA4E25807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FDEB-3EB0-469D-A771-F65C9CAEE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7C618-699F-498D-8C22-27CCDA82B0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D28CA-7B0B-45A1-96A9-BDBB156B0A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21DFA-5FBC-4BF3-8008-909F9119EF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CE59F-1968-4490-86F6-7534DB9F92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5B771-2856-41F2-A3F8-F961964236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BE68-31AD-4229-8CB9-C77990C5F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6834-C03F-4ADC-9246-978A13178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E183-018F-46DA-97BC-7603F6FBD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0844-50EB-46B8-9ABD-8C0A3616B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C9C6-D2E2-46D1-988A-A7F2884FE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D986-3F91-444B-8493-5CDE75606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31FC4-D266-4694-B01B-42EB1A71E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AA70B0D-4C50-4EDF-B740-738897C3695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6A37178-14C6-4A28-9185-0931F4A0C83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219640" y="301680"/>
            <a:ext cx="35672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57200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1B83A24-4EED-44F6-80DB-12D63DBAA9D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10938BF-2AC4-484D-BB14-BB6335829C4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02A2-A37D-4627-B967-51C38A686721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7-07-03T09:03:33Z</dcterms:modified>
  <cp:revision>336</cp:revision>
  <dc:subject/>
  <dc:title>No Slide Title</dc:title>
</cp:coreProperties>
</file>