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8BAEA36-F18C-4258-ADE1-E781A07150E0}"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9438101-7F56-4670-A91C-862ECA145BB8}"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93B71-A505-42B0-AD04-E10890776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397CE-BA49-44F8-91AB-743CE061B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35DCE-57AD-4EB4-A977-695A66CAB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C6858-F17F-498B-8588-214F8DEBF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FE8A4-2041-4029-958F-6D91ECCDA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B995B-EB48-404C-8B37-FD91C704D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6C4F8-B00A-4469-AF9E-698EE4AD2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CB3ED-6EB9-48E1-819C-B211F1502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D8BC8-1AA0-4088-A019-94B91CF17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76CEE-19A3-447A-A24A-4BAE5C03E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0997D-3E5F-4C2A-B0D2-D0B0AF1B6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73FB-74A1-4CBD-902E-EA6E7E4D8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A271-E94B-4CB9-9D1D-C72BC6D528E3}"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5BEE-4BEE-451E-9053-E46E941AA1B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CD53-04C6-4E42-8D69-88B58279240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A0F4-CA51-4FDF-ACC1-060605A927A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DE4C-BE7B-4CB1-B64B-0F3A6541336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07E8-09E0-4E21-9A98-736D93E0E73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59C8-BA4A-4AEF-AD20-EDD647B17D1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FB40-47C9-4D10-A383-3D97C8A865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0C7B-CD4A-416F-8AA9-597A05AD49E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E62D-AE00-4C45-8D37-C834A70F3E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97C1-443F-4BD5-A705-F9F0DAEAEE0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5AFC-E014-43A2-AF12-5FB0406C6D9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5E74-D046-4BEA-8657-66F3080178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3369-4ED1-4F2C-8483-650632DFB3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D239-C31A-4933-A80D-66BD5357B3A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3211-E972-4CF3-B040-F09C7793A43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80A6-975C-49F0-8683-A7D30258D0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14AB-1F53-4BB9-8D17-447D40BAD6E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C220-A72A-4B41-B381-4B110C395BF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B83E-D618-4190-994B-8E0288A3B3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DD60-927D-4F9C-9545-C5ADDEAB08E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9128-9551-49A0-8A3C-A400B8912C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6781-20DB-4C2E-94A6-769C5200E9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C18A-5FEE-4AA1-A666-2D949DFF27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87F2-707B-40A3-A284-9748A2F075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2D52-5603-4282-BBF8-313AAF236B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6110-47DE-4D0A-BA06-BA3918F65FD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0ABE-7BA3-4EF8-AE31-624052413A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9390-0484-49D8-B121-5667F7644B0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7E88-79C3-4AEA-821C-40C2ADF278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267D-07F1-4AAF-8450-1D64119B17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A690-42F6-437C-A812-9E3EEFF315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80A8-A6E1-4959-BE93-303F9F4C8E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2620-7D14-4101-9231-F9AF4DD9E3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0048-4FF7-4EF8-A979-5E5F828FAE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ECC9-0A42-48D4-9AA7-2B0EC95EAC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EC6E-648A-4DDE-BB27-2FE2B7C09CE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C92D-D996-42E7-9D3B-47F33864E2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47FD-EA8F-45FD-8DA0-6D5BC37FE0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3867-63C0-4868-A3BF-03A91F2D4E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7F59-9D6E-48C0-97E6-36C93BD427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D56C-4278-414A-8DAE-7961BF0C30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8-01-23T11:29:01Z</dcterms:modified>
  <cp:revision>72</cp:revision>
  <dc:subject/>
  <dc:title>Aims and Objectives</dc:title>
</cp:coreProperties>
</file>