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FA3B4464-C963-42C6-807E-EF8A1A24B2D4}"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86217E52-3DAC-4F97-9D01-63E77B350C19}"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9A8494-0D2D-4EF2-8577-3001B5FE4B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17AA7-F3D1-4A9E-9D8E-864B8E7E1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8FB1C5-5B3C-4803-AA34-FE17DE8394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6527EB-142C-4A0E-BFF1-8AC6A71DBC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5357D-49E2-49E4-9AA3-32286AFEE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0FF36-2F67-4FF8-83BF-D86C7BF48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3AA69-A4A3-45E8-A4EB-DBC2292B8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A0D0D-D572-42B9-A46E-EF6B26D94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1B504-1954-4C8F-BBD0-1CC6BA11B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DC2A6-3D95-443E-8E9C-A6CCAFC52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A00FC-8972-4968-9D8E-9585F001C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444A3-F298-46DE-8646-B53E143BB8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7C996-CB40-4248-956C-175677F695A8}"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1" descr=""/>
          <p:cNvPicPr/>
          <p:nvPr/>
        </p:nvPicPr>
        <p:blipFill>
          <a:blip r:embed="rId2"/>
          <a:stretch/>
        </p:blipFill>
        <p:spPr>
          <a:xfrm>
            <a:off x="5380200" y="617400"/>
            <a:ext cx="356544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F347D-D4D6-487C-A3F6-A8BFF01FA8F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C6305-B085-4533-A1A4-8ED02383DEE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A0C58-3C2A-4CD9-9F97-77F52ECDF74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B79C2-754E-44F0-9605-FB1B84A1BC7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F11E2-EE07-41AF-AFBE-E4D04835D65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E9086-FDE6-4BB3-B01B-68EDCBF2F64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99733-A3B0-47B9-9C36-19A6E18373E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99311-1D46-4A6D-8D08-E65B7841C62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28F13-27D3-4BF6-8E10-D7A949A8BD9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6F0EC-64F8-4851-9C7F-73754E70CC8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07AED-1FB7-4EFF-B190-9883468F1AB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80CA9-F85B-426F-9889-5F95E23308A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67FB9-2997-480D-9B2D-1D270B95916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973A0-D674-473A-8765-DBED733719C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B0441-BFC2-4AC6-86F7-759B28A5A2C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B541A-F58B-4F36-8B6B-92239DD339F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46C82-19DF-4E61-9891-A56AED8A0B5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8025C-51C1-434F-AB46-8F3EA55A5E2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9BF3A-31F0-439D-BD22-E8F18ABA514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369A3-F4E2-41CF-BB08-8F57D719331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6AEBC-E33E-4D86-9EE8-2715FCAA6C9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37D9D-B343-4245-A157-CCDA87A4937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53C2F-BC86-4D78-9703-5D792D65A57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CDB56-8022-4744-9950-E3823F3CB02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3C9A8-3BE7-4928-A339-6E72CAFCF20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EEB4E-BB29-4CD9-ADF0-1278728E650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8CA1F-8EDC-4F8B-B045-00F03870646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67CB9-5490-415F-BB7E-D9816F946D2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2144C-4A1B-43A1-A885-5ADEBCA8CD5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FDC0B-6C1B-46E0-BC5F-EBA79A5B28A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1BA3C-13A1-4F63-80C5-1FC1FB83DB0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50ABF-11E8-4D37-8CBC-5A93A94E429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56DE5-587E-4EFF-A42F-087F90271D8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41A18-FA5A-46BE-8555-A420F444963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7CF17-DE2D-41B9-9782-68A56EA00D2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CBEF9-417C-480A-B0F3-15749917E54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2</a:t>
            </a:r>
            <a:r>
              <a:rPr b="0" lang="en-GB" sz="3600" spc="-1" strike="noStrike" baseline="30000">
                <a:solidFill>
                  <a:srgbClr val="515f7b"/>
                </a:solidFill>
                <a:latin typeface="Albertus Medium"/>
              </a:rPr>
              <a:t>nd</a:t>
            </a:r>
            <a:r>
              <a:rPr b="0" lang="en-GB" sz="3600" spc="-1" strike="noStrike">
                <a:solidFill>
                  <a:srgbClr val="515f7b"/>
                </a:solidFill>
                <a:latin typeface="Albertus Medium"/>
              </a:rPr>
              <a:t> November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A6D42-A912-4731-BC2F-28992BFC7F0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75B2A-DBB5-4E93-98FC-0FCC200C104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7525D-9BB3-4D3F-9F7D-4BCD15CA9CA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95BA6-AA03-4B07-B561-433D8E8F5EA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5CFA3-34D1-4B47-948E-C2DEB351123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18-01-23T11:29:01Z</dcterms:modified>
  <cp:revision>72</cp:revision>
  <dc:subject/>
  <dc:title>Aims and Objectives</dc:title>
</cp:coreProperties>
</file>