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C7B001B1-80F1-4023-B48D-E3D3458B8B82}"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A24C6491-91FE-4999-8526-8F8A2A181314}"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BC0A8-46C7-47BE-A245-1C198258A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AF426-386A-46DE-8CC5-2547D7246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D367D-E6C3-404E-B38D-618D818843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4F757B-55C5-4B4B-849D-AFA26EB6F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AF835-C6CD-4C4E-8FFC-94D0D3EE6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CD12E-FEFF-4425-BCAA-1679863FB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6EEEA-C2EB-44A9-BF75-C13D5563E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3C3FF-5B28-42AE-9740-CB0509F85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C902F-BAC8-41A2-8B9C-75A29A0F2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81CC4-FC05-4569-A863-B3C608CD2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C95ED-281B-420C-A9A0-A6DE5C9F9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C6DDD-293B-4879-9999-D4EAAA4FA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356AC-B825-42F9-A039-F7A76ADAA534}"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1" descr=""/>
          <p:cNvPicPr/>
          <p:nvPr/>
        </p:nvPicPr>
        <p:blipFill>
          <a:blip r:embed="rId2"/>
          <a:stretch/>
        </p:blipFill>
        <p:spPr>
          <a:xfrm>
            <a:off x="5380200" y="617400"/>
            <a:ext cx="356544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348E0-44BA-4D22-BBBC-76346ED34DB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C174B-EF3B-47DF-82E7-5B6C5B1C430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42F78-B425-4684-BF62-FC1F1CF8EB6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17033-8BF7-4CDF-8E65-B02534D92BF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01D0E-7CA9-4E19-BA14-3C6283518E5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F903C-3A95-4836-8570-8AF1BF28700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D7EA5-1A67-4DEE-9890-F57BF09034D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F743B-B6F9-4C6C-A521-7AE85058556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2C3B0-FA98-4B8F-9B61-E17C882CDA0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FEC4C-1FB3-42FD-BE80-3AD5F7A85C0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A3FFF-89BD-4146-B224-19917CE105D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FD3D3-51B4-4122-BB0F-FF695B29601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B5C7E-8D00-4484-8C31-36416C00549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60AEC-6BD9-4680-8791-74A47393128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BC345-6C19-4473-AF5E-09E399B26F3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FFDD9-E21B-462C-9B50-0F6410625C5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485F7-490B-4E13-9943-09CBD897DD7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3DCB8-B59E-4A90-B8E8-B2CA504144C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B74A8-DE01-40C0-855B-4D9621CEC4A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B1E40-CA50-42B7-842C-07991FA18AF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D30E-C49B-4180-A924-7121AF316DF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B4135-FC79-42BE-A6DA-EA926D0242D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32029-0352-4999-AD81-35250D61625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F50AF-9F96-4824-B74F-75EB57BDC95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32499-DAD5-4755-9844-40C01B13992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449C2-ACFC-430C-8715-678445E4CA4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1137E-58AF-4D8F-803F-1480D072C62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01088-FBF4-4B00-BF16-FEB4B788681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E2EA9-827B-433C-B262-2477B192C3E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27921-64A1-4CDE-AE9D-DDE092FF6C7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28ECE-347D-4DA0-9E35-9AE6A595511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F71AF-5FDC-4804-AFEA-1374727A3E9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1E9B3-3C38-4A5C-9ED0-4DE752668BE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D0995-F5B7-4DBB-BFF2-229ECC9F5F0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BF5A4-4CDE-429F-8614-E2A8F188BCA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DD88E-167A-422E-9FD5-20E76D0D555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A2D36-449F-482E-91E5-99A6A6F5205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7D144-2396-41A7-A355-D300B754EAB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FBCEB-1B33-4E87-BEA6-24F2A655953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74DF7-6EE5-4836-A0FB-5AC7F249B85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958F7-198A-489C-88F7-E324176127A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8-01-23T11:29:01Z</dcterms:modified>
  <cp:revision>72</cp:revision>
  <dc:subject/>
  <dc:title>Aims and Objectives</dc:title>
</cp:coreProperties>
</file>