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5CDF-AB1B-4122-B50F-27F51DA47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0CE4-B9BC-444C-A62E-F8A22EAEA5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4EC7-B7E2-4FB0-8CF5-9C66B606AD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AEDF-0861-471A-BFD9-83F004AD386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777-45F2-4856-9B68-04B5747C48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B67A-B220-4266-9C7A-097955A1C2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98D8-894F-4DBD-B9BB-DFBC59AB71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65E1-C470-43ED-9B0F-9FD986FCB4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8AC0-CD89-4520-A353-C98278FA49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F755-0429-4A5F-811C-627E5637CD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A77D-6FFB-4E0F-B753-781BF171F9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E6C6-CE85-443E-A121-A911744CC6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E840-D5D4-42B1-881B-21BCE0C019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B374-D947-443C-B7FD-FAE3DA8C8A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FFE7-95CE-4019-ACCA-53BAFB9E62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E564-5CD5-4480-97DA-03C4388378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8086-0BDD-45D0-AB91-9952F3A253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2A2F-81D6-4120-A94B-FB7CE36A92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6AE3-DD06-4088-94BB-E82DE8C9D0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6A7D-9B28-43E7-BAB9-EB69C06088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103C-99A0-4746-A438-CEB83CA65E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FA32-7A0E-473A-A033-821169DA5C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078C-1731-40EC-B012-F4E8CD4B8D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7BC0-9E9B-4DE4-9A48-479458501D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3188-F5C3-4BBD-8F72-CE2EAC8123B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C758-FE23-45CF-8CFA-93452D2F8C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A173-CB5C-4D14-8DA6-E28ED7AB88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F21-7798-4E9F-B005-A7D9180117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CAF7-4A1B-4C10-A11F-0FCB15D2EC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67D0-E42D-4483-BDAB-6B0534D64C9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1CA-DCCB-4B9D-AFAC-DF027175ED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AC88-C926-401C-9461-7440C607AF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47EF-6B29-404D-BCCD-F57E72DB33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898C-228C-41FB-A1C9-DB0FCBFFFE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A13F-5E7A-4985-B52C-E1FE112E62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9388-A046-4D7C-B54B-6892940919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563A-6F6F-4B81-AE37-D08375DE3B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9C01-9430-42F6-8558-16D17496A1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CD62-1154-421D-BA8C-8CDE236ACD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29CB-376E-4B0F-BB22-CF7331120A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552F-49A7-41F2-B5C4-A4625725F0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EFFB-1633-4764-945F-EEEAC86776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BB78-7798-4AED-8D57-625A8A9EC2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4E2E-5BB9-4742-B76A-814A1F70FA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0747-8AD0-4473-A52A-A7E0D9FD1B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53DB-A03A-4D3B-8A08-83FC516C85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C8E8-C202-46CD-8258-995A358CF5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9BFB-3D5B-4397-B487-A609696667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A19A-8DE8-476E-A817-7CDCD2565D9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4848-960B-4271-B71B-79AF514880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AE60-294D-41B3-B550-BDE7C1037B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97AF-DF45-4802-82BE-2DEE1550F8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F5E5-52D4-4751-9F58-6372FA4A7B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30DE-EEAC-45A1-B6A3-094C52A035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287-D452-4742-BF39-84455629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6C6-D669-447B-81A9-BE879A6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3D9-BA85-430B-B119-13225468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479-A128-4057-91E4-C160D28F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F45-AB80-4816-B1C7-B2B5AA56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0EB-15ED-481E-91C9-4099395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7C1-EF25-4E3C-BEB3-E7DE08B4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F28-64A1-43D5-95C0-D86E7BE0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94C-A058-4689-82C7-9DAFF313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DD0-7248-47AF-95E4-4BADB2A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07D-143C-4180-BF9B-3841EF3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964-AAD5-4C49-A79C-07DEE4F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260D-AD52-4C35-8DBE-EF2A8FCBB53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8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29th Nov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8-11-15T14:52:54Z</dcterms:modified>
  <cp:revision>115</cp:revision>
  <dc:subject/>
  <dc:title>Aims and Objectives</dc:title>
</cp:coreProperties>
</file>