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31A0-FF97-4716-8E7B-CB543D45F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C9C3-E494-40C4-8A08-4AB817DDCF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6FEA-2D92-4A21-A383-B78FA978CE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7CF4-1FFF-4E3A-A60B-3A1A4096DA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02B5-FFCE-40E5-A0D9-64B4D2EF31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BF83-E918-4EDA-8401-E85F61CC50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C5ED-3DB4-4035-9DD2-FA27AECBA9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FCA-2F88-42FA-986D-2E7319E4F1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D3DB-46E2-44AA-8CD6-DDD1AF390F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8DDA-289F-40FE-8ADB-1B527B346E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7A2-5FCC-450E-84A6-63D48504A7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4BF3-9E3D-4364-9872-B06FF1BA4C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E67-75F5-4C07-B361-32131DD7AE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E59B-9D49-490D-986F-6D87A06E27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8179-B33B-414B-ACF1-F5656246BA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6B9-A844-47D6-88F1-82D117E19F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1504-4DB8-413A-8B4E-0F4ADB523C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0127-8BB6-43D6-8B83-0366DECAFE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26C2-0AF6-4B37-9EB8-BC74830640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1E0B-C5A5-4EE2-82E0-208FB23B58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0189-022F-4601-8DE8-F2029E3B2D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71B8-F23D-4C6F-A5C5-FCA7C76FAE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F03-5C37-42D1-8A1E-974837CE36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C794-5530-421A-A4A6-7F10680BC8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E275-B60A-4216-ABD1-F3D9603364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946-BC71-49BB-BF98-1860279F59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D362-D29D-43CC-B2C9-FC850E7679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31EF-C806-4817-A0F8-F718E3E5CD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B50A-ACD3-4B9B-BC8B-AAEB120179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45DD-6854-4972-AEF1-A3DCA72E89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650-7431-4AFC-A315-0BC51D565E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411F-B583-409F-8B9C-96A4D968C3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6CBD-9492-4D97-A894-1F9F043519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FE42-FD60-4915-8D24-C7A9D592092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D7DC-0F64-455C-BFCF-337CDB6793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0268-3B19-4534-BD59-5136EC1B9E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CFAF-2F07-4930-BC0D-E48DA9D4A0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647-4D90-49B1-927D-D9528D1BF2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BBBD-2C6F-4BD7-8F16-4342AE6C0A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6E3-C525-4500-9012-8041986E1C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FEDC-26C3-4561-8D94-8652D86F81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6D1-C41C-4C59-82A9-DACA8AC994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5E4B-1B95-4F9B-AD1E-40449B79C3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68A-E59C-4B69-97B4-54BBC3C5B8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D71-0A85-475A-A2EB-09ED218015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B2E7-B233-44A1-8723-650BE755A1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FA2-AFC2-4FBD-A51B-0B44856CA3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8EF3-25E9-46D8-B9E7-96C9913142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407F-183A-4F81-949A-7A690C5A48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3165-DE17-4555-9CDD-08275E7DC4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8018-81AB-45CB-AB70-279CD832D1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469-288B-4001-9EB5-1E1AB3A2FE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F78A-8CA4-40F6-8439-E0F8D117CE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F61-1F6D-4546-A808-18AE87BADF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EC4-E69E-49BA-B136-DFE69750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0D1-396F-4F3E-BB3A-04817BC3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FA8-4C1B-41B7-8843-30C437DE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88C-3CCF-4CDC-B03D-17ACAFF0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532-AFF8-4E25-91CE-62419116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49A-B2A1-47B5-B06B-8175E38B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DE9-E30B-4CD2-88E0-C7523688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B94-D4AC-49EF-A59B-A2E35F2C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1BF-329B-4443-A81B-AEDD9D27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029-4388-4AFF-A38B-F98AE8B1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3BA-F661-47A0-AFF5-2C8EEA8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6BC-6198-4E46-B637-F078F4E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BB8-BEA3-40E0-94FB-0DC445C03E9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8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8-11-15T14:52:54Z</dcterms:modified>
  <cp:revision>115</cp:revision>
  <dc:subject/>
  <dc:title>Aims and Objectives</dc:title>
</cp:coreProperties>
</file>