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DB0BDB-5B41-404D-9EF0-5DE1898472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BE5138-0BF3-4ED9-A5A2-A92B7BB70E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92DF19-B822-4409-8144-F0D579E8D3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73269B-09A1-4626-BE74-A6B7429007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D44792-DA13-4C51-B494-D3F1CE78AFB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14DD5B-7B53-47ED-9A6C-ED44A98878E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78344F-16BE-404D-A5C2-55592D4E1FF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7FD929-1A6B-4191-9F87-F3E8259068D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CCD6ED-9F58-46E5-AF32-4CB07EF0725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EA337B-2FF2-4048-AC6A-F14202C92AA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E90143-0E2E-4AF6-8372-14D17834932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FABB5C-9D14-4A44-A278-A60FF3E88C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8BFA71-3B7C-427B-BCD7-46862BEE590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D95E30-F428-4553-A34E-471D5740435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BE2569-CFF6-49B8-A7DA-ADB47C63408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ED0928-A83F-42C4-90C7-7B31E4F65FF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7B83FC-0AE2-4443-9A9F-1116967AD99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D699EE-A9FA-47DE-B77D-1695CE2447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ED93F3-F552-4C62-9E93-2041959CD1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A4467F-3402-49C6-AC32-EF24C142B0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2F27FD-6E64-4824-BD28-9201D32EFF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C92E50-2AD7-4A03-8DBE-5EA3129AE8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D343DE-8F70-4504-955D-76DF3A15C6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C6F434-DD49-4A94-9BF3-C65DD6720C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CCE67B73-49BD-457A-BA39-E4020A883301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8/26</a:t>
            </a:fld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66EB10AF-594F-46D5-AA9B-F35F78251335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</p:grpSp>
      <p:pic>
        <p:nvPicPr>
          <p:cNvPr id="20" name="Picture 1" descr=""/>
          <p:cNvPicPr/>
          <p:nvPr/>
        </p:nvPicPr>
        <p:blipFill>
          <a:blip r:embed="rId2"/>
          <a:stretch/>
        </p:blipFill>
        <p:spPr>
          <a:xfrm>
            <a:off x="5119560" y="225360"/>
            <a:ext cx="3567240" cy="536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2" descr=""/>
          <p:cNvPicPr/>
          <p:nvPr/>
        </p:nvPicPr>
        <p:blipFill>
          <a:blip r:embed="rId2"/>
          <a:stretch/>
        </p:blipFill>
        <p:spPr>
          <a:xfrm>
            <a:off x="4932360" y="474840"/>
            <a:ext cx="3565440" cy="5349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F0556E63-1C29-4408-BD7B-C7AE871A33A3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28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C2AD0C6B-221F-4BC4-9DED-F819CFF24685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stat-help.com/" TargetMode="External"/><Relationship Id="rId2" Type="http://schemas.openxmlformats.org/officeDocument/2006/relationships/hyperlink" Target="http://www.stat-help.com/" TargetMode="External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9a044b"/>
                </a:solidFill>
                <a:latin typeface="Verdana"/>
              </a:rPr>
              <a:t>8: SAMPLE SIZE DETERMINATION</a:t>
            </a:r>
            <a:endParaRPr b="1" lang="en-US" sz="2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the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pow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be with you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power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w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bility to correctly detect real eff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=1-P(wrongly concluding “no effect”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usually 80%; ideally 90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oosting pow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one-tail instead of two-tail tes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parametric instead of non-parametric equivalen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rease sample size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rease smallest interesting 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multivariate analyses (e.g. MANOVA) use fewer 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cide smallest clinically important eff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tells us how many needed to reliably detect this effect or a larger on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maller effects more difficult to det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quested in APA guidelin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-values can be misleading : e.g. chi-square highly sensitive to sample size; Earth is round, p&lt;0.0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s of effect siz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-tests: Minimum Number of sds between 2 means to be clinically useful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: amount explained in outcome to be clinically useful (correlation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osstab chi-squares: odds ratios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2 samples of size 10; Type I error = 0.05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0" name="Object 0"/>
          <p:cNvGraphicFramePr/>
          <p:nvPr/>
        </p:nvGraphicFramePr>
        <p:xfrm>
          <a:off x="457200" y="1703520"/>
          <a:ext cx="8228160" cy="451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03520"/>
                    <a:ext cx="8228160" cy="451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: t-tes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ale        Group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Sd         Diff/S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ifferenc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h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1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5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m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25.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12.7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tio of discriminability and precis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se own judgemen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46" name="Content Placeholder 2" descr=""/>
          <p:cNvPicPr/>
          <p:nvPr/>
        </p:nvPicPr>
        <p:blipFill>
          <a:blip r:embed="rId1"/>
          <a:stretch/>
        </p:blipFill>
        <p:spPr>
          <a:xfrm>
            <a:off x="457200" y="1603440"/>
            <a:ext cx="8229600" cy="4724280"/>
          </a:xfrm>
          <a:prstGeom prst="rect">
            <a:avLst/>
          </a:prstGeom>
          <a:ln w="0">
            <a:noFill/>
          </a:ln>
        </p:spPr>
      </p:pic>
      <p:sp>
        <p:nvSpPr>
          <p:cNvPr id="1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 1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rnell Medical index (CMI) (Cohen, 1992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ffee drinkers &gt; Non-Coffee drinkers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sid / CMI s.d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d = 3.5 (because CMI increases by 3.5 per person per decade)</a:t>
            </a:r>
            <a:r>
              <a:rPr b="0" lang="en-GB" sz="1600" spc="-1" strike="noStrike">
                <a:solidFill>
                  <a:srgbClr val="bababa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 2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liper (1/1000ths 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d=.001 (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d=.002 (prev. study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ffect= .001/.002= .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hool ruler (1/16ths 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d=.5 (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d=1 (prev. study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ffect = .5/1 = .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: rules of thumb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-test (difference in sd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OVA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207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        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SS(Groups)____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=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       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207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S(Groups)+SS(W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gression: f-sq =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/ (1 -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also called eta-squar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dds Ratio (also: d = ln(Odds Ratio) x sqrt(3)/pi)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Mantel-Haenszel pooled estimate available for 2xC tabl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[Phi = Sqrt(chi-square/N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Cohen,1988) used in G*POW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mall   medium larg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20      0.50    0.8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10      0.30    0.5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10      0.25    0.4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02      0.15    0.3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equivalently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0.02  0.13   0.26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See also Haddock et al (1998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.50      3.50    9.00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.39      2.28    3.74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Cox, 197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10      0.30    0.50]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-270720">
              <a:spcBef>
                <a:spcPts val="400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ff"/>
                </a:solidFill>
                <a:latin typeface="Verdana"/>
              </a:rPr>
              <a:t>Chi-square increases with 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ample Siz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ample size </a:t>
            </a: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needed is independen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of population siz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large a sample in a stud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economic and ethical problem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small a sample in a stud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risk failing to find a large effect e.g. group differenc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ile drawer problem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ed just enough to enable accurate detection (or pow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ke sure you take account of response rates: e.g. cancer sibling study: 222 required to sample but 80% response rate will reduce sample;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w N = 1/(1-L) x old N: New N = 278. L = proportion lost (1-80%=20%    in our exampl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:rules of thumb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50036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por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1 v p2 (2x2 </a:t>
            </a:r>
            <a:r>
              <a:rPr b="0" lang="en-GB" sz="16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 v 0.5 (2x1 </a:t>
            </a:r>
            <a:r>
              <a:rPr b="0" lang="en-GB" sz="16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1 v r2 (Fish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version formulae can be used se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www.stat-help.com</a:t>
            </a:r>
            <a:r>
              <a:rPr b="0" lang="en-GB" sz="1600" spc="-1" strike="noStrike" u="sng">
                <a:solidFill>
                  <a:srgbClr val="ff00ff"/>
                </a:solidFill>
                <a:uFillTx/>
                <a:latin typeface="Verdana"/>
                <a:hlinkClick r:id="rId2"/>
              </a:rPr>
              <a:t>/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spreadsheets.htm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cluding d, r, r^2, Odds Ratios which all measure correla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amer’s V extends Phi to larger 2-way t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32000" y="1599840"/>
            <a:ext cx="4032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Cohen, 1992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mall medium large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2  0.50   0.65    0.78 (p1=0.4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    0.55   0.65    0.7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1   0.10   0.29    0.46 (r2=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Key Featur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oice of tes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ne-tailed or Two-tail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sired 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ype 1 error(chance of a false positiv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mple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wer evaluation methods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mogram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reeware/software on www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SS/R synta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bles (Look up by han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Quick formula (Boniface, 1995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atient vs Control group: measure of spatial memor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rom earlier work on memory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mallest interesting difference (sid)=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mon group standard deviation=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eciding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wo independent groups; continuous Normally distributed outcome meas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ggests unpaired t-test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mogra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aphical display in Altman (199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Two-tailed test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 Effect Size=sid/memory s.d.=3/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=0.9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ad off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Tot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sample size using a ruler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Nomogram :  N=38 (=75/2) per group; Type 1 =0.05;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81" name="Picture 4" descr="nomogram"/>
          <p:cNvPicPr/>
          <p:nvPr/>
        </p:nvPicPr>
        <p:blipFill>
          <a:blip r:embed="rId1"/>
          <a:stretch/>
        </p:blipFill>
        <p:spPr>
          <a:xfrm>
            <a:off x="1619280" y="1773360"/>
            <a:ext cx="72612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seful websites (see CBU website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NOVA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math.yorku.ca/SCS/Online/power/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soton.ac.uk/~cpd/anovas/datasets/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downloadable program from CP Doncast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put help on above CP Doncaster program: http://imaging.mrc-cbu.cam.ac.uk/statswiki/FAQ/Doncast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-tests at: http://www.statisticalsolutions.net/pss_calc.ph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psychometrica.de/effect_size.html computes Cohen’s 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danielsoper.com/statcalc/#c1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albany.edu/faculty/rfh64/power/power.html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ORE GENERAL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powerandsamplesize.com/Calculators/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9a044b"/>
                </a:solidFill>
                <a:uFillTx/>
                <a:latin typeface="Verdana"/>
              </a:rPr>
              <a:t>http://www.aprendelo.com/rec/power-calculator.html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stattools.net/StatToolsIndex.ph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calculators.stat.ucla.edu/powercalc/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This site is to not currently available - “check again later”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Power computations using soft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: Type 1 error, Effect Size +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eith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power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o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sample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 power: output = sample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 sample size: output = 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DEMO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G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PEP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SPREADSHEE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R (http://www.statmethods.net/stats/power.html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SPS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Free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*Power (versions 2 and 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www.psycho.uni-duesseldorf.de/aap/projects/gpower/index.htm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Also has an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on-line manu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with applications to AN(C)OVAs and chi-squar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orrelations and group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www.sagebrushpress.com/PEPI.htm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ypothesis Testing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Specif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ll Hypothesis - no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lternative Hypothesis - an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 a statistical test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bability of a false positive resul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G*POWER 3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3916440" cy="4724640"/>
          </a:xfrm>
          <a:prstGeom prst="rect">
            <a:avLst/>
          </a:prstGeom>
          <a:ln w="0">
            <a:noFill/>
          </a:ln>
        </p:spPr>
      </p:pic>
      <p:sp>
        <p:nvSpPr>
          <p:cNvPr id="194" name="Oval 5"/>
          <p:cNvSpPr/>
          <p:nvPr/>
        </p:nvSpPr>
        <p:spPr>
          <a:xfrm>
            <a:off x="5796000" y="5732640"/>
            <a:ext cx="863640" cy="8650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cxnSp>
        <p:nvCxnSpPr>
          <p:cNvPr id="195" name="Straight Arrow Connector 7"/>
          <p:cNvCxnSpPr/>
          <p:nvPr/>
        </p:nvCxnSpPr>
        <p:spPr>
          <a:xfrm>
            <a:off x="3850920" y="5589360"/>
            <a:ext cx="2089800" cy="432360"/>
          </a:xfrm>
          <a:prstGeom prst="straightConnector1">
            <a:avLst/>
          </a:prstGeom>
          <a:ln w="38160">
            <a:solidFill>
              <a:srgbClr val="9a044b"/>
            </a:solidFill>
            <a:miter/>
            <a:tailEnd len="med" type="arrow" w="med"/>
          </a:ln>
        </p:spPr>
      </p:cxnSp>
      <p:sp>
        <p:nvSpPr>
          <p:cNvPr id="196" name="Oval 8"/>
          <p:cNvSpPr/>
          <p:nvPr/>
        </p:nvSpPr>
        <p:spPr>
          <a:xfrm>
            <a:off x="5867280" y="4581360"/>
            <a:ext cx="865440" cy="86364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7" name="TextBox 9"/>
          <p:cNvSpPr/>
          <p:nvPr/>
        </p:nvSpPr>
        <p:spPr>
          <a:xfrm>
            <a:off x="6732720" y="4149720"/>
            <a:ext cx="172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ample size required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8" name="TextBox 10"/>
          <p:cNvSpPr/>
          <p:nvPr/>
        </p:nvSpPr>
        <p:spPr>
          <a:xfrm>
            <a:off x="6588000" y="5805360"/>
            <a:ext cx="23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Click calculate butto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9" name="TextBox 11"/>
          <p:cNvSpPr/>
          <p:nvPr/>
        </p:nvSpPr>
        <p:spPr>
          <a:xfrm>
            <a:off x="324000" y="3429000"/>
            <a:ext cx="201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Enter ingredients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0" name="Oval 12"/>
          <p:cNvSpPr/>
          <p:nvPr/>
        </p:nvSpPr>
        <p:spPr>
          <a:xfrm>
            <a:off x="3780000" y="4221000"/>
            <a:ext cx="936360" cy="11527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cxnSp>
        <p:nvCxnSpPr>
          <p:cNvPr id="201" name="Straight Arrow Connector 14"/>
          <p:cNvCxnSpPr>
            <a:stCxn id="199" idx="2"/>
          </p:cNvCxnSpPr>
          <p:nvPr/>
        </p:nvCxnSpPr>
        <p:spPr>
          <a:xfrm>
            <a:off x="1332000" y="4258800"/>
            <a:ext cx="2232720" cy="322920"/>
          </a:xfrm>
          <a:prstGeom prst="straightConnector1">
            <a:avLst/>
          </a:prstGeom>
          <a:ln w="38160">
            <a:solidFill>
              <a:srgbClr val="9a0049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an also obtain Cohen’s effect size rules of thumb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204" name="Picture 2" descr=""/>
          <p:cNvPicPr/>
          <p:nvPr/>
        </p:nvPicPr>
        <p:blipFill>
          <a:blip r:embed="rId1"/>
          <a:stretch/>
        </p:blipFill>
        <p:spPr>
          <a:xfrm>
            <a:off x="2614680" y="1600200"/>
            <a:ext cx="3914640" cy="4724280"/>
          </a:xfrm>
          <a:prstGeom prst="rect">
            <a:avLst/>
          </a:prstGeom>
          <a:ln w="0">
            <a:noFill/>
          </a:ln>
        </p:spPr>
      </p:pic>
      <p:sp>
        <p:nvSpPr>
          <p:cNvPr id="205" name="TextBox 5"/>
          <p:cNvSpPr/>
          <p:nvPr/>
        </p:nvSpPr>
        <p:spPr>
          <a:xfrm>
            <a:off x="250920" y="3068640"/>
            <a:ext cx="230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Just hover cursor over effect size box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cxnSp>
        <p:nvCxnSpPr>
          <p:cNvPr id="206" name="Straight Arrow Connector 7"/>
          <p:cNvCxnSpPr/>
          <p:nvPr/>
        </p:nvCxnSpPr>
        <p:spPr>
          <a:xfrm flipV="1">
            <a:off x="826920" y="4580640"/>
            <a:ext cx="3314160" cy="72360"/>
          </a:xfrm>
          <a:prstGeom prst="straightConnector1">
            <a:avLst/>
          </a:prstGeom>
          <a:ln w="38160">
            <a:solidFill>
              <a:srgbClr val="9a044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gression : uses R</a:t>
            </a:r>
            <a:r>
              <a:rPr b="1" lang="en-GB" sz="20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/(1-R</a:t>
            </a:r>
            <a:r>
              <a:rPr b="1" lang="en-GB" sz="20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209" name="Picture 2" descr=""/>
          <p:cNvPicPr/>
          <p:nvPr/>
        </p:nvPicPr>
        <p:blipFill>
          <a:blip r:embed="rId1"/>
          <a:stretch/>
        </p:blipFill>
        <p:spPr>
          <a:xfrm>
            <a:off x="2484360" y="1700280"/>
            <a:ext cx="39150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ore free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ute power for regression, chi-squares, t-tests; report summar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mc.vanderbilt.edu/prevmed/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Power and Sample Size (PS) downloa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epibiostat.ucsf.edu/biostat/sampsize.html#PCSiz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also input data for nonparametric  tests and other procedures to compute effect sizes  at http://www.ai-therapy.com/psychology-statistics/effect-size-calcula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Incorporating into a repor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>
            <a:off x="457200" y="1784520"/>
            <a:ext cx="8229600" cy="43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Tables (Kraemer and Thiemann, 1987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difference= 3, group St. Dev = 4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Symbol"/>
                <a:ea typeface="Symbol"/>
              </a:rPr>
              <a:t>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600" spc="-1" strike="noStrike" u="sng">
                <a:solidFill>
                  <a:srgbClr val="9a044b"/>
                </a:solidFill>
                <a:uFillTx/>
                <a:latin typeface="Verdana"/>
              </a:rPr>
              <a:t>_____(3/4)_____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qrt((3/4*3/4)+4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= 0.35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= 0.9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ype 1 = 0.0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put Two-tail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polating from t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42 per group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Power Curves: group means differ by 3; Group sds of 4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22" name="Object 0"/>
          <p:cNvGraphicFramePr/>
          <p:nvPr/>
        </p:nvGraphicFramePr>
        <p:xfrm>
          <a:off x="457200" y="1960560"/>
          <a:ext cx="8229600" cy="400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60560"/>
                    <a:ext cx="8229600" cy="400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Line 5"/>
          <p:cNvSpPr/>
          <p:nvPr/>
        </p:nvSpPr>
        <p:spPr>
          <a:xfrm>
            <a:off x="1371600" y="3505320"/>
            <a:ext cx="4876920" cy="0"/>
          </a:xfrm>
          <a:prstGeom prst="line">
            <a:avLst/>
          </a:prstGeom>
          <a:ln cap="sq"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5" name="Line 6"/>
          <p:cNvSpPr/>
          <p:nvPr/>
        </p:nvSpPr>
        <p:spPr>
          <a:xfrm>
            <a:off x="3581280" y="3505320"/>
            <a:ext cx="0" cy="190476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6" name="Line 7"/>
          <p:cNvSpPr/>
          <p:nvPr/>
        </p:nvSpPr>
        <p:spPr>
          <a:xfrm>
            <a:off x="6248520" y="3505320"/>
            <a:ext cx="0" cy="190476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Quick formula (Boniface, 1995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difference=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nce=4*4=1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ype 1=0.0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wo-tail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&gt;=70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if &gt;=5 per group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15.3664*16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= 27.3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3*3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28 per group;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9a044b"/>
                </a:solidFill>
                <a:latin typeface="Verdana"/>
              </a:rPr>
              <a:t>Power=79%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sample sizes (Nomogram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TOTAL number used for equal sample siz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a formula to obtain new TOTAL for unequal groups siz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Nomogram: unequal group sizes, 90% Pow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put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tal Number=75 in our exampl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tio sizes: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2 / group 1=2 in our exampl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tal Number =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9a044b"/>
                </a:solidFill>
                <a:uFillTx/>
                <a:latin typeface="Verdana"/>
              </a:rPr>
              <a:t>75x(1+2)x(1+2)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= 8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4 x 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ample sizes 29 and 58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ypothesis Testing (2)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                         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rue situ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Decisi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No Effect          Effect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 Effect         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Type 2 (False ‘-’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p=1-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            (p=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    Type 1 (False ‘+’)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ff9900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=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p=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(p=1- </a:t>
            </a:r>
            <a:r>
              <a:rPr b="0" lang="en-GB" sz="1800" spc="-1" strike="noStrike">
                <a:solidFill>
                  <a:srgbClr val="ff9900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group sizes:Web Soft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Calculator: input any group size and obtain a power valu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PI: specify ratio of 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samples:Kraemer &amp; Thieman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equal group sizes : new 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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_____(3/4)_____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= 0.3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qrt((3/4*3/4)+4.5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ok up in tables as before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samples (Boniface metho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w N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11.195*varianc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d*si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twice N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other formula (90% power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paired t-test for 2 groups of possibly unequal siz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1 * SD * SD * (1 + N2/N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_______________________ = sample size in group 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DIFFERENCE IN MEA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our exam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1 * 4 * 4 * (1 + 1) / (3*3) = 39 per grou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Power Curves: group means differ  by 3; group sds = 4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52" name="Object 4"/>
          <p:cNvGraphicFramePr/>
          <p:nvPr/>
        </p:nvGraphicFramePr>
        <p:xfrm>
          <a:off x="461880" y="1965240"/>
          <a:ext cx="8218440" cy="399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1880" y="1965240"/>
                    <a:ext cx="8218440" cy="39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4" name="Line 5"/>
          <p:cNvSpPr/>
          <p:nvPr/>
        </p:nvSpPr>
        <p:spPr>
          <a:xfrm flipV="1">
            <a:off x="1600200" y="2971800"/>
            <a:ext cx="4952880" cy="76320"/>
          </a:xfrm>
          <a:prstGeom prst="line">
            <a:avLst/>
          </a:prstGeom>
          <a:ln cap="sq"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5" name="Line 6"/>
          <p:cNvSpPr/>
          <p:nvPr/>
        </p:nvSpPr>
        <p:spPr>
          <a:xfrm>
            <a:off x="5867280" y="2971800"/>
            <a:ext cx="0" cy="198108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6" name="Line 7"/>
          <p:cNvSpPr/>
          <p:nvPr/>
        </p:nvSpPr>
        <p:spPr>
          <a:xfrm>
            <a:off x="6553080" y="2971800"/>
            <a:ext cx="0" cy="205740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Power=0.90, N</a:t>
            </a:r>
            <a:r>
              <a:rPr b="1" i="1" lang="en-GB" sz="20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=2N</a:t>
            </a:r>
            <a:r>
              <a:rPr b="1" i="1" lang="en-GB" sz="20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, 2-tailed Type 1 =0.05, sid=3, sd=4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mogram &amp; PEPI &amp;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lculator &amp; Pow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urves: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Sum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----------------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38  38   76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eq 29  58   8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or equal samples of size n to get unequal sample sizes , N1/N2=k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2 = 0.5n(1+(1/k)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1 = 0.5n(1+k) – see Lehana Thabane pdf in the demo fold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ables: 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Sum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-----------------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   42  42    8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eq    30  60    9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on’e: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m Pow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--------------------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28 28  56   79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eq 20 40  60   80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fidence Interval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obtain 95% Confidence intervals for effect siz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metho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symptoti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otstra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DEMO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T VALUES.SAV, POWER DATA.SAV AND NONC SAMPLE T.SAV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BOOT_COHENSD_CI.TX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(See also MBESS in R (eta^2 CIs) and Geoff Cumming ESCI Excel programme for Cohen’s d CI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btaining power for ANOVA data using menus in SPS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ed entire (perhaps, simulated) group dat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between subjects anovas power can be obtained by asking for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bserved pow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in analyze:general linear model:univariate:options or analyze:general linear model:repeated measures:options menus when doing between and repeated measures anovas respectivel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is is then added as a column in the ANOVA tab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eld (2005) suggests only using single df tests to compute power for ANOVAS http://imaging.mrc-cbu.cam.ac.uk/statswiki/FAQ/rField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nclus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mportant consideration in study feasibility (e.g. in grant proposal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feguards in the case of null resul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lose agreement between metho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can be boosted using equal sized groups, higher Type 1 error (e.g. 1 tailed tests), larger effect sizes and univariate analyses,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graphicFrame>
        <p:nvGraphicFramePr>
          <p:cNvPr id="271" name="Object 3"/>
          <p:cNvGraphicFramePr/>
          <p:nvPr/>
        </p:nvGraphicFramePr>
        <p:xfrm>
          <a:off x="457200" y="144792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3" name="Rectangle 4"/>
          <p:cNvSpPr/>
          <p:nvPr/>
        </p:nvSpPr>
        <p:spPr>
          <a:xfrm>
            <a:off x="457200" y="2133720"/>
            <a:ext cx="2743200" cy="76176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4" name="AutoShape 5"/>
          <p:cNvSpPr/>
          <p:nvPr/>
        </p:nvSpPr>
        <p:spPr>
          <a:xfrm>
            <a:off x="3352680" y="2057400"/>
            <a:ext cx="914400" cy="990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5" name="Rectangle 6"/>
          <p:cNvSpPr/>
          <p:nvPr/>
        </p:nvSpPr>
        <p:spPr>
          <a:xfrm>
            <a:off x="4419720" y="1828800"/>
            <a:ext cx="4419360" cy="106668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one or two-tailed 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(significance level)</a:t>
            </a:r>
            <a:r>
              <a:rPr b="0" i="1" lang="en-GB" sz="2400" spc="-1" strike="noStrike">
                <a:solidFill>
                  <a:srgbClr val="babab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6" name="AutoShape 7"/>
          <p:cNvSpPr/>
          <p:nvPr/>
        </p:nvSpPr>
        <p:spPr>
          <a:xfrm>
            <a:off x="6553080" y="2895480"/>
            <a:ext cx="486000" cy="685800"/>
          </a:xfrm>
          <a:prstGeom prst="downArrow">
            <a:avLst>
              <a:gd name="adj1" fmla="val 50000"/>
              <a:gd name="adj2" fmla="val 35278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7" name="Text Box 8"/>
          <p:cNvSpPr/>
          <p:nvPr/>
        </p:nvSpPr>
        <p:spPr>
          <a:xfrm>
            <a:off x="228600" y="380988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8" name="Rectangle 10"/>
          <p:cNvSpPr/>
          <p:nvPr/>
        </p:nvSpPr>
        <p:spPr>
          <a:xfrm>
            <a:off x="0" y="3429000"/>
            <a:ext cx="1752480" cy="914400"/>
          </a:xfrm>
          <a:prstGeom prst="rect">
            <a:avLst/>
          </a:pr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9" name="Rectangle 11"/>
          <p:cNvSpPr/>
          <p:nvPr/>
        </p:nvSpPr>
        <p:spPr>
          <a:xfrm>
            <a:off x="2286000" y="3581280"/>
            <a:ext cx="2666880" cy="45720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Sample Siz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0" name="AutoShape 12"/>
          <p:cNvSpPr/>
          <p:nvPr/>
        </p:nvSpPr>
        <p:spPr>
          <a:xfrm>
            <a:off x="1752480" y="3581280"/>
            <a:ext cx="533520" cy="533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1" name="Rectangle 13"/>
          <p:cNvSpPr/>
          <p:nvPr/>
        </p:nvSpPr>
        <p:spPr>
          <a:xfrm>
            <a:off x="5715000" y="3581280"/>
            <a:ext cx="2362320" cy="53352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2" name="Rectangle 14"/>
          <p:cNvSpPr/>
          <p:nvPr/>
        </p:nvSpPr>
        <p:spPr>
          <a:xfrm>
            <a:off x="2438280" y="4876920"/>
            <a:ext cx="2514600" cy="53316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Find Sample Siz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3" name="Rectangle 15"/>
          <p:cNvSpPr/>
          <p:nvPr/>
        </p:nvSpPr>
        <p:spPr>
          <a:xfrm>
            <a:off x="5715000" y="4876920"/>
            <a:ext cx="2666880" cy="45720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Power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4" name="AutoShape 16"/>
          <p:cNvSpPr/>
          <p:nvPr/>
        </p:nvSpPr>
        <p:spPr>
          <a:xfrm>
            <a:off x="5029200" y="4876920"/>
            <a:ext cx="609480" cy="533160"/>
          </a:xfrm>
          <a:prstGeom prst="leftArrow">
            <a:avLst>
              <a:gd name="adj1" fmla="val 50000"/>
              <a:gd name="adj2" fmla="val 28579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5" name="AutoShape 17"/>
          <p:cNvSpPr/>
          <p:nvPr/>
        </p:nvSpPr>
        <p:spPr>
          <a:xfrm>
            <a:off x="5029200" y="3505320"/>
            <a:ext cx="609480" cy="533160"/>
          </a:xfrm>
          <a:prstGeom prst="leftArrow">
            <a:avLst>
              <a:gd name="adj1" fmla="val 50000"/>
              <a:gd name="adj2" fmla="val 28579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bababa"/>
                </a:solidFill>
                <a:latin typeface="Verdana"/>
              </a:rPr>
              <a:t>Decide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7" name="Rectangle 20"/>
          <p:cNvSpPr/>
          <p:nvPr/>
        </p:nvSpPr>
        <p:spPr>
          <a:xfrm>
            <a:off x="0" y="3733920"/>
            <a:ext cx="163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Find Power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8" name="Rectangle 21"/>
          <p:cNvSpPr/>
          <p:nvPr/>
        </p:nvSpPr>
        <p:spPr>
          <a:xfrm>
            <a:off x="913680" y="2286000"/>
            <a:ext cx="21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</a:t>
            </a:r>
            <a:r>
              <a:rPr b="0" i="1" lang="en-GB" sz="2400" spc="-1" strike="noStrike">
                <a:solidFill>
                  <a:srgbClr val="bababa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analysis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9" name="Rectangle 22"/>
          <p:cNvSpPr/>
          <p:nvPr/>
        </p:nvSpPr>
        <p:spPr>
          <a:xfrm>
            <a:off x="5712120" y="3657600"/>
            <a:ext cx="231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effect siz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0" name="AutoShape 23"/>
          <p:cNvSpPr/>
          <p:nvPr/>
        </p:nvSpPr>
        <p:spPr>
          <a:xfrm>
            <a:off x="6588000" y="4149720"/>
            <a:ext cx="486000" cy="685800"/>
          </a:xfrm>
          <a:prstGeom prst="downArrow">
            <a:avLst>
              <a:gd name="adj1" fmla="val 50000"/>
              <a:gd name="adj2" fmla="val 35278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1" name="TextBox 1"/>
          <p:cNvSpPr/>
          <p:nvPr/>
        </p:nvSpPr>
        <p:spPr>
          <a:xfrm>
            <a:off x="914400" y="5410080"/>
            <a:ext cx="689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Baker and Mudge (2012(9), Significance magazine) however suggest combining Type I and II errors to determine 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veritt BS, 1995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Power i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“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The probability of rejecting the</a:t>
            </a:r>
            <a:r>
              <a:rPr b="0" i="1" lang="en-GB" sz="2400" spc="-1" strike="noStrike">
                <a:solidFill>
                  <a:srgbClr val="9a044b"/>
                </a:solidFill>
                <a:latin typeface="Verdana"/>
              </a:rPr>
              <a:t> null hypothesis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when it is false. Power gives a method of discriminating between competing tests of the same hypotheses, the test with the higher power being preferred.”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ferenc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berson CL (2010) Applied power analysis for the behavioral sciences. Routledge:London. </a:t>
            </a: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Contains SPSS syntax for a variety of power analyses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ltman DG (1991) Practical Statistics for Medical Research. Chapman &amp; Hall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Boniface DR (1995) “Experiment Design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nd Statistical Methods for Behavioural and Social Research.” Chapman &amp; Hall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ield A. (2005) Discovering Statistics using SPSS. Sage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(section on power in ANOVAs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Kraemer HC and Thiemann S (1987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“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ow Many Subjects? Statistical Power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nalysis in Research.” Sage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Other formulae for sample sizes: See Lehana Thabane’s class notes (pdf file in demo folder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ext week… 11am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atent variable models: factor analysis and all th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wer = 1 - Type II erro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ype 1 Error is area in yello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in blue lin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iterion Value is black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increases with Type 1 err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6" name="Picture 5" descr="norms"/>
          <p:cNvPicPr/>
          <p:nvPr/>
        </p:nvPicPr>
        <p:blipFill>
          <a:blip r:embed="rId1"/>
          <a:stretch/>
        </p:blipFill>
        <p:spPr>
          <a:xfrm>
            <a:off x="4648320" y="2077920"/>
            <a:ext cx="4038480" cy="37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ype I error (</a:t>
            </a:r>
            <a:r>
              <a:rPr b="1" lang="en-GB" sz="2000" spc="-1" strike="noStrike">
                <a:solidFill>
                  <a:srgbClr val="bababa"/>
                </a:solidFill>
                <a:latin typeface="Symbol"/>
                <a:ea typeface="Symbol"/>
              </a:rPr>
              <a:t>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rongly reject the “no effect” hypothesis, ie P(false positive resul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ually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.05 or 0.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ze of Type 1 error specified before data collection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ediction of differenc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Specified before the data is collected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Two-tail</a:t>
            </a: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 is </a:t>
            </a:r>
            <a:r>
              <a:rPr b="1" i="1" lang="en-GB" sz="2000" spc="-1" strike="noStrike">
                <a:solidFill>
                  <a:srgbClr val="3299cc"/>
                </a:solidFill>
                <a:latin typeface="Verdana"/>
              </a:rPr>
              <a:t>non-directional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(e.g. Mean = 0 vs Mean </a:t>
            </a:r>
            <a:r>
              <a:rPr b="0" lang="en-GB" sz="2000" spc="-1" strike="noStrike">
                <a:solidFill>
                  <a:srgbClr val="9a044b"/>
                </a:solidFill>
                <a:latin typeface="Symbol"/>
                <a:ea typeface="Symbol"/>
              </a:rPr>
              <a:t>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One-tail </a:t>
            </a: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is</a:t>
            </a: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i="1" lang="en-GB" sz="2000" spc="-1" strike="noStrike">
                <a:solidFill>
                  <a:srgbClr val="3299cc"/>
                </a:solidFill>
                <a:latin typeface="Verdana"/>
              </a:rPr>
              <a:t>directional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(e.g. Mean&lt;=0 vs Mean &gt; 0)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ype II erro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rongly conclude there is no eff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hance of a false negative resul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ually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.2 (or even 0.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reasing Type 1 error decreases Type 2 error and increases 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5T10:19:37Z</dcterms:created>
  <dc:creator>peter</dc:creator>
  <dc:description/>
  <dc:language>en-US</dc:language>
  <cp:lastModifiedBy>Peter Watson</cp:lastModifiedBy>
  <dcterms:modified xsi:type="dcterms:W3CDTF">2017-07-03T09:02:26Z</dcterms:modified>
  <cp:revision>256</cp:revision>
  <dc:subject/>
  <dc:title>8: SAMPLE SIZE DETERMINATION</dc:title>
</cp:coreProperties>
</file>