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0B953-C2EE-4EA7-8E5B-5B11CC9D5D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A79838-7536-4E4D-BDC9-E1374405E6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DDFC0-515E-4DF1-985A-0B3FFAB108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6D8BE-2EF7-44CD-BA55-8607EBC737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8B94C0-A3BD-460E-B53F-AFF0DCF2A4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FA0F15-47B5-4272-B756-929EF0DF65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925C08-A6A5-4713-ACC2-5BF783D1A8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5EE9AA-CAA3-4F77-803B-4412F2315D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E869B1-D9B2-4FBF-ACC5-64A0D5B552F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7E68DD-F65E-4834-9810-94C2AA88B4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97B40B-A2AB-4D02-AA2F-8E120BA9CC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1527D-A40E-4B63-8598-3B7BE941FF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FA775-D6BB-4E79-BF5F-378F9BCFA4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7276C1-AB75-4FB1-9CF8-0C1FE4F79D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193902-1F33-4734-9249-CCCACBAEEC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04993-D6F8-4638-A9FA-5714D2BCD76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66DC9-A934-4E75-A075-C865AD5195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F9C1F-A1AA-4653-AFF5-13CB6C42E0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1EE71-A5B6-4FE9-ACBC-74542817B7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B1EA6-6FCF-4D34-A983-00DF4CF57D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DEDAE-FBBB-4720-8812-3CECA28E9B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D1525-DB56-47CB-A4D9-C6D5699E0A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338FF-BE30-4DBE-B617-E3913124F2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A632E-BF6C-4A22-B979-F3FC8BBACA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D5C290F7-7FE1-41A6-BB01-EDC8FEDBB747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8662B305-3A7D-43B0-9706-201A883F4FF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119560" y="225360"/>
            <a:ext cx="356724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4932360" y="474840"/>
            <a:ext cx="3565440" cy="5349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A6E8D23F-EA93-41F1-8AD0-2ECCBDEC2299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73B95DB2-9BB5-4F2F-B85F-CB9D96FE93A0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17-07-03T09:02:26Z</dcterms:modified>
  <cp:revision>256</cp:revision>
  <dc:subject/>
  <dc:title>8: SAMPLE SIZE DETERMINATION</dc:title>
</cp:coreProperties>
</file>