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16.wmf" ContentType="image/x-wmf"/>
  <Override PartName="/ppt/media/image27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29.wmf" ContentType="image/x-wmf"/>
  <Override PartName="/ppt/media/image17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ACFA-6CF4-4790-8E07-0417702FF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339CB-B1DB-46EB-A9E4-7631058F6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0CC83-E972-4056-AD13-D3ADE8C91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BF5A9-E4BE-4CF9-9D1E-5336DC3E4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E965B-3B3D-4319-9D40-A6B9DC1DC5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A35DB-50C4-4014-B1F3-A32E25F126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FF4AD-75EB-4970-9A60-2913108EA3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5B57E-FACC-4D85-8D23-FAB465E279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1853D-DABD-4CBB-BF4D-4E9E3134B8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EBC5E-BD38-42FF-B685-76EC492A71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1E0A8-2EDB-4D7A-BBED-B32D7A63CB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921A1-4B88-4E1A-A0F5-6F1D22971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BDFC6-394E-4292-A7C9-5A2BA58F97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96497-9B4F-4860-BEE4-36A5EA0F47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DC521-64C6-4959-A24D-EA98BB005F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7C758-E374-4622-B23B-D407D70595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8ACD5-A14C-4D93-9F43-E317DA40CE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2DE30-1B02-4AF2-BD91-BE2AC7927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92FD-D464-46B8-9120-F5DA87EDE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D6D42-C661-4D6B-843F-0C00D1455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E3CCE-47B7-4F23-8107-65004FB12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0E208-3034-40D1-9E15-37F2B8592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0849-A4CC-4490-9C81-A09A7CFB8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7D8E3-0F9C-45FB-B5F5-F4CC1870D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B10D5F5-C9CD-4CAC-81A7-FB3EE6FF35F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85858BB-F927-41F3-8A0C-A0C6B5B9A68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346720" y="393840"/>
            <a:ext cx="3348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292720" y="399960"/>
            <a:ext cx="3564000" cy="540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1893557-A573-4E7B-AE94-2D6B1C7A352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E690E36-20EF-4C47-B1AD-6511593A3AB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7-07-03T08:54:52Z</dcterms:modified>
  <cp:revision>312</cp:revision>
  <dc:subject/>
  <dc:title>REGRESSION ANALYSIS</dc:title>
</cp:coreProperties>
</file>