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A768-BF60-4D24-9A27-A8F32C4D24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9D91-08BE-408F-BD44-5627E52767B5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2DA2-513E-45A4-ACC5-09EEC5EAA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FE92F-3E78-40B6-8A3C-152B62FC1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1576-0E88-45B5-A9A2-62F80E596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953C1-6DDF-4F2E-B38F-7E1239986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FF035-3C69-4D2D-A74A-8F2E0DDB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F5923-E1F3-4A15-90E8-81BCC2CC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0173F-8BC6-417B-B53C-FDC7EB3E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A2CA5-AD13-47A8-95A7-631222F1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0549E-30B5-4E98-A467-2E3D7215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65728-42A6-41DF-BC6E-74235B66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0109A-6772-4AB6-A59C-24DE348A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47103-9EC1-4232-8EFB-D5C6CBDE3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F9904-D852-4D29-9CD4-0AE8D642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CF0DB-614D-4511-8ADF-C351632F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0811C-DD61-4F12-B832-0DA99E70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0C3A9-7AE6-4D68-AE05-4CE0062F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BEAD6-95A2-4110-91CF-8F8F087B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59E2F9-8A77-45FC-995D-40BA3C5203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DA1CFA-4214-4049-BADA-5A60851F47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86C431-80D0-4914-A973-74D9A03438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A4C6EA-88D7-4AE3-BBD9-05E67177BC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887139-0E43-45AF-8280-6D15D2C50C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A00A-2F2F-42D6-9582-1C36981B89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0C5B36-9BDE-4B64-A7E3-BB58460397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80CDDB-AAF3-4405-8354-16C8123BED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56D53A-FB0E-49BE-8473-E50A57B39D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ED4F56-94DD-4E0C-9409-95B1A8E305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8A250A-0C3A-44FB-8182-C138DC2596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0AE339-BBEE-4842-9719-12FB9B414D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7D4CEB-6807-463F-A152-A2CCD3531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B4BA-731B-42B7-A265-A0FA86721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1C72-AAF2-44E4-8715-498D8B105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B3AC8-391B-47A3-BA82-F503513EC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65F9-7E38-43CE-908B-C53C91F8E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CD68-85B6-4129-B104-441B7F0A9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CC6EC-B555-45FE-97B6-EA7AC461C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26E08B0-DDDA-4F4A-9F43-37ED20060CE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436ABE7-E324-4E59-9037-66B5FE848A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60208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BA3D-200D-47A1-826A-CD3743FBE68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2" descr=""/>
          <p:cNvPicPr/>
          <p:nvPr/>
        </p:nvPicPr>
        <p:blipFill>
          <a:blip r:embed="rId2"/>
          <a:stretch/>
        </p:blipFill>
        <p:spPr>
          <a:xfrm>
            <a:off x="5508720" y="519120"/>
            <a:ext cx="3024000" cy="573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6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7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BF7EC3BC-E4C1-4C95-B451-453F46849BEC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87174C39-89E0-4D66-B99B-866576A036F0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9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93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205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6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217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6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89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95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14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18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322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37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41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7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48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52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0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7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02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5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76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9-01-24T10:24:00Z</dcterms:modified>
  <cp:revision>369</cp:revision>
  <dc:subject/>
  <dc:title>No Slide Title</dc:title>
</cp:coreProperties>
</file>