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E90-AD85-418A-AB42-D9209235B3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D05F-D6E4-45EC-B4E4-C566FD209848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8F54-6DAB-4DA3-8202-82F3D6098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8936-DB58-4809-83BA-E20EB6D61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7205-D27C-435F-B9EA-8755AAB58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9D4D-42E8-4876-A0F2-EFD88CA1C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57C4F-6AFF-4EA4-B907-4815AD70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EBB04-474B-499E-B17A-568225B3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41CE7-1AD5-4243-815C-2DA57952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90D7E-E23D-43CA-96A5-EBC09965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FCEFE-3303-48C3-BCB6-39154682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B0BA0-9579-49E1-8A57-8A07E6A1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76C30-F0A9-42F7-99B5-01817187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66FF-EEB4-4A28-A823-DA9DA237D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BA510-55D7-4791-A536-26E76344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E3ACF-320E-474A-B6C2-383E143C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763ED-0BC5-497C-823C-A0BA4D9B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A03BE-96BF-4C07-B776-D0003E0E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5DDB9-0100-4FD1-92C0-51F508BD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2735C-8B20-465E-A4F3-831284319F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36554-9217-4AAB-940F-7AB124FCFF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59400-7AF8-4BA3-9F41-76E333041E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9ADDE-8CE9-47F8-BFA6-F80475458C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08749-A072-469B-B62E-4F32255E1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14FD-A1CA-4CE8-BC09-C3BE3507ED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A948E-A816-4A85-9C7A-A38B3BDF73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10AB5-01C0-429A-98A9-D67B7001E4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1813B-0737-4A82-BD97-C96893EAAA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6DB44-BCD6-441A-8546-7A38540947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7194A-A3E5-4BA4-86F6-578F9CF214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08FA2-EEE3-494E-B9C9-83CCFE9853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E65F16-1EDE-4B54-9CF3-01510E716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E19D-153C-4F8B-A59D-E4855EA97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18E0-5DF9-47FC-8311-2D982AAF1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9D13-2F10-479C-89EE-91C5B40B1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C627-9D7E-4FEC-9694-D55CA5701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2160-FD9B-4EE2-9CE5-5D0EE6026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E8DF-FB06-431D-BF70-2122B1EF3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EEC94E7-268B-4527-A969-185AEB97069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9B86B18-8387-4229-9AE6-98747FC3E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1267-3A9A-449F-98A8-3FB8D7A1A48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2E7DCEA-1E25-4238-BA22-AEBE6E9A5B71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CDC759F-DCB3-43CF-AE21-BABA0FC477FC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01-24T10:24:00Z</dcterms:modified>
  <cp:revision>369</cp:revision>
  <dc:subject/>
  <dc:title>No Slide Title</dc:title>
</cp:coreProperties>
</file>