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CAE0-567B-4D01-B3EE-95A91D9DE8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9E7F-02F1-4EB3-93DE-A8C73F0FD383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32E3-E66A-47EA-B932-4AB26FDC6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E026-68C9-4352-A754-1F0916CBD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4378-F416-4443-9385-84BB35C91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CA3C-77B9-4DCF-8A54-83FB02C0A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54BDF-34C2-4D3A-8BE8-4C792D7810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671A3-CAD3-457B-BF5E-F3AFC8978B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02D7A-A589-4902-85B7-8A288A3E41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6EA94-D889-4D26-8B3D-45FA20301B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56D76-0EF4-46E4-821A-C752133B90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CF345-07AB-42BE-A349-9DB446B0D0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3FAEC-4B50-4D27-A0B7-E941A08C89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1846-E360-44C7-8C51-9B9A1B1AA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F22D8-4F4C-4CE4-A5AD-BF4B16B6F5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03020-98D4-48E0-9061-C3C3C5479D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8B46C-02BF-4D86-8478-67CD5E2998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AA710-1DD8-4A8F-9AAF-F45FCE31DA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9B223-EE64-436E-BFF5-5895AADCE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D4B1-9573-43E7-8449-4A268290A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29D9-9059-47F6-BDDC-9FD16143B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9F34-39FC-411C-A324-6D0660A52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27D0-F360-47B5-AEA7-D9C11BE0F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3913-81B2-4111-94A5-BDFC45B12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842B-EFDB-4984-BF1D-C024416EC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3312-1368-43AB-BA96-304A828D8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7298950-B568-4B01-B550-018ADEFF311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DE8C0AC-2AD8-46B3-B404-274E42C30C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19920" y="204840"/>
            <a:ext cx="245268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5651640" y="306360"/>
            <a:ext cx="28749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38F0E8B-37ED-469A-89DB-D4129F135AF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B6F3E4C-04E4-4576-ACBC-96579C0DE3E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9-01-24T10:29:08Z</dcterms:modified>
  <cp:revision>352</cp:revision>
  <dc:subject/>
  <dc:title>Exploratory Data Analysis</dc:title>
</cp:coreProperties>
</file>