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B73C-8555-4A33-BA12-309DB67D1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3293-30A0-4002-B28B-F834FC436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967F-2F7E-45D9-AC0D-ED734CA6B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C101-02F9-4F04-9895-5B1D28BBC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0838A-1AAE-4D0E-819D-FDB4EEA34E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07DDB-3369-4F64-9369-F07E1A5E5D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BC7E4-6B39-4D26-9F44-B2AEF4B8A4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9FCB0-8988-4203-8DF1-08945B3A13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A6C32-7B7A-4A1C-B0D3-75F9C51E42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6CAD5-F408-4EF9-8698-FF40D1CA2E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D6EFF-0832-4C8A-B04E-302C7869E8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6389-AD68-43D7-B00F-34128EF6F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EDB8B-BD86-4FE3-9994-9953A9155A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3E187-530D-42F4-ABE1-6B05D8FB5F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F296F-71EB-48D3-9A9D-134C2B6E06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DECC9-F185-4353-8E48-BF8098AC01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F5B66-5B41-493F-BF39-75E83BF14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1299-C518-4716-B368-316614055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E439-4E22-4DD0-956A-B008BA11E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D7D0-50BC-426F-8FFB-0FBF7619B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54F3-D246-43CF-93C3-3A0E4B194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647A-9CAB-4DF4-A74C-BE2BC6D70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7A6A-1085-4F0E-AACB-285C4184B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02E0E-208E-4620-A048-1036598A5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8C3AECC-54B6-419D-8926-E13AA67DFBA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81F32CC-7E5C-42CE-B52B-4C176938F2C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2CE5719-04D1-4AAE-B7EB-B5A6636C037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38CFDFB-024B-4062-8C16-5E7250542F1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F0B-5257-4C10-9CD8-F22A32075329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1-24T11:04:35Z</dcterms:modified>
  <cp:revision>337</cp:revision>
  <dc:subject/>
  <dc:title>No Slide Title</dc:title>
</cp:coreProperties>
</file>