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29A6-7DDF-4BD2-B2A9-79E2AE171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A748-69AB-48EE-B0BC-1E9D6444F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28D2C-494B-4EC3-9EAA-A262CAD49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835F-4831-491F-8142-F1335A256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C174C-5378-4222-9223-91034123B8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AAF55-9D56-40A5-852A-6CF709CD29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55754-3434-486F-A6F6-9E0682EA42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47F80-CDAF-480F-AEB0-A77847369F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8211E-2ECF-4C40-8317-D18B9E7F1E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898F3-C2C8-4E99-A232-EB05882C1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0458E-5394-4EA7-9CD7-B5E4AE11E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BC7F-45E1-4638-92B5-78C1AE9D4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24B1B-0835-49AB-AB73-310F3CB43E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C5D2F-D8A3-4106-AB86-9E0FBFCB3C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B16FE-FF7A-4D65-9374-D2484FE81F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9843A-6889-4315-A1E7-2472A1CF7A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0DF28-41C3-49BE-9C92-5B092B2A25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B3B9-42EE-4307-B79D-9F74D612A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64EC-BADA-4C93-B683-5927FF919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3110-B5B8-4312-A8AC-EBC94697D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9F36-6930-499C-8934-B21E04650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D2B5-9CC4-4615-A8AF-3F627A20C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6C41-6006-4B7A-BB45-8C25F5AE5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A4DA-AE92-4135-A8B2-EC8FAF0B1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2FBA3E7-0811-4161-8547-A06BD8CF4F7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BF848A6-F81A-4187-B244-506E4039317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E0BDE34-329A-4156-89CB-49FAED98596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C78C2D3-B4C0-4A68-AF29-A52D6B2093A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9301-984C-4D85-8D39-18728406DCA9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1-24T11:04:35Z</dcterms:modified>
  <cp:revision>337</cp:revision>
  <dc:subject/>
  <dc:title>No Slide Title</dc:title>
</cp:coreProperties>
</file>