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0DE8A-E30C-45CE-956C-50C8C4567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06B94-0FF2-4A5B-90E5-FF33D3E37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4687-5060-471C-806D-720928069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5AF39-EA7C-47C0-AF79-A58FB0E9C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8198B-36C9-4E4A-B380-E7B0D97F06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4711D-C545-40D3-A6C8-1B2BC2192E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B48C3-E553-48A3-858F-E955CDC727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AB3A9-F333-4CD1-AFB9-B325D3C174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2BCFB-4246-42F3-BABC-64C6177B4E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5F7F4-2AE1-4627-9293-594851E389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BDA98-4F43-475D-BB5D-EE835D9879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2BEA6-029E-49F3-978C-39D59C38C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FB6EB-1726-4932-BCB7-C3F242624C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4F851-09DF-49ED-AF23-2980E9C2D3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E61CE-FD3B-4D51-8758-E3BEE36EAD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99A72-1A55-4FD8-8A6B-6BFC44B1B1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02001-4013-48A6-98F1-01EC504B22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5176-AA95-4C63-A6E2-04946BC8E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51C6-F731-4C78-A504-53481CEBA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10C8-9BE7-4A16-BE67-FE0886F81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FB5F-BEDF-4610-B06D-953B379FB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CB12-F7F3-43D6-87B9-AE8AC4CC8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EE3C5-A213-4F70-A3FA-7166C7567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451B-B233-4850-8351-FDE5F838F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6DB5314-A6D3-4BB8-8A6B-07EC5C1013D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9B6A556-3666-4EB8-916C-A4E3C32EDE8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614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167440" y="404640"/>
            <a:ext cx="3292200" cy="53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2659490-50F1-49BE-9BE0-AF15A48C1E5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FAE8198-6299-4CD3-8290-4972EE6F4F3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9240-ECF4-4FE2-AE66-D9906E941A09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9-01-24T11:04:35Z</dcterms:modified>
  <cp:revision>337</cp:revision>
  <dc:subject/>
  <dc:title>No Slide Title</dc:title>
</cp:coreProperties>
</file>