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F2F5-F5A4-4EAE-90EA-D7C3934BF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CF093-FBEA-4AA5-B661-BC205DE30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9D4E7-2E4C-444C-B0F6-D30857AE1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373A-6097-428F-80A0-9AA69C197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69E0B-B6D1-4F76-A8A3-49C19B3202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94F3D-27F9-4C14-BEA2-05259CCD9B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87D28-62AF-46E9-82A0-22B981A475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F8A61-9F71-445D-973C-C31D2F375E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96E04-5A0D-44F8-8FCB-15BB48545A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83157-A640-4565-AD6E-944FE49B23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56E1D-52CA-47BB-B4B0-01A0B8B703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173C-3F1D-49A5-AA0A-31B6325E5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78099-DB88-4158-8E3D-439DDB79E3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0FC7A-C6C2-4942-A713-50C52A2525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72AEF-8471-4620-AA48-51C389B20A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0F34E-83E0-491F-8D02-C25C484098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01E40-A3EA-4C50-B13C-B81849ADA9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2229-A03A-4417-AC5A-0F1144C9E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FBAF-1492-4E14-89A7-08FFCE082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185A-F886-4E9F-AD47-49F82CF88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028E-56BE-497A-A4BD-4291FC771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245AF-439F-4B22-B62F-E5E293E8C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B33D-D686-4394-8F88-27BF76C6E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0BC56-EEE8-4976-BA7D-EE4065A32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79F09CF-27ED-4471-8648-30C6965E4B6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69C27BF-8892-4FC1-ACB3-1E530329412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0FCBAA0-E50D-4886-8A46-D5DE8BCB0BB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E2935B3-21FA-4DAD-ACA6-A2F81B24670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4EF6-E4E7-42DB-A8CB-CF3DA3991BFE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1-24T11:04:35Z</dcterms:modified>
  <cp:revision>337</cp:revision>
  <dc:subject/>
  <dc:title>No Slide Title</dc:title>
</cp:coreProperties>
</file>