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892BFC0-804B-4217-9CEB-2B9B62F3845E}"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0E744AE-6BA8-44BF-BFAA-8D022D1D53E1}"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DCC50-5DBF-4640-93E9-83039A7F1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182C2-B4FC-4B8F-9CA1-D9420D271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A3A9F-E254-4252-9253-3D9A52F35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6F4E0-F2BC-4AA0-AC03-546CB4A59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3221E-DFAD-4ACE-94B0-7C7966C92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87A91-A44B-4069-B17B-D51E265EE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B222D-B3A5-442A-8170-1960C0104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86CBA-8A2B-4172-9999-39A8FBE07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F05C8-3CC6-413E-A2E0-2E85AB851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E0D89-D1C9-49BE-B6BE-55CD48BB6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EF553-8A37-4EB1-8069-5C616F782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4C0EE-A982-4AEA-B75C-7DBBB56BE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7378-2F53-49B9-8619-56C2061C4B44}"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2" descr="cid:image004.png@01D7B519.9E61D320"/>
          <p:cNvPicPr/>
          <p:nvPr/>
        </p:nvPicPr>
        <p:blipFill>
          <a:blip r:embed="rId2"/>
          <a:stretch/>
        </p:blipFill>
        <p:spPr>
          <a:xfrm>
            <a:off x="3090960" y="476280"/>
            <a:ext cx="558144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E10B3-FD70-4CC3-811B-DCB05DDD87E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019E-D4C9-4E02-A01F-06FCF850246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6F645-9496-46BA-91CA-EC5CECD62B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73BBA-AF3E-4315-8D38-C9A2F6C8C48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E1F5C-136B-45FE-BCCB-914D6F7FAE9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D3E0E-DDAE-4A6B-B918-5C902E9B4F1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2A5D2-A185-42F5-A01C-4A61D2F5097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DAE53-B3AC-46F6-931B-AADBFADBA95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CC6C-E317-4658-B19D-3E2E0E17E0D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4AC13-05E6-4D46-8A02-2A4A8AB507D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12C5C-B040-455E-B6F3-7ACA5D4E869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DE98-4640-4E51-AE96-BCA3A34F5F1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411D4-9464-4F35-BE71-4DA75D7A08C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C3E2B-83D8-489F-88B0-C6BF4365656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3E88B-48D6-41B8-8A8B-DFAE370CDC8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C430-7023-47FD-9A4C-A91078DFC3E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4A2A4-5DC0-4A3D-87E4-31154CDA7E7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D425-D378-4ED6-A96C-EC0999EBBB4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08A1C-6583-4117-BB4C-6B672FF6A5F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9ED7-B5D9-4904-8D94-39D99ADF9AA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1F514-7C70-4EED-A477-0A7A2E38D2D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35B83-4211-440A-BFFD-4FCBE6FDEA1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B680-544B-4430-8CC1-AEE0B8834FA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4935-556C-4FA9-AC47-E4650D37DFF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D729-4EBF-4527-8420-989BB79F2C0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289C-C125-4BD7-9B96-44C838BFD47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788BA-938E-446C-A8BC-DD3C3751A09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95CEE-4C93-4F6B-9004-55B79025837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75B9E-DAFD-4DBB-8906-E353CA84358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0DCE6-8BB4-4BD2-93D5-87673718B24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9C59-1C90-489D-B6BB-1FE8FBFCE2C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74055-8039-43E1-9E9B-90E64915441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BA53F-9C86-4A95-8198-65E4B7B1555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AFB42-93CF-47EC-B34D-986A514AC3F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16073-BD37-4AF6-B3CB-074FF294680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3C2F7-C598-4D44-9D09-AA057D4636B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44C3-7969-44FC-915B-68B25587DB2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D766-A6CA-4DEA-AF31-D45115F11CF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6090F-BAC1-49FD-B901-6150BFFE84D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E75AE-21E3-4CEC-8EC3-1484E400785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B6889-F568-4DC9-899D-96A319DEFB3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21-09-29T12:19:34Z</dcterms:modified>
  <cp:revision>74</cp:revision>
  <dc:subject/>
  <dc:title>Aims and Objectives</dc:title>
</cp:coreProperties>
</file>