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EFEBE2A3-EAA0-42F0-B225-0D8740FE5885}"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E62BE5D2-4C58-48C1-9108-58DB2D3AB498}"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A381A7-B3C5-401A-A5D6-39D89C8671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FFD06-2A5C-45DB-AC66-D0CF673A0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9FDF15-5213-49B0-9CE0-CF55B0C107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A8BFD3-0CA5-483B-8521-DF29DEC8D4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0E67E-A2F9-4B08-88C5-F7CF3C4C7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0C3F4-CEA6-407B-AF8F-915E5B6C2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C2EA7-33EC-41A1-BDFF-0426AA9B0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3B4D8-2BE2-4674-AC5F-E242A4CDF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F13C9-1D70-4A8B-9CC7-9F4C3E6DD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BC81C-FBD8-4753-AAA4-5F843F152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47077-2179-4626-B879-2B9E6DC6A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ED717-19E5-4EBA-9797-5712F2DFF2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F9883-3D44-4BDD-9441-FB226B2B4F00}"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2" descr="cid:image004.png@01D7B519.9E61D320"/>
          <p:cNvPicPr/>
          <p:nvPr/>
        </p:nvPicPr>
        <p:blipFill>
          <a:blip r:embed="rId2"/>
          <a:stretch/>
        </p:blipFill>
        <p:spPr>
          <a:xfrm>
            <a:off x="3090960" y="476280"/>
            <a:ext cx="558144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A0BD1-BFF7-411A-B17E-426F29728E3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47B01-7455-4412-A750-477D97C9E69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F2470-23E0-47EB-AF2A-20AE412A39B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2D758-6A3D-45C8-8F3A-6DDCFA46E7F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B98DB-9809-43FF-BDB8-7DBE3990484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C6238-67C9-48DC-80C0-4146F4CDAF5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F16F7-8118-441C-97A2-6E37F0AE19A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AC90C-EA4C-48D4-82C1-2E2D44E66CC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DABB6-994B-4013-944A-723E69942BB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1D3D3-F894-4943-8ACB-2350CCE25D1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B4EBF-39A8-4080-8447-CC0791BF52A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BB755-ADC8-468B-BF22-BDC741FB471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008C6-C0BA-40FE-9D79-6E5D57B6932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D1F4A-9B86-4C5E-8377-8CA3BAB41D1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55AB1-FBAC-4C5F-8C41-544C13409CF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DC186-9CEE-4139-B250-814CD15C2D2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F5D23-49F1-41B3-BC75-7026B9C1FA9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E21C1-8862-4CA6-9C24-6B241EFF184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28D4D-F5F1-4842-89E3-2C8B56935E3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A8999-9353-401B-B43B-051EA3C612D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CE128-F081-4662-AD70-C79650F8354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DE618-4473-4AE5-8DA6-24D8892F1FC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2188F-C1CA-42FE-BCBE-B5883B60B68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BC447-A42B-4815-A9B3-D053ACCA3DC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D6270-C910-447E-ABB9-35624EA1DB4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FF0B7-A4F4-4728-A544-907362E82DC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6CE44-67B1-4F01-960F-6A2C182F9B8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0276E-904E-429A-B31E-EE6C519BE0A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4CC83-2F5F-42AB-8EB2-4478A8E2BF0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4E35B-16AC-45DD-A35C-7DFE1D2A4CA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398B3-508D-463C-BF5A-5E2862B37F6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BD496-20B0-45F3-B550-ED3034415B9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80CCB-D090-436E-8997-BBF187F7297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64572-554D-43A0-99D3-747F2A8CA6F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5611C-8E2F-4860-89C1-038686F917E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822E4-0075-4A2F-8C31-B2CB7E1B428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2</a:t>
            </a:r>
            <a:r>
              <a:rPr b="0" lang="en-GB" sz="3600" spc="-1" strike="noStrike" baseline="30000">
                <a:solidFill>
                  <a:srgbClr val="515f7b"/>
                </a:solidFill>
                <a:latin typeface="Albertus Medium"/>
              </a:rPr>
              <a:t>nd</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910F7-6BED-44D9-9846-7A4FDE78F85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430E6-9B18-4BAA-AE5F-C34F9BCC66A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6E897-9249-4803-AD65-99989E2B9E5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17F92-7331-44AD-AB85-E5663A045BC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9E2D9-290B-4C05-9F7B-C7CF853C645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21-09-29T12:19:34Z</dcterms:modified>
  <cp:revision>74</cp:revision>
  <dc:subject/>
  <dc:title>Aims and Objectives</dc:title>
</cp:coreProperties>
</file>