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ECAEE1E-744D-4214-BE7E-EA599AA0DD21}"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BDDDE7D-B1B2-4018-BAAE-3DFB50844C4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54F23-8D40-4848-81B7-D52A380CF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59FC0-1443-4654-9D79-005CC7E3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16A5F-36C8-4075-BC7B-6BDCDE6E0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29EFC-DCA6-418D-830B-FB7EEF7B6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3AA22-7BDA-48D3-AE1C-11506524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3AE1F-DF78-4134-ADA5-DD2290EEB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E2E0C-865E-42C0-813E-3A0FDB8B0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47FBA-91CD-430E-88AB-4A688528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31811-1872-4153-BC87-8B4A1C690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F9A38-BF92-44E4-A8B1-3A9730B87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B6036-72E5-49BF-829B-D6263FD80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F153-73D4-437E-ABC7-40FB63D77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5B13-5CC1-4FE5-96E8-5ACA6DFF5F28}"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203640" y="58896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B293E-54A5-4402-A8B9-759BC5AF97B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554A-83FC-4E4C-88A2-49AA10A06D2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5047-4DDC-49F3-A885-EBC0B6E4524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2BAF-1E47-4215-844C-423BDD44BA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3880-939C-41AD-82E3-1A0F192D07C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D742-2496-4F85-A1C8-CE39B77A02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CCFF-8C5C-4CEE-862B-06AEE9AB35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6229-EC51-4CE4-98BA-42D12C2660F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82B2-9A60-4E79-BF4B-C4E74F7C08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5059-8FB2-4216-8939-54AA00CE88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E750-9394-4DEE-BC04-4AC707EA7D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8CBE-CC9A-4CAF-A278-E4A10F31C7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3BC9-5DA3-4EEB-BB44-C9A64824D5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522E-665B-40B7-BC55-C4039F96C0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B3B4-EABB-470F-846F-1542C96D4D8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A526-603B-49CF-9CB2-BEA089FB0E8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C64F-3DB2-49F2-A1A0-74E5868570F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D7C34-B881-477C-A2A1-DE78B8D91B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938A-D427-466C-AD7A-84181C13C4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37C6-B58F-4D36-A737-2373CA0240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7486-8697-4D3A-8C85-DCC8ACF43DF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988A-9010-47DF-B4C6-C08F309B36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F8AD-1F37-486E-AFEB-E142D3BABD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2747-BE57-47F1-A8DC-B98BBF4714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6C2E-D432-4619-8DFA-7FEB512522D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BFA96-D363-4D82-AFEF-241A873B38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0658-7AFC-4993-A107-C6923278057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FE8E-2C51-4BF0-A64F-AF3CFE920D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701F-2761-4122-AA34-682744C1CD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48E7-F34D-4C3B-A950-C6AB4251E8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D104-21D9-4CB1-ACF2-A31C40A585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CB88-B922-4613-ADAE-E155B768EC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4757-19FC-45D1-B96B-B0CA6B4CBB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53DC-D55B-460B-B1AE-DD02737A2E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15C5-3629-4E28-9839-A011AD4BD3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627A-C515-4087-B40E-652091DC20B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55FA-DA9C-4AC3-B617-13D5F85168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DF97B-9168-458C-94BC-0136353AFCB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66C8-3B5E-4252-98FF-83874DA9D16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FA73-A2C3-4F9E-8D15-CAC9FE9BD8B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F5F9-819D-4303-BDEC-B8CD80A5B6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8:34Z</dcterms:modified>
  <cp:revision>76</cp:revision>
  <dc:subject/>
  <dc:title>Aims and Objectives</dc:title>
</cp:coreProperties>
</file>