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54693-21A2-4813-96C8-0E6E35BE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7BE0-B636-43BB-85E0-94470EC442C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4339-A5C0-4F3A-ABC4-555BA21F9FA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BCDA-884D-40D6-9CE8-7824294C06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E01D-4199-4908-B8D5-BB18C6AB90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C9EA-4676-4A06-9468-B2A7DA548DB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9E79-C66B-41DA-9EDC-F0BD64FC4B2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3925-B97D-4B3E-9210-A881BCE64B8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D07F6-8FDC-4647-9F4E-A042CBEC2F0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3870-6EC9-442A-9F29-4F8EE1A00F5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0A05-9F4E-4D5D-ADB0-32C06370875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0D70-6316-4D24-9BFB-65B4242A0E9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2D75-6A99-4704-BF33-55C81E687E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1A26-5C96-4EFE-9835-78E9189C40E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8FB-805D-4C51-B02A-904087DE619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91E-3D45-4A7D-942C-CF8804C2C04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8AF-47C2-4AD9-8DDB-9E14AFF967C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3BF3-7B95-4577-96CE-77E26FFC854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908E-2A41-4EDE-BB40-69F55723E78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31FC-ECC6-43EC-8F34-1291CC276F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2A15-C2C5-41F5-B4CD-82FC857D862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57D7-2D20-4BCA-AFE1-3CA66FE1402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E614-DE25-4C30-8584-E9096F0D74C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4201-6C17-4A80-98AA-186C5A0161D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C6FB-F034-45DF-B210-37B3A297C0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9053-5EA5-4E6E-811E-EA381B51FFC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9758-1738-4936-9C0E-14FF1786ECE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1D38-E8E2-4E8D-8EC3-A99B8B2C25A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B67A-7070-4C08-A997-3FBA5016E98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F01A-E832-442B-BF1F-C5CF1AA967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8A8-F5AB-4A0B-832B-1A2E5F1E45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32C-CCDF-4A4E-892F-3ABB0916AB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DBD-09E0-4444-ABFE-F1CBF754B50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17B0-F33C-44AB-A71C-F98095EEF6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6573-91D3-4304-AC18-8795C0396C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D13-E570-4615-AE47-C10A58F9226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0147-83DC-4717-B2BA-A954D2D076A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FCAC-C034-4D9A-B9B9-184565274E2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DF9C-1326-4E74-9095-4A33DE0F43C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F4E8-A6B8-4C8A-8FEB-E01CF559980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C67B-AC29-4948-A445-DF9536ED9EA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1E4B-682F-44AC-A780-FE829919770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6D1-AC3B-4D96-AB19-A4506A59E6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540E-F09B-4991-880A-E5908C4466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93A6-D85E-4FE0-BBAF-6677D88ECFB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F8C-F962-48CF-A844-2C3A893DB8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5749-FBC0-4732-AD99-F250CFA9CB8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710-5AE3-4921-909D-0362AC27587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0249-CE0F-4500-B7BE-4CEBA2B3F1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6864-6DCF-4219-9662-BEAC116FE5C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166A-569B-4D07-BCE0-4B50B3C24C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9327-A55B-428D-849A-79062E562A7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D7C5-9D09-4BA9-AC13-2136CE76B0D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9526-8911-42DE-AEB4-134E7312C5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56B5-6FD0-4537-99B3-F3ED9191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C86-048E-491D-A37A-610D40CE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B262-47AB-4D2C-9A79-778E8348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2AEA-ED32-48B2-85EF-7B4A6320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34A-5E66-4E46-8646-CCC9117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04E-DF77-42A0-A1C5-BCC8B5DA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9F12-83AF-462F-BB76-65FD7C9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8E33-2CB3-4988-B6F0-18F447F0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CDC7-97E9-4BDA-9D2C-58F4434D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6AD-2193-430A-BA42-309A91CE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7BD8-694F-4D34-AF9E-0960502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1055-0EF9-41C3-9DEA-65B2770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24C7-6A8E-434A-9219-163232BD0E7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6953400" y="6373800"/>
            <a:ext cx="2001600" cy="287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 Field (2005, page 336)  using a “more conservative probability level” when using non-orthogonal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r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k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21-09-29T12:20:19Z</dcterms:modified>
  <cp:revision>117</cp:revision>
  <dc:subject/>
  <dc:title>Aims and Objectives</dc:title>
</cp:coreProperties>
</file>