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22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D154-E2E2-478E-B009-F0BCF603DC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C015-47BE-45B2-87F6-444D2FB96713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A2EF-B5DC-4AC0-97CE-36F57A49904C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A486E-5A18-4389-882F-6AA8605347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B1C9E-EB7D-45F7-9ADE-F3349213D8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831C8-E2B3-4CC4-B45B-A56FB25327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41FCA-800B-4E09-856E-EEE242143F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38145-5FB7-4480-87C1-2B20E360F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97C04-E616-4015-98FB-30EE6216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31B27-7C89-41A4-9A22-C06F740A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ACD57-80BC-4465-982E-AC6BCE49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BB39F-F258-414D-BEAA-B7F20A83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9BDA1-ECF2-45E6-9E30-1D65595E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71685-7355-44D5-BB91-C8B7D4D3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CB76E-2DD7-4054-91B1-4C3F547072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7BF8F-A331-4573-AD4D-C9C95543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1939F-4113-4AD9-8BB7-B8DD9836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7B502-C2C3-4083-B0AA-6BF94764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DD49F-D01E-474A-9672-29EABFA8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58988-1A46-4A55-89DF-D57307D2A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A703DA-1AFC-4636-B25D-EFF83C4DC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54E63D-4824-47FB-B59D-49E89755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CF9558-84FA-4717-9F7B-9BFBECC0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715CCF-F72D-4D50-9075-C8D9760B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C5DB6B-E55E-4C1E-BFA5-AC4F5275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CFD41-80E1-4A15-9E98-E5FED68CDE2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3C730F-583D-40C5-A4A0-C605AC16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5A4A47-2252-45DA-9682-EE1BCC7C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53983E-3185-4A16-8718-609C958F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EF9A26-FAC4-4287-93F3-998CE291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718D3E-EEC5-44AA-973E-21F26098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A99B58-CE84-4CFB-8073-2347A9131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6479A1-24DC-41BE-A2C8-B3DFA819D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A3F725-ECC7-4CB2-A11A-D3043BF9C3A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4FBE46-808C-433F-9AC0-D85BDFBB8AF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086613-70E4-42EF-8227-DB109E2CF9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C7CDB-6A5B-4E3A-AE64-124D97AD42A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6B370D-9485-43DA-B598-0662C909E1B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2C40FB-C9E2-40A7-B4F7-03E3D368994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5D6E8F-1634-4809-9BC7-D601517DD86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CAC3BD-1A17-41E4-845E-B5CDCFC0943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38A766-E935-4563-9206-8436288477F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295010-8BB4-49BC-B617-61A406A4A26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548B9C-D639-4429-BA5C-B65C5EF0432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B2ECD1-FE53-471D-BBF4-6D33270DA32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E12CE5-4836-47FB-A645-FE31D3A47F2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BB54B-B166-49CE-8739-B1CBEDBA7E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85D97-7DA9-47D1-B0BB-A94928AEC77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63ED7-C0D9-4204-A9A0-B60E995955E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9963A-A194-435C-BBDD-14F3E246270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E60D5-1E2E-4739-B019-00001216519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A1B07-B6D2-4DB5-8648-4EBFC97AC93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05FDF-D44F-495D-AA8E-B5A97DB0C9C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CD13C-7B84-4089-AA27-4E8609FE8ED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61CC7-589B-4426-8FE2-EF7DFC3155F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16361-0A0F-47E0-910E-7A1E3CE1F29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D9E43-B383-457F-9E91-EE9F30EDFF7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D836F-51CE-4E3C-984C-4B7FF1F9C6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F4E06-EE66-4AA2-8A18-6A7D2CB91EB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7B2AA-75CA-4D24-9C87-970B95CDEF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6BC73-F725-4C69-A865-3070E98811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BE501-7F5F-453B-96EC-14C74883E1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4F732-31DB-4DED-A497-69145827DD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56103B5-C6AD-4694-B425-CDD19F04A0F4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9606F3A-A971-400C-95D5-F300A23E7B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9540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1795-7F8A-4DCB-B207-B563A922C97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5FDE-FEE3-4A08-8682-14EBAA9DE35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556000" y="45072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9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0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6C52EE8-7FFC-482C-B7CA-2A968B06CD31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8EC5951-64B7-4162-AB4A-06F27BF6BA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81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2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3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4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5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6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7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8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9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0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1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2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3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4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5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196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95400"/>
            <a:ext cx="5581800" cy="666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3" descr="cid:image004.png@01D7B519.9E61D320"/>
          <p:cNvPicPr/>
          <p:nvPr/>
        </p:nvPicPr>
        <p:blipFill>
          <a:blip r:embed="rId3"/>
          <a:stretch/>
        </p:blipFill>
        <p:spPr>
          <a:xfrm>
            <a:off x="3228840" y="200160"/>
            <a:ext cx="5581800" cy="6667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1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sldNum" idx="1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E79B9954-818F-43AE-90E0-09A758530312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2A6A1255-1F19-4E02-AE1D-4DCBFBAD57B1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8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109440" y="4565520"/>
            <a:ext cx="903924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If group variances differ but normal distributions in group use Welch’s df adjustm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https://statisticsbyjim.com/anova/welchs-anova-compared-to-classic-one-way-anova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See also Delacre, M., Lakens, D., &amp; Leys, C. (2017)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Why Psychologists Should by Default Use Welch’s t-test Instead of Student’s t-test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70c0"/>
                </a:solidFill>
                <a:latin typeface="Verdana"/>
              </a:rPr>
              <a:t>International Review of Social Psychology</a:t>
            </a: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, 30(1), 92–101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1" name="Picture 8" descr=""/>
          <p:cNvPicPr/>
          <p:nvPr/>
        </p:nvPicPr>
        <p:blipFill>
          <a:blip r:embed="rId1"/>
          <a:stretch/>
        </p:blipFill>
        <p:spPr>
          <a:xfrm>
            <a:off x="507960" y="1995480"/>
            <a:ext cx="8604360" cy="2548080"/>
          </a:xfrm>
          <a:prstGeom prst="rect">
            <a:avLst/>
          </a:prstGeom>
          <a:ln w="0">
            <a:noFill/>
          </a:ln>
        </p:spPr>
      </p:pic>
      <p:sp>
        <p:nvSpPr>
          <p:cNvPr id="292" name="Oval 9"/>
          <p:cNvSpPr/>
          <p:nvPr/>
        </p:nvSpPr>
        <p:spPr>
          <a:xfrm>
            <a:off x="7521480" y="245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3" name="Line 10"/>
          <p:cNvSpPr/>
          <p:nvPr/>
        </p:nvSpPr>
        <p:spPr>
          <a:xfrm flipV="1">
            <a:off x="6800760" y="3217680"/>
            <a:ext cx="144144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6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3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304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8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316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3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1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28.89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12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3.95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9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4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6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2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4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5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6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7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8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9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0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1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2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75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388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9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394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5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413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16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417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20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421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2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3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4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5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6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436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39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440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4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5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46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447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8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51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5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6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7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weighted=arith mean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89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2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3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4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5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6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01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4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275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5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21-10-26T08:08:44Z</dcterms:modified>
  <cp:revision>373</cp:revision>
  <dc:subject/>
  <dc:title>No Slide Title</dc:title>
</cp:coreProperties>
</file>