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25F08F-86FC-499F-968C-54191EB2C9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3B39DE-74B9-4898-83D7-2838109D8A07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B828E7-C668-49D5-87E9-2D5037AFBC60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DCF7-7611-4345-A548-6972A46A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8A7F-5278-4E23-BACB-66072569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6F251-4DA2-4310-A052-0430697B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036F7-A99D-4EE2-B84D-6466A759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E4DBF-C28F-415D-89A0-C06CE079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B9627-A0F8-4BAA-B3CB-C613343E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ECFC5-975D-43EA-8932-FE2BBF31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CF05C-9992-4791-9D41-FD93E352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59EDF-CE1A-41BD-B59B-2734827B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7BF29-8D10-42A5-95A0-6CB72478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47568-5605-42EE-B178-88095C7D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45528-6C31-407B-A9E1-8F63BFC7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EA51-AE10-4D61-AD70-BE48F692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B6CED-BF45-4B50-9EE4-22BE72A7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652B9-2182-4EF6-BBA2-3FD73B94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F99BE-0085-4141-8C63-709D1C9B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C9FD5-09DC-442F-BD24-6CC640CA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CC69E-0D9B-4DBA-A7C8-2C79163A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728DA-4FCC-4558-9762-EE5DA7DB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E80EC-2355-438C-98D3-E4DBD3F8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1F637-CCB1-46DA-81FE-9390D9A4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12268-9C3A-4289-ADF9-EA8D285B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B6F85-BD0E-4B9B-A131-FD8D0CCC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034-B84E-4BAF-B078-D9AC969F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92A0C-4F17-4977-B44C-828040C8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323C4-7AF9-4C7E-A122-45F34DB5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D766B-6501-4DB3-91D5-8BFCF755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C19F6-4429-47BA-BA0D-0FEAFBEC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1A2AC-C4E5-4C30-802A-721E850D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84966-0C1D-4A4C-9304-934607F7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C3658-7D24-42D2-9A73-53BCEDC7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F6ADA-809B-4F8B-AFDB-EF73CBA3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4EEEA-EEBA-43E3-892B-72F090EE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3FE9A-8D32-4792-B916-E75A10FB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8EE84-FD49-471D-BAD7-9BD25FF7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6F32E-FFC6-4C3D-A328-1A9715CB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AEA4D-1BDC-4B4A-8EEC-68FF21A4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22E79-55BF-4F2F-AD6D-DCB2A50F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FFBDE-2813-434C-B633-6B522792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C9C56-28AD-4855-ACE7-ECCB3D7A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4C94F-B6BE-4EC2-BE46-8A32046B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DBC51-3A27-417F-B1F9-D7796D2B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17230-17DF-4ADF-A061-B9E2C538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3374A-47BD-41B5-BE78-6F34A091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A05F8-0CD1-411C-B15B-BA89B488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9973E-5630-44C4-966A-1F6A3B7F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F703E-F038-4975-B304-9D83BCF1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D8FE3-170D-4325-AE16-AB5D387D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920A4-E34C-456E-AA13-83E6E7F4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FC954-2E3A-4E5A-AC1E-75E79C65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CE1E0-3178-4EA4-AFF3-81213BB1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C1125-C112-41F1-B2C9-1EDAA7B2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987DD-2BD3-46CD-BDA8-70387FD4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08B4E-B54E-4175-953E-28B7DD29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ACB7D-23A6-4C62-98D3-7F72BC9C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33BDF-4EED-46B0-AE04-E1AEB86F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E555B-7901-4055-84D1-3BF3A113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A945F-3AA9-4843-8FE0-A826810E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F0C68-A2F7-446F-A668-03201447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BAECB-122F-42BD-926E-D8F779C7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7BE73-837D-46C5-8CF9-7893A896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11EDC5-3DFB-43B0-A0F7-42B6DFEE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73BB6-7C71-45EF-BC6C-CF74D8B1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8E35C7-47D8-49DA-8ED7-2038B134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064BAE-A11C-4BF5-AC98-D2FB476E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A9E9B5-E811-4610-A149-5A8B7587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9136B5-1655-4A58-85B3-BF3127D8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679D1E-C0A3-4F2E-8A6C-47BD2DFC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324951-6353-45A1-B3D7-52708C0E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213A6-4C18-4E5C-9193-6D37B16D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CEA7B-E746-40D0-B75A-405509BE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17B68A-D3B3-4B5F-804A-BAAFFFC3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7781E-CE56-4A16-A00D-4B355560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12B88A-338E-4F23-906E-43239E1A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D4BF86-72CF-44D5-BFCC-886CDF2C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19CF69-8C2F-4B4C-8143-D786373D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C4EF6C-341F-49D6-9DC7-E3B77F21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E592A3-64E4-4859-8B7D-5A196FF0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DBA78B-6C30-4D2D-A445-5EEF1753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F5FC4F-6E67-4D22-8A58-E851DD5A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CD424E-CD92-43A7-A3BC-94C35920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B03C8C-B7D7-4C1C-88DE-E6B474A6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0344A0-B3B1-4EB3-9492-4C0B8033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EB1CC9-EED4-445D-BCCB-0A242DF8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797184-6D19-4780-B083-031D20C5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04923E-5F11-4994-A5B9-50D5FDD2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B739E9-69F3-49C0-8459-98785825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D76E72-A8CC-481D-8771-7BB449D1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8C4F55-D519-4A8A-8DC3-164D0BED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3BDC9A-898C-4B6B-9C97-1188E29E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F057A7-DF08-4DB3-87D2-4D01FFEB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575339-F0A6-4474-A362-8E908AE2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D2F44D-4DEF-41B9-8ED4-80350E1D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EC77EC-AB8A-440E-AB39-EED586A3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FFF288-711E-4F7C-B8CF-12DEA8EE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4072DF-7BE9-4B07-9872-61B02850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6E0E27-B9D0-4C86-B7E2-C95749D8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299753-06EB-46A5-B0CA-21EB3B3A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6B2F2F-CD00-46FB-8E02-D63ED2FB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C531E9-F64B-46C4-8545-9D1DEB08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28E10F-3F81-4B0E-8AA8-602D4F31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AE9A26-05EF-40C9-A499-B228DE18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18CF39-970D-41C3-A434-199D635F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DA9C20-FA0F-43B9-9F1B-D7DBE4A4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65DF-8B70-44C2-BABB-69F5C9BF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C1950C-ECBA-45F1-AF93-3D81B468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A63738-0462-4303-B5E6-B7B497A9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28E7E5-9863-4390-8364-819285A7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60EE49-FC3D-4FF5-9993-2E548BAC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3232C5-044A-47F2-B7FE-33D9C317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7061DA-31DB-44F1-9FEB-6B616C05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8B2CA9-993A-43B8-9C2B-675FEA0B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881FFE-7D16-4217-83CE-B1E53F3E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4A848A-D84E-4EB2-B278-E0745035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275AF7-0DF4-4205-A4E2-706BCA13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9CA66F-597F-4D7D-94D6-1C0E62F0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EE0115-C830-49A4-9E31-4465E1E3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64C01C-1725-432E-AFB4-EC3E5198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D51293-3E61-4C11-AA9E-A04DEB84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80B774-0C41-4C96-B9E8-04295F9A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8D0B23-1CD5-4AE7-8806-FE6AC536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A55541-351C-4D52-B989-1232683F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2ADE-AC24-4D59-AAF5-C2E6C45D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6A3-77BA-4195-BDEF-BF7FAD0D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94C20-72D8-46BF-99E0-04FF95A5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C490-EEC3-4D58-B6AC-2C82825E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94FE6-8FDD-4C11-BAFA-BE85C2DF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B2C56-EE9B-4DB9-8A09-B50AA1FC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E6747-B13D-455A-86F9-0DFBADEB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0CB8A-FD7B-4074-BAAD-DD60284A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FA15E-AE25-480B-98D8-8957CACA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F6DA7-CED3-4AC9-98EF-D4427E33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89517-75A2-4327-B997-6F2DD422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B169F-132E-4356-B371-9E69670C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62E7C-930A-4D41-8034-C8BFF799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9414E-2C4F-45B9-B2D3-794CE3CE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474D-4797-4673-A7A1-A64B8C29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24AC8-7525-4B62-A246-60161410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98DC7-D832-4A49-A8CA-577175F4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DFF99-E81C-4D1A-990E-F60DC260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2D054-35FF-40FE-B35E-DC4726F2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8E3A2-92F5-420B-835E-29C88E64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32FFD-4DD6-41B2-9B32-120BB18D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7A3A6-47F2-4985-AA91-3032ECA8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4D13B-7B24-482C-A79D-FFB75014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9D172-0D9E-46B9-85C3-71ADF65B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8B913-F0A7-4831-88AD-A0B1C569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01EC-C174-474D-B868-8A2BACFA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00CF7-C800-4029-ADF8-F1C3F6B5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54FE9-9D3A-48B2-9D6C-81973B57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46A67-5D43-4B27-84B6-8EC7731F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C563E-B3E0-4094-A89C-142F1928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0972C-2D15-4535-BB59-75AD88CC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AEBEF-029A-476B-9CDE-2FCAD9BC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821ED-9BD0-47A1-B9D6-CFADCD23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C4346-C008-4E43-AC4A-06ED9983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87AB9-2CB1-4A68-A6C5-642CDA70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58440-27BA-411F-A4CF-2BA33B91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43DD-3841-4BD2-AC2A-A66559AD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24E13-78B6-41A8-B042-C6199C7C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4E971-5DE2-41EC-A2C8-640ECED3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C27D9-24C8-40DC-ABB4-413ED67D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8BE6F-F2BA-49A5-9A8D-03CFA2F3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72423-E083-4B7F-8625-98B58606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3788E-6981-4C78-A0B6-E744A11A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535F9-DBB7-4B5B-985F-0423B4A6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991BF-30EA-430A-BA60-48BC8986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B6112-E755-4C32-BEB1-DB358189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308B2-27E4-4B2A-9AF5-1711CF9A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669D-DFF7-4391-97D1-1B585AD3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77B0C-7071-4875-85E5-7B6972C2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E4447-8850-4630-9C9F-EA9E1A0B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C244A-56B6-4E41-9EFA-941FD61E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5E6F2-1E2A-44FC-96DA-C4609084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22C63-1AA1-4FE5-98DE-6EE32595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DD4BA-BFAD-453E-AD3D-AE85BC6B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9C539-C79D-4B2F-917D-9E6993D0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4F80E-F2CB-4C67-A433-808370E2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ED9C1-7BCA-4F52-B8C5-C033A2FA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4953B-7C9F-444D-953E-1FB2768F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F66F-5F25-4266-8ADC-162147B2147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FF68-D723-4FF5-BCE8-C93376E73AB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9667-5BC6-4EE5-8913-DD41E449649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0446-D7A8-4A88-BCD3-0051A6E3F63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259B-1958-4F12-B9BD-823B74F287E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2E8D-EB79-42A9-AD26-60F28EC815D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2699-F919-41AD-83A3-65945C9F6D2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4481-606D-4500-9224-BA05486B251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1FE4-6EFC-4563-9257-3503556B9BD5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3747-D449-4C02-A9D3-BC6F0DB16B6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9349-CE49-4C64-A367-9A6286909E9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0656-7249-4981-8062-D6F409C59BA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D567-008E-4593-8E15-1223DBC595E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F8BC-F12C-4303-A23C-4DB7294F0C7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imaging.mrc-cbu.cam.ac.uk/statswiki/FAQ/BinomialConfidence/2gpp" TargetMode="External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6723-E9FC-4581-8B48-09731E32A00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9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9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2AEE-666B-47A7-A019-8667AB193E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C50E-CB82-4D9A-9491-54D7ACD098C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9740-12DB-4DB9-9729-5506377C39C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42D2-93D6-4020-813F-EFE8952D841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62A8-964F-4386-86D5-92B39633B81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02F9-3AD6-4ECA-A855-77B082F32A0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3B98-6D1D-49E5-9B2C-08DAA80195F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F200-B3BD-4A99-862C-3445ED87262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9B5E-5ECF-4137-80DD-372CD8B6CD2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EAA2-F8EA-47FE-8988-D6CF65D89D9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3A4A-EF88-4989-95F5-7103FE09AA8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5 October 201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FF2D-CD39-48FF-897D-511651F233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9AD1-2F0F-4B74-91AF-92B57BBA04E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2BBE-6FC2-419E-8946-F33ED5723D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E8DC-10D9-430D-90A7-E9D0405D4BC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3218-D6D8-4B79-BC55-FBD1D50C960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A30C-4706-44CF-B73A-701DF049F8E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C34C-4162-4171-A557-995C70D26CC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282C-8C64-4F9C-B718-BCD7DBE0646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12CB-66E3-4DDB-AEAD-1B8B17537E0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F069-43F1-4C2F-BD8C-DD6FC08998D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BBE9-A2C0-47AA-A1FB-D662E858F7F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59F3-5415-4DF6-9069-354CF6617FF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7137-273C-4395-AE26-9E33E1F83B6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3465-F7C9-4761-B8A9-B1411FB9B8F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4AC7-176D-4948-904E-71D71CB4DF0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05CD-6338-4B15-AD57-01208D19B17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65C6-3173-4292-B8E4-70F2D951B83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73C6-DF94-41D2-9F49-E60535BB0C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0E7E-3CA8-44F5-BB89-8A3D13D4D61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A7C2-CDFD-41B7-84A6-92DA07CC657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EEFD-0C2E-4FDA-8D2A-333D7E17808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6A5C-5D58-4929-A510-15C906B07B7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690F-69B4-4AF3-8632-DDFB2A734A3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1AF4-A9BD-4263-9E1F-2D36437920C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7317-A157-4E24-A883-C76D139D96D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6280-DDBD-4778-B7A1-60D4F99585C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BCA2-9BEF-4FAC-82C5-85382E83A17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9585-10A2-4977-8770-AE81BB39A6D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A9E7-E8CC-4073-8EA5-40A4D8C993A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C54B-710F-450C-AEFF-968A91D7FB0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8A04-9BB9-44E9-9A20-F9F9888CCF3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AC73-AB09-4077-95C6-A0A8671D460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DFEC-4687-4711-A900-D4477C4683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E7BF-3FA8-491F-9951-DA7646913BE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</a:t>
            </a:r>
            <a:r>
              <a:rPr b="0" lang="en-GB" sz="20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lso McNemar-Bowker tests for changes in times in a k x k tab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16C5-2207-4372-93C1-29DF92AD87B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D4B1-7240-4101-8F74-BAF649B791F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74C6-8F2D-441A-B391-FFC24805BD6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8415-1222-4055-A5A6-6054F2CF9D6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819D-8483-463E-A105-8BA758EB73A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2637-DF4C-401C-82BF-71D34C0C649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5B1E-6890-4DE9-8B76-8BE090CAEFA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4637-8E45-4DDE-A42B-A3C1ABBCEF5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E755-D90C-4C66-8EBA-2928A604AE8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FE2A-F79A-4D8A-91F9-A3AECD6151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F82C-DCBF-47E7-8025-5BFC31B173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587F-FC33-41BD-A19F-924743F182D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21-09-29T12:16:41Z</dcterms:modified>
  <cp:revision>123</cp:revision>
  <dc:subject/>
  <dc:title>Aims and Objectives</dc:title>
</cp:coreProperties>
</file>