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A63E52-EB3B-4377-A1E8-742042325DC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6F8724-93A1-4378-BA41-EAE3855A5359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7EDAA3-46D3-4BB8-A51E-789A6AD3CD48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ACE4-23FA-45DC-A280-762E7139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2A31-E91A-412B-9F19-E0637E8F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93980-ECE0-4D38-9EBE-3C6D00F3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F4B65-9527-4E63-ABBD-53485557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93044-1610-48FE-82C0-5CA7D130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96CC3-A79E-482D-950A-5A4030A8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29478-6635-42E1-9CBC-FAB3D9F8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27050-4774-4F24-BB48-2EF523BD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CF1AA-679F-4800-B47B-E33AD0EC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9C9CE-1FA1-49D0-9863-82A49949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A89E9-84CD-4722-8A80-1FE28BF9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D390F-A4C9-47B3-B3F6-DA24A347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62D3-061F-4EDB-A376-EF82E5BD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19C60-404E-46A7-9B13-FB530601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D4DC6-B0EF-4154-819F-D5CF5186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46A27-5F3E-49C7-A744-A058EB00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B65AF-19ED-4969-9802-FCA7575B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72D40-C8B1-4934-B895-D07163BD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3873E-4DB4-4B45-9F72-B728DE9E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25DB5-C76A-4E75-AC7B-E1539D14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F4B08-6707-40F5-B725-DEEA9AD4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F9836-886C-4BFE-85A6-3C66C7F9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51B64-54C2-47FE-8670-5CE01072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62E8-04C4-44EF-8456-E2658D87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377E6-70BB-4028-892C-F5FF08DC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C6B63-1998-4099-AAD4-D6C1D6B7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6D881-3551-45C0-945A-A390857D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A4D2F-EBE5-446F-AB05-3431D5A6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9C65E-A34A-4AF0-8622-097900BA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A7BAD-4D24-48C0-AA45-AB71E6C1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734A2-4E39-4C41-A61B-B28B15E6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E775B-CA9E-4CF2-93F0-A8F22FA4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C07D5-F169-499F-8096-0712E1F2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EB455-40F2-4E7C-BFC1-0D930A62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DB95B-1C3B-41C2-81C6-64ABA61B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5D059-EDAA-4FD5-8E14-220D8389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488D4-E45C-4B90-8958-E6004B94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48204-B4A8-48FC-B852-EEE84F8A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9A760-46BC-4E42-9A97-782F1AE7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9A53A-B598-432F-B295-6ACBC8C6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2A374-28BF-4FCF-924F-FB51D8AA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7A8E4-8357-4B20-850B-3AE34348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4A347-7FFD-4465-A5A4-CCE39147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4D773-3B47-4A2D-B81F-90F04FA5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47365-DE07-41F9-9A5C-F0A54E5E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D901F-2D9B-4367-AE65-5EFC2BF2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C00F7-E70B-4D3D-A5DB-9D0191A9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047E8-6D30-4EE0-AFD8-109FD724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788AA-854C-4628-85D8-E5B8AB50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29C08-BF8E-4CA7-B887-6802B33E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D2213-D640-416F-8B7B-40B1DB5B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C2B0E-8B32-4161-A86D-42C956FF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46F70-0789-4CDC-BF8B-3FF7F9AB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0605D-5C93-424C-A559-5664AE13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3BF22-8FEC-4D68-992D-AFBBD80B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5FAD8-EB98-47E4-85D7-8AFE52FC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CD4A6-3CFD-48F9-854E-19D23573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66342-9659-40B1-B102-9FBAC9A7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C221C-5680-4FE6-A2B8-4C9D42F3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4F573-A270-4188-BFE8-4EADC60F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831110-C582-464D-978B-3BBAC06C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E4605B-7D17-4BAF-A0B6-C1138E19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0B1940-DB3C-4EA5-8A30-6D6A03E2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ED7AAE-8FDD-410F-B34E-4B819D5B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7A5D93-224C-46C9-9C78-DD034801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D0C58B-F4E6-4C37-8078-B95F6FA3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C11D4B-BAF4-41BE-8832-155533A0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D1B409-75F3-4E00-9C41-8291569D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6B4166-09E4-4D38-8342-A48DC197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DFDD36-0420-41ED-A9F5-DD453237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4831ED-EA03-47EB-9ACE-4D7B880F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D6A9EC-2B95-4DC4-BB89-5B51FCA8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47EFD8-1B0A-48F8-A9A1-25750F16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6E004E-4637-4BF8-9984-90C05278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5CFD38-C9AE-4C33-8BA0-5983AC70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B9503C-4E72-4FBE-9F9D-31E6E3C9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50D323-3F44-4827-BC35-CDFE44BF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E51D04-E369-4A7B-8665-AFBF4E7F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A4FCB4-0175-4974-8645-F61AC6C9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D6760E-2E17-406D-8F0B-886C9A8D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45D816-C5FD-4082-89B7-B8460139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EA755C-8110-4BAA-8304-D151E8F1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5A2FF1-406A-450C-9850-C8ACD7D8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FEC4F0-D048-4FF3-A2B2-DB8961C6D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516F97-6B86-466D-8C95-F99BF438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1279C4-D836-4A00-902D-611BB126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E0680D-30C3-490F-847A-0A9168BC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B59254-440A-4348-BE70-09FABCCD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1C3FAB-EB92-4C6A-9031-7967FB76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BC57E5-17C6-410F-86A8-BDE4E9E9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0E1E01-5696-431F-8CD9-A5A4D507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C20114-49C8-4111-A75C-689D19A1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3C1366-18F7-4315-A935-8EB4FA32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63E12C-2A83-46D4-A5BA-D1BEE20D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E07C46-3E64-47CE-99BB-9214CE96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5F6840-FEF0-4464-B37C-92E1095D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65925F-9944-48FE-825F-B78BB817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C9FE17-A99D-4EEC-B680-EF8B35FD9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4F36D5-E5B4-4C8D-9E99-514BB5E9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956F04-F51E-4768-AF15-BF20BCCA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671582-8B40-4D01-8E0E-C418386D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2636F4-D5B0-4DD6-9D6F-08350EB6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38708B-4821-41BA-9B88-3AC58935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CEDFEC-ADB4-42CF-B225-7CAF8410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2FFB-5468-490B-AB7D-4910DECE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AE11B5-220A-419E-8795-DBCB55B0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9A1C4C-DA06-4874-92DD-06E62B4F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60375C-70D8-4D9D-B3C3-A48D81ED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FE48F4-EB72-4C82-A078-46F1C1C3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BB5C2A-4C80-415B-8FA7-21F26257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666040-FA5D-427F-9281-8DC699C8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E1E383-900E-424F-8BBB-98395C2D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6925A1-F529-4B6C-9131-3948697E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847193-7369-482D-BC8E-00DD5268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320B59-B8F6-4A37-A338-CE22778E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3E650B-A4C7-4EE1-B2A3-0A6E4164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CAE963-7514-4FF4-8802-DE586AC5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96C946-E0E5-48DC-A1A3-7C209E3E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058C56-B7B4-4598-9BD9-4A04AE48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F02302-DBC6-4F13-869A-22CABADF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F6AF35-F9F1-4BD2-84D0-2064EC1D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BF163A-A90C-450A-8E94-10B20C55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23D9-B052-4FD3-87FE-62070842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7E71-E75E-4522-A944-85378D33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98378-DA49-404A-9E55-DD0F8609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78CF-6094-4196-BD46-251A4F12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655B6-A7E4-4A91-93D3-F5A4C804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C7E3D-675D-4887-AD42-3695BFDB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FC8D2-FBF0-4BF2-88A6-38AC716A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95AD1-1FFC-424D-BD8D-1B9F000A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944B6-66F9-4B21-B52D-D6C61501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8077F-EC44-479B-BF7A-365B7450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CE43F-5278-4CFA-ADF3-71C4421D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B1619-4DF3-447F-B567-02D3A53D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A478A-2B5D-4229-B389-B9A65F1A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E222B-3D72-42A4-BC47-18AF2869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D0AB-C4FD-4D95-88CA-943EDDFB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1BE0A-176E-40B5-AFB0-EAEDD2B4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68F6B-30C6-4A77-8E23-DB2F2CF0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F8485-73DB-4DC4-BD13-8666C501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58A6E-3427-404E-9738-197921B9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68031-668A-4135-A236-9E316EEF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A56FB-BB99-40C9-A2B6-86C8D1EF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93598-92DB-4A0B-8674-B948BDE6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2EF38-4B86-4045-A3FC-A6CE713B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217B2-B94A-40C1-9DD9-60CE279F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75354-30C3-4446-82CC-656E3AB1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3C39-3849-47E0-AEB4-A7297482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54D63-2204-42C8-9977-D4DFE3F2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12258-BF45-4F5D-B444-6463F54F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277DE-1FED-4885-9A91-6333AABD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52934-9101-4F90-BF22-A76E10F9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32DFD-EF9B-45B8-B5D1-2D1981B6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D3388-8572-4790-A7D2-8EBD8C32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A2E2E-2B59-4108-9077-CC41AB58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779A6-BCED-4E17-BE0C-613A0BA9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A0205-7675-47C9-95A5-0D7BDD15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1FAEA-CFAB-4562-BBE2-D9646C57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21C2-EA0D-4662-8DE5-7AE65927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C2FBE-EB2C-42ED-B746-90B083EF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42620-EB37-487B-82F4-B520449E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E1365-AC25-48C8-8965-64F78422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1B1FA-A015-4C3D-B5A6-B27F8799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0EE22-403F-4BFF-8FC7-1EB77D8FA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F973B-ACDE-4D14-97E2-8D59B6A7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3AA2A-03C0-444F-B67F-9CA9D0DD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6FC3B-B21C-4F8C-8F3D-4662C6F1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53D43-B602-4C66-87BE-FAD08DCA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533D1-5513-41C1-A3D0-8D669492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F664-711D-459F-A8FE-8B650A51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BF2DD-BB89-4E0C-991B-FD12359A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8696D-9A9C-4BCE-AE21-8450C123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62947-894B-47A4-8CBB-47E58B6D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A1B08-86F3-473F-891F-792F1409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C2352-8641-42B4-A54A-4B17F70A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5D524-44FC-4D85-A3F3-429247F5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ABDB3-C9DA-45B9-B45F-B0FADE1B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5438E-0FF9-4FFB-A909-214D672F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7FC1F-BA95-4A1F-BE61-70FC98C7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4BF57-0720-496A-AA58-A2E97C79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2745-0CC7-416C-BB47-A8BBFBC8B4D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E4CA-1C21-44C8-8DB1-049419A012A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6079-91D9-4442-9398-066CB12A059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9881-E32D-4AD0-92A4-8A6945FFB68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D705-5BCE-42FA-8785-1661794624F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DC91-96B1-4A1B-B668-491025F4300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95B9-9059-4073-814A-63E1FCBF8FB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AFB4-0450-45A2-86D3-E5D4A5F1129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3568-B6E8-4D71-AC7E-2074D9863F30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8B04-BABD-4294-9490-D3643E1828A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A168-8B15-4A12-B630-313E84C6578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7FEA-C915-47AC-8188-05BD566E36E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ABC2-F466-403F-B83B-D08D8B81984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FE71-8553-478D-8411-61E53ADA8D0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imaging.mrc-cbu.cam.ac.uk/statswiki/FAQ/BinomialConfidence/2gpp" TargetMode="External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CB27-825A-4E33-9912-0AC7FEB47CB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9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9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29D1-5617-4BAD-A31F-E63B35C4465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93DB-2427-4A46-8C86-0A285519852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304B-0B7D-4F8D-B87C-F8AFF997410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BFA5-AC0B-4C16-8A1F-ECAFB2C9E77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2A2C-D18D-456C-9DFD-8F0911A5419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7580-F93E-4324-B402-4E06F645647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743C-D5F6-4A4F-A482-3AB567B306C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1567-4547-4DDB-9A4D-8D1395DACD9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4145-156B-4E1B-B561-A888979CD49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DF04-4BAC-4EFD-93EE-31F5A440E62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3021-D4BF-41E9-8F8B-6C33945E181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5 October 201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9D70-1278-46F9-96BB-DBBA6BCE5C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B6C1-96AE-4AB6-8088-506E992FB0B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0747-28C9-49F1-B878-8D3AF6098BC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7EC9-8D26-4BFF-8225-B049924D370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4B84-2EA4-4244-A619-CAA0637FA26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11D5-3A19-47CF-8B7D-68A492AE8DF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7CE9-6706-4A9D-A7AC-F77DB4C1EE9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EFA2-0D9D-4670-B0B3-7E1D7A5666B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F80D-AF8F-4061-9F30-23D7746BE3D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D387-86DC-4EDA-A368-65CBE5FC1ED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6A33-4C46-49BF-97B3-07D6B0A9741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7E33-38A8-40FA-9BA7-0B6A2C1792C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4E4F-33EC-41ED-81D0-7B5A2F573B6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7DDB-6454-4227-890A-6919965791D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7273-783C-4ADD-ACFE-7AD97A199CB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5DEB-0774-4CF0-BE03-6786FAEC272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3985-BE62-496A-89EC-A0873726914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20B8-50F0-4222-8BEE-D3F153E8F9E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4AA8-D17C-4A74-8525-FAA54E04295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9EC7-D09F-431F-855E-C324D554F55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C4E9-0573-4536-AFDF-E76038E2203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35D5-C59F-43FB-A6C1-D212DAB4460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4CE4-EABF-4F72-AE12-F74AF56F33C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C87C-BC24-47EE-BBAF-6762CE230EC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D914-F4F6-4955-9719-4AE67B14859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A3A5-8842-47DC-8337-B7A146BBC56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9718-551F-4BF2-817B-8C1347D5F02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A38F-78BA-413A-B32C-B9BA49212FC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E1E0-2D52-4AC0-8E09-3083506BA4A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EDFA-95BD-4D82-8281-B06846E6C10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8833-B56B-4754-8943-017749DD253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9345-52C9-4D64-B643-B5AEF05B4FB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132C-CA58-405A-85FA-07CD8D8B7E2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5517-6B61-4B91-8D8B-0A14A43A73C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</a:t>
            </a:r>
            <a:r>
              <a:rPr b="0" lang="en-GB" sz="20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lso McNemar-Bowker tests for changes in times in a k x k tab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4198-F6C1-466A-B128-22BF4991FAD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3E0F-91E8-48FC-81D3-A0E8E0652B3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FBF5-CA02-4D53-AE28-E7A21D02A00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084E-C49D-4B7B-9A4C-47C08D67FB3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7D91-FAD8-446D-91B0-7A61E440FF7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3E90-2052-495E-A7B9-D1E1610CE21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5C25-181C-42B5-AA57-506F6C2D4EE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74FA-3A03-4DFB-BF77-040F26113AC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4D91-07FC-4B25-9A3A-A50D989CE16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BC48-B3DE-4360-9BDE-D3BBCBAC4CB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BCE7-C52F-4202-92FB-AC7D3ADF5FF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E2E5-724C-4E31-B201-C07FAD3A6FD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21-09-29T12:16:41Z</dcterms:modified>
  <cp:revision>123</cp:revision>
  <dc:subject/>
  <dc:title>Aims and Objectives</dc:title>
</cp:coreProperties>
</file>