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CEC9B4B0-1772-43E6-A585-224E545296D8}"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D53C14C3-178D-4C42-BF97-6B6780494E3E}"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92A17-E945-4A1B-8674-0318B4595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90455-F630-4C79-8880-C4FEFF664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4AB8F-9D68-4711-83A1-85770A3EE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55D8C-9730-4883-94AB-065924855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46059-2DC6-48AB-A99C-96BEEEC81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2782A-499C-400F-A8BC-C86A05B64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6BB01-F7EB-4956-B329-9DCA4190C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63492-E8A4-4C03-BEE0-EA387993A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19989-B9AE-48C6-81F8-469D32C3A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3EE9A-4CF0-41FA-B30C-B7479B878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7B392-D479-4697-A013-5550E691A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D154E-B9FA-4010-9E9A-1735696B36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B798A-0CE3-441C-A78F-B8E9BCBA59C8}"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203640" y="58896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FEEB2-7221-4B42-85CD-1515B92FF7A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76459-F18F-4E3C-87D7-1C4AB0A9D23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94B79-2B11-4973-9261-6AA5C4195E6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CA11A-DF83-48C2-BDF4-3A296A07E13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0FF10-94AA-4FF9-BB0D-9902A8AB109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89701-AC48-4AFD-9C3D-682E1DD6BB8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E72C1-2721-4D02-BAAB-BBFDD1F9D66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C16BA-D9CD-433C-92F9-1561D207DA6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EFF70-03D0-4BFB-9548-911A958BA3B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2625C-6DE5-41FD-9739-FDBC1F57A25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9C6A5-DD3F-447D-A4BB-E2D636E583C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5A9F1-7EFC-4BCA-97CA-7743C55BB96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91858-0E60-4ADC-90DA-F122B23498C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E63FF-AB62-46DB-AF54-40B17A23413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4FC17-92E7-4960-8472-2BDDD990C98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73251-82E6-4006-BCFA-FB230390AB1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DA581-694D-4989-A103-B42AD6BDA8D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1349-976B-42B2-9E63-A4B9684DC67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02935-2865-4301-A829-524B5C6E751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0D490-A954-4782-84DD-F4E591CBCA7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DC238-C3DC-43BE-A0E7-3C985C084D2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CF308-4EB0-4997-8073-CAB779BB545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33D1F-2CF5-43BB-9E4F-4BC63B74147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5C3FD-43A8-4490-BAAF-03432610864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62F53-960C-4894-8D26-8D8FE845FB7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48687-51DD-4C0E-A3CF-B6D499C720C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5245-5BD8-473C-8632-CF68126FDB9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EA1D5-FB4E-4808-869E-7914F67F809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6D772-9D7D-4534-87E1-5BC43C23D35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0AE58-6082-4FD4-B87A-D9636295012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E2EF0-8A45-4196-93A7-FC51ADE134B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7BA52-83DB-47FB-ABF1-AB848284713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7DF69-6BDD-4B20-B896-713BC906A4A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2145E-C62C-4EC9-95C4-DEA6C7E9E3E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82411-D719-433C-B4A3-48A0282B1E4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DF065-5CA0-4B4D-9D34-CFA93118854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EAB25-F756-43D9-AA84-1D5DEF58223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7AE7C-409D-46B3-8720-2F955FCBEE7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BE7EB-B27A-4976-85C1-84771120431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5DE6B-A92D-4F35-9B90-8351CF848F3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18949-AC44-4D21-B733-EDA1186BAF0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1-09-29T12:18:34Z</dcterms:modified>
  <cp:revision>76</cp:revision>
  <dc:subject/>
  <dc:title>Aims and Objectives</dc:title>
</cp:coreProperties>
</file>