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E4E6-F02C-4B00-9174-825344DC3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D5DB-0C9E-4B20-BD8A-D45C3536728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8BB9-FA0E-4E43-80DB-DCDFB307FE7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8291-B8FA-44B5-A3C1-4B529F47932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8FDD-DA23-4142-BE39-31793F9E913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0DE7-2C77-4744-8AB5-6792F26A0A3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7EC2-372E-41A1-935C-FAAB8BC29C8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13C3-FA99-4CB8-AA6C-1129B40D192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8291-9957-49DA-8462-DFA5C801B4F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0CE7-DD9A-4DAF-8540-AA288457845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F17F-A339-4E0E-80E3-CFA0FC2028B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F213-8C9A-4FF2-86EA-1B2C3909960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83F6-6975-43B2-8999-8797CB02A2E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365F-79B1-4BAB-BC6C-0ECD88967C1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127C-EECB-4E08-93BA-39B59660983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29DC-7169-43C6-AA3F-8345642DA2D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7B94-3439-4B2E-91DE-CD6C3185A83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CF8A-78DE-45D4-B136-0C61F5E6A67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B726-9E2A-4C47-9BEE-CE4A6B7EB1F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E768-AF51-402A-8742-888E81B531D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8BEE-820B-4E33-8F0F-53A41AB1DD1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ABF9-78A5-4262-A881-B6A5ADA4976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D916-D2E8-4EA1-BB51-C85F4505D9C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BCDD-EF63-49B2-88E2-23B876A2264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40C1-660E-4DBB-8296-D88F66197B0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5B04-D22E-4BB0-98B6-DD00D10EBE2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BD60-FA89-4A3B-B78C-FAABA071B0D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858E-0DD5-4F19-8C40-1724C61AE67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EA41-BB2D-434D-88EC-B1025C6E9DA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BBCF-49D6-4733-AC0C-5433C31FDB6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8E0C-A453-4598-951D-E0A05A8A4B1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7867-0B46-48B6-B84E-59679C31DA3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289B-AD30-494D-A26B-326225B5C3E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34C4-1D98-451E-A6CB-3B8710706DB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560C-1C96-48FC-9596-624FCBF334C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B3C2-9C67-4E73-9836-D904B73DF06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C893-6BA8-4ECC-B9CC-D9E3C4866F2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295A-978D-42E6-8378-E19709C2CC4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5032-4859-4801-B8B6-D29E208248C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B934-EE12-4D05-B7E0-ED3AFF1E3D5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183B-0515-49AE-B7CC-5EF73D15383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B095-C8BB-4516-8ACC-8FB2A86973A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866A-11E4-45C9-BBF1-45D4BEE7340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B4DC-5815-48C1-8EE5-F265A3EBC71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39F3-398B-4F51-A41C-68ED6895B94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5132-D7B2-4D68-AC4F-4F10C1EE6BF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1072-1FAE-4E8C-A602-379C5682D98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1B42-2B5E-4B58-BB46-9AA1DE00ECF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9052-EC68-47EA-A8EE-4CCDE9AEE62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4D3D-212A-4593-8E06-E92EB7028BD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DA20-9352-4E0F-98C5-341D0A11CF5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4ECD-86CE-48A7-B38D-31E2D2152BB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0F7C-F0F1-4845-B08D-A84B49A11D1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9D64-DDC6-4995-B92B-0F7194FDF30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84A5-97A3-4199-B80B-949023BF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77BF-D859-434F-B0F2-02E0BE71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D11F-2CE6-4069-A812-F150BE5E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1CBA-0849-4B87-8408-4ABFAF34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2E0B-1686-41FB-A97B-97998DFA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E826-D54B-4E0C-BAE2-F1D6F67E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8554-9E8A-4A8E-BED1-A8F0B385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79E0-48A1-45A7-B328-C6DA0AE0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AC90-D6B0-4710-B10F-47D97E5E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84BE-CB21-4BF8-A4AD-FAF37C40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2E96-CC5C-480C-AAF2-E826C0A9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6346-0644-421E-97D5-0D8334B1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04C5-CECF-4E56-96B1-098C3FD007D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 Field (2005, page 336)  using a “more conservative probability level” when using non-orthogonal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r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k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Number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21-09-29T12:20:19Z</dcterms:modified>
  <cp:revision>117</cp:revision>
  <dc:subject/>
  <dc:title>Aims and Objectives</dc:title>
</cp:coreProperties>
</file>