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8D4C-1E87-480B-A5C2-138D18007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9CC1-ACDB-4CB6-B826-64840632207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F653-6849-4AA2-A6B1-B13D0F19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D75C-E683-4D07-83B3-C09EFD87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138B-6987-4874-8A1D-50EB5E2F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AAA7-13EB-4D2A-9E94-B825C362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2713-FD1C-4E75-8E98-C4F45DCE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C2D3-B333-44C0-8990-C8713545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E496-4E1D-4F42-B3DF-30359876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220F-20D9-4B19-A519-DA886084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8B9A-3E61-46EF-BA67-5699D437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9AB1-AA24-4390-AFF7-F1293063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68D3-32BD-40E2-B382-963D4FBA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4793-DAED-43E5-9B4B-BEE4777D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EA67-6D04-459D-86A4-FBF1B3EC5B6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21-09-29T12:20:52Z</dcterms:modified>
  <cp:revision>92</cp:revision>
  <dc:subject/>
  <dc:title>No Slide Title</dc:title>
</cp:coreProperties>
</file>