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5.wmf" ContentType="image/x-wmf"/>
  <Override PartName="/ppt/media/image2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22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move the slid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15693-3D98-4B15-99D5-44A505774E6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25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32B05-44C1-4B5A-82C1-09931A3E1172}" type="slidenum">
              <a:rPr b="0" lang="en-GB" sz="12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25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0CDF9-ECE4-4E56-A051-0D806EA52484}" type="slidenum">
              <a:rPr b="0" lang="en-GB" sz="12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07F8A-2DB8-43B0-BD11-67FD8CAFA8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BE32C-09DC-4B4A-BB37-F4D7128CC9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9C0A1-87E8-457E-9587-C04B6A1AF4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303DD-0DB6-469D-83BB-6EB51DEB17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656A06-0BD9-4930-9458-E0557FD3E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DF67E9-7634-4A6C-A7F5-0E29E9D4D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1BD009-6085-44A8-AE87-F53D45BE3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560F62-0AAD-4892-9AA2-82A316294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B673F9-C744-4D93-80B2-50705F30E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125E43-159A-4C2B-84EA-4B788E10B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C477D0-A055-4A22-AF56-28F4D38F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E8DEB-B4AC-45DC-9311-69B25CF862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C79103-3B47-4247-8A0A-F622C172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02E41A-F172-41C7-BEF0-E1BB4C05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916323-0B97-4D5B-9EA9-74B6E9B45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557DD5-72AC-42CE-95CF-A3DFA7B95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9BDD14-96C6-481E-B90D-6EBE0857F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6FDC93-7818-43D2-A8DC-2405D4F12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CCD33C-F3C9-47F8-B1F8-7DD645684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7B3A2A-000F-4790-B5DF-B8D5793E7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199B54-EC00-42AF-BA33-713956CE7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35587E-1440-4A56-971F-9C540BB49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065C9-55A8-4FA7-BD9E-3586965F62A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3490FF-C02C-44D2-9454-26643F8F5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E40FD8-35A5-4988-A177-ADEF3AC7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080D4F-DD81-4E77-A6A1-7377E0E3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4D032D-B5F3-46C4-931B-E82FC2B82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1BCA0D-9C54-4CC6-AC02-74FF5B0A5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B50BB0-94A5-4804-ADB7-FBEDCFAA0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102F39-78C7-4BD6-BAAF-420190711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E8F0B8-8078-46D0-88EE-A0686503616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E5DD71-232F-4920-97D9-BAE86BE13EC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1BF7AE-D10D-40E2-B4E0-4D39568EEC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603EA-3DAA-431A-BE17-5711A9046B7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2C5EFF-7302-4D3B-81E7-13ED89D3611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3636E1-88E2-405D-9651-41F19259DD3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16A521-297B-47CA-9E06-59040BA4E30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E50397-C43B-45E4-A57D-E585F39658C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5A602E-3D52-4F1F-8335-65808340D92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0054A2-EC5F-4DFE-A20F-384F7DC4243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C2EEE7-EE6E-41C1-B94B-191DB69BA38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B2BEC9-0CEF-45CB-9D09-6D66C95AAB2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BA5285-FC7B-419E-80E5-DFE3DEB1B63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5D37A-C426-475C-B611-05D0D4E1B7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C2DB3-C624-4AE8-A03F-D79EBC202D4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7A671-0122-4036-8457-FE62206E596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2A37F-FA38-4693-BB25-68934E70B9D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512CC-CD63-4BD3-BBA8-232678DE4B5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1A9A9-091F-472F-B6CC-C41D7053674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DC000-6F22-4544-B33D-1203C09E502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412D3-961B-4C17-8E87-C0933B41871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9ADA9-C2B8-43FF-9C5D-86CF56797D3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CC793-F015-4A2C-B1EE-F284CC5F7A9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52773-B2C2-43A6-8454-80EC235E340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C5503-9EE9-49B7-895B-D767198242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0B613-DB33-44D6-98D7-2B12DF2604E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2B401-FC5F-45AC-B8FF-46FE4C2A0C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2D9E6-FE6C-45DA-A041-3DB23DB71E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0C00B-3332-4E78-BB39-4000313EFC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B6C1B-44AE-4400-8ED2-6C6D7042A0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B54AC77E-841F-43C0-9A10-ABCCB2BBD50F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71462691-1DB5-469A-9F17-D59ED0A8E58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</p:grp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3228840" y="95400"/>
            <a:ext cx="55818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F5AF0-0A5A-431D-9F48-1062ECD66F09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3DECC-8E84-4B2D-A7AC-0F93441CCB5A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2556000" y="450720"/>
            <a:ext cx="5581440" cy="66672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9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0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919C6C63-EEFD-4BFD-8E55-E5DE7FBAED08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3C534DAD-52C7-41E6-8920-3704A814791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81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2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3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4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5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6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7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8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9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0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1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2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3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4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5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</p:grpSp>
      <p:pic>
        <p:nvPicPr>
          <p:cNvPr id="196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3228840" y="95400"/>
            <a:ext cx="5581800" cy="6667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3" descr="cid:image004.png@01D7B519.9E61D320"/>
          <p:cNvPicPr/>
          <p:nvPr/>
        </p:nvPicPr>
        <p:blipFill>
          <a:blip r:embed="rId3"/>
          <a:stretch/>
        </p:blipFill>
        <p:spPr>
          <a:xfrm>
            <a:off x="3228840" y="200160"/>
            <a:ext cx="5581800" cy="6667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ftr" idx="1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sldNum" idx="1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393BB139-B812-43F3-884C-FCA677B25832}" type="datetime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07/29/26</a:t>
            </a:fld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E8D04A59-0EAE-488C-8301-917D4BC2EC50}" type="slidenum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5. Analysis of Variance </a:t>
            </a:r>
            <a:br>
              <a:rPr sz="2600"/>
            </a:b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(Balanced Multifactorial)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Between Subjects Desig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Single Subject Studi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anova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8" name="Object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182412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ity of task variance assumption: 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0" name="Text Box 6"/>
          <p:cNvSpPr/>
          <p:nvPr/>
        </p:nvSpPr>
        <p:spPr>
          <a:xfrm>
            <a:off x="109440" y="4565520"/>
            <a:ext cx="9039240" cy="18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If group variances differ but normal distributions in group use Welch’s df adjustm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https://statisticsbyjim.com/anova/welchs-anova-compared-to-classic-one-way-anova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See also Delacre, M., Lakens, D., &amp; Leys, C. (2017).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Why Psychologists Should by Default Use Welch’s t-test Instead of Student’s t-test.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70c0"/>
                </a:solidFill>
                <a:latin typeface="Verdana"/>
              </a:rPr>
              <a:t>International Review of Social Psychology</a:t>
            </a: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, 30(1), 92–101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1" name="Picture 8" descr=""/>
          <p:cNvPicPr/>
          <p:nvPr/>
        </p:nvPicPr>
        <p:blipFill>
          <a:blip r:embed="rId1"/>
          <a:stretch/>
        </p:blipFill>
        <p:spPr>
          <a:xfrm>
            <a:off x="507960" y="1995480"/>
            <a:ext cx="8604360" cy="2548080"/>
          </a:xfrm>
          <a:prstGeom prst="rect">
            <a:avLst/>
          </a:prstGeom>
          <a:ln w="0">
            <a:noFill/>
          </a:ln>
        </p:spPr>
      </p:pic>
      <p:sp>
        <p:nvSpPr>
          <p:cNvPr id="292" name="Oval 9"/>
          <p:cNvSpPr/>
          <p:nvPr/>
        </p:nvSpPr>
        <p:spPr>
          <a:xfrm>
            <a:off x="7521480" y="2457360"/>
            <a:ext cx="1440000" cy="2232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3" name="Line 10"/>
          <p:cNvSpPr/>
          <p:nvPr/>
        </p:nvSpPr>
        <p:spPr>
          <a:xfrm flipV="1">
            <a:off x="6800760" y="3217680"/>
            <a:ext cx="1441440" cy="1152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by Task interac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6" name="Object 3"/>
          <p:cNvGraphicFramePr/>
          <p:nvPr/>
        </p:nvGraphicFramePr>
        <p:xfrm>
          <a:off x="787320" y="1600200"/>
          <a:ext cx="756756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600200"/>
                    <a:ext cx="75675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Text Box 4"/>
          <p:cNvSpPr/>
          <p:nvPr/>
        </p:nvSpPr>
        <p:spPr>
          <a:xfrm>
            <a:off x="2133720" y="4800600"/>
            <a:ext cx="58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       objects         plants         countries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-group scores follow a Normal distribu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Oval 4"/>
          <p:cNvSpPr/>
          <p:nvPr/>
        </p:nvSpPr>
        <p:spPr>
          <a:xfrm>
            <a:off x="4495680" y="2819520"/>
            <a:ext cx="838440" cy="2133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2" name="Text Box 8"/>
          <p:cNvSpPr/>
          <p:nvPr/>
        </p:nvSpPr>
        <p:spPr>
          <a:xfrm>
            <a:off x="2666880" y="160020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n-significance indicates Normal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03" name="Picture 10" descr=""/>
          <p:cNvPicPr/>
          <p:nvPr/>
        </p:nvPicPr>
        <p:blipFill>
          <a:blip r:embed="rId1"/>
          <a:stretch/>
        </p:blipFill>
        <p:spPr>
          <a:xfrm>
            <a:off x="1855800" y="2335320"/>
            <a:ext cx="5430960" cy="3254400"/>
          </a:xfrm>
          <a:prstGeom prst="rect">
            <a:avLst/>
          </a:prstGeom>
          <a:ln w="0">
            <a:noFill/>
          </a:ln>
        </p:spPr>
      </p:pic>
      <p:sp>
        <p:nvSpPr>
          <p:cNvPr id="304" name="Line 11"/>
          <p:cNvSpPr/>
          <p:nvPr/>
        </p:nvSpPr>
        <p:spPr>
          <a:xfrm>
            <a:off x="4427640" y="2492280"/>
            <a:ext cx="2303280" cy="14414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Oval 12"/>
          <p:cNvSpPr/>
          <p:nvPr/>
        </p:nvSpPr>
        <p:spPr>
          <a:xfrm>
            <a:off x="6227640" y="2421000"/>
            <a:ext cx="1081080" cy="2879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idual check - equal precision of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08" name="Picture 4" descr=""/>
          <p:cNvPicPr/>
          <p:nvPr/>
        </p:nvPicPr>
        <p:blipFill>
          <a:blip r:embed="rId1"/>
          <a:stretch/>
        </p:blipFill>
        <p:spPr>
          <a:xfrm>
            <a:off x="1871640" y="1600200"/>
            <a:ext cx="5400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t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1" name="Text Box 7"/>
          <p:cNvSpPr/>
          <p:nvPr/>
        </p:nvSpPr>
        <p:spPr>
          <a:xfrm>
            <a:off x="5715000" y="55627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MS Error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Text Box 10"/>
          <p:cNvSpPr/>
          <p:nvPr/>
        </p:nvSpPr>
        <p:spPr>
          <a:xfrm>
            <a:off x="3733920" y="60199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error term used for assessing all ter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3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Rectangle 13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15" name="Picture 14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7345440" cy="3960720"/>
          </a:xfrm>
          <a:prstGeom prst="rect">
            <a:avLst/>
          </a:prstGeom>
          <a:ln w="0">
            <a:noFill/>
          </a:ln>
        </p:spPr>
      </p:pic>
      <p:sp>
        <p:nvSpPr>
          <p:cNvPr id="316" name="Oval 15"/>
          <p:cNvSpPr/>
          <p:nvPr/>
        </p:nvSpPr>
        <p:spPr>
          <a:xfrm>
            <a:off x="5867280" y="4005360"/>
            <a:ext cx="1009800" cy="7189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7" name="Line 16"/>
          <p:cNvSpPr/>
          <p:nvPr/>
        </p:nvSpPr>
        <p:spPr>
          <a:xfrm flipH="1">
            <a:off x="6732720" y="2276640"/>
            <a:ext cx="576000" cy="1584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8" name="Text Box 17"/>
          <p:cNvSpPr/>
          <p:nvPr/>
        </p:nvSpPr>
        <p:spPr>
          <a:xfrm>
            <a:off x="6443640" y="198900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Line 18"/>
          <p:cNvSpPr/>
          <p:nvPr/>
        </p:nvSpPr>
        <p:spPr>
          <a:xfrm flipH="1" flipV="1">
            <a:off x="5508360" y="4653000"/>
            <a:ext cx="647640" cy="936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fil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animals relatively easy compared to patient group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countries relatively difficult compared to patient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ossed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23" name="Object 4"/>
          <p:cNvGraphicFramePr/>
          <p:nvPr/>
        </p:nvGraphicFramePr>
        <p:xfrm>
          <a:off x="4038480" y="1600200"/>
          <a:ext cx="510552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600200"/>
                    <a:ext cx="51055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Text Box 5"/>
          <p:cNvSpPr/>
          <p:nvPr/>
        </p:nvSpPr>
        <p:spPr>
          <a:xfrm>
            <a:off x="4800600" y="502920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Objects    Plants  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elp explain an 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(1997) suggests using the Error term from the analysis using all subj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Using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Group 1  observations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903e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Simple effect of Task o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(Task) = 61.38, MS(error)=2.81 (all 4 tas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(3,48) = 61.38/2.81 = 21.84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lternatively : </a:t>
            </a: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Simple effect of group on animals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      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roups 1 &amp; 2 = Patients;</a:t>
            </a: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      Group 3 = Contro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31" name="Object 3"/>
          <p:cNvGraphicFramePr/>
          <p:nvPr/>
        </p:nvGraphicFramePr>
        <p:xfrm>
          <a:off x="685800" y="1752480"/>
          <a:ext cx="8229600" cy="448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8229600" cy="44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Text Box 4"/>
          <p:cNvSpPr/>
          <p:nvPr/>
        </p:nvSpPr>
        <p:spPr>
          <a:xfrm>
            <a:off x="2514600" y="4572000"/>
            <a:ext cx="57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                      Severe                 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terac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resent the difference i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eithe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tasks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grou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re on 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methods available in SPSS for simple effects analys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NOVA : using /CONTRAST subcommand (See post-hoc talk for rules on contra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LM : /LMATRIX subcommand is also avail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d also mentioned in forthcoming repeated measures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 large number of simple effects a Sidak correction should be considered for correcting the p-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ttp://imaging.mrc-cbu.cam.ac.uk/statswiki/FAQ/SpssBonferroni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domisation experi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ppose wish to compare 2 teaching methods (e.g. group/individual learning ) such that each child is taught to read on their own or in a group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groups of size 10 - “average ability” ; “below average ability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 remove allocation bi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ow a di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each group of 20 children allocate sets of four subjects to a method (A or B) based on number rolled: throw die five tim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ABB ABAB ABBA BBAA BABA BAAB (permutation bloc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oll a: (‘1’)    (‘2’)   (‘3’)  (‘4’)    (‘5’)   (‘6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uld also use a minimisation approach to balance e.g. MinimPy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ze of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 Sums of Squares as % Total Sum of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: 127/1389=9% (small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640/1389=46% 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x group: 487/1389=35%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are squared correlations (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; Their square root is the semi-partial (also called part)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R-squareds from different data sets: http://imaging.mrc-cbu.cam.ac.uk/statswiki/FAQ/rsqdif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: Task by Group: F(6,48)=28.89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in Effects: Task:  F(3,48)=15.12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F(2,48)=113.95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Ma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Simple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100822"/>
                </a:solidFill>
                <a:latin typeface="Verdana"/>
              </a:rPr>
              <a:t>interactio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49" name="Object 0"/>
          <p:cNvGraphicFramePr/>
          <p:nvPr/>
        </p:nvGraphicFramePr>
        <p:xfrm>
          <a:off x="611280" y="2133720"/>
          <a:ext cx="8001000" cy="396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0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133720"/>
                    <a:ext cx="800100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Oval 7"/>
          <p:cNvSpPr/>
          <p:nvPr/>
        </p:nvSpPr>
        <p:spPr>
          <a:xfrm>
            <a:off x="2590920" y="2666880"/>
            <a:ext cx="4876560" cy="2438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2" name="Oval 8"/>
          <p:cNvSpPr/>
          <p:nvPr/>
        </p:nvSpPr>
        <p:spPr>
          <a:xfrm>
            <a:off x="7543800" y="2895480"/>
            <a:ext cx="1066680" cy="19814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3" name="Oval 9"/>
          <p:cNvSpPr/>
          <p:nvPr/>
        </p:nvSpPr>
        <p:spPr>
          <a:xfrm>
            <a:off x="2987640" y="5157720"/>
            <a:ext cx="4724280" cy="6858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4" name="Oval 10"/>
          <p:cNvSpPr/>
          <p:nvPr/>
        </p:nvSpPr>
        <p:spPr>
          <a:xfrm>
            <a:off x="2771640" y="3860640"/>
            <a:ext cx="4496040" cy="762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5" name="Text Box 11"/>
          <p:cNvSpPr/>
          <p:nvPr/>
        </p:nvSpPr>
        <p:spPr>
          <a:xfrm>
            <a:off x="2514600" y="2133720"/>
            <a:ext cx="617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Objects     Plants      Countries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6" name="Text Box 12"/>
          <p:cNvSpPr/>
          <p:nvPr/>
        </p:nvSpPr>
        <p:spPr>
          <a:xfrm>
            <a:off x="1371600" y="3048120"/>
            <a:ext cx="16002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ve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s in a 2 Factor desig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1371600" y="1905120"/>
            <a:ext cx="205740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hich Group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4495680" y="1905120"/>
            <a:ext cx="205740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ype of Task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2" name="Line 6"/>
          <p:cNvSpPr/>
          <p:nvPr/>
        </p:nvSpPr>
        <p:spPr>
          <a:xfrm flipH="1">
            <a:off x="12952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3" name="Line 8"/>
          <p:cNvSpPr/>
          <p:nvPr/>
        </p:nvSpPr>
        <p:spPr>
          <a:xfrm>
            <a:off x="2895480" y="2895480"/>
            <a:ext cx="99072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4" name="Line 9"/>
          <p:cNvSpPr/>
          <p:nvPr/>
        </p:nvSpPr>
        <p:spPr>
          <a:xfrm flipH="1">
            <a:off x="3962160" y="2895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5" name="Line 11"/>
          <p:cNvSpPr/>
          <p:nvPr/>
        </p:nvSpPr>
        <p:spPr>
          <a:xfrm>
            <a:off x="6172200" y="2819520"/>
            <a:ext cx="1295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6" name="Rectangle 12"/>
          <p:cNvSpPr/>
          <p:nvPr/>
        </p:nvSpPr>
        <p:spPr>
          <a:xfrm>
            <a:off x="304920" y="4038480"/>
            <a:ext cx="1676160" cy="6858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7" name="Rectangle 13"/>
          <p:cNvSpPr/>
          <p:nvPr/>
        </p:nvSpPr>
        <p:spPr>
          <a:xfrm>
            <a:off x="2743200" y="3962520"/>
            <a:ext cx="251460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eraction betwee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8" name="Rectangle 14"/>
          <p:cNvSpPr/>
          <p:nvPr/>
        </p:nvSpPr>
        <p:spPr>
          <a:xfrm>
            <a:off x="6934320" y="3733920"/>
            <a:ext cx="167616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9" name="Rectangle 15"/>
          <p:cNvSpPr/>
          <p:nvPr/>
        </p:nvSpPr>
        <p:spPr>
          <a:xfrm>
            <a:off x="685800" y="4952880"/>
            <a:ext cx="3048120" cy="11430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contro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mil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0" name="Rectangle 16"/>
          <p:cNvSpPr/>
          <p:nvPr/>
        </p:nvSpPr>
        <p:spPr>
          <a:xfrm>
            <a:off x="4419720" y="5029200"/>
            <a:ext cx="335268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animal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countri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1" name="Line 17"/>
          <p:cNvSpPr/>
          <p:nvPr/>
        </p:nvSpPr>
        <p:spPr>
          <a:xfrm flipH="1">
            <a:off x="3352680" y="4648320"/>
            <a:ext cx="15264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2" name="Line 18"/>
          <p:cNvSpPr/>
          <p:nvPr/>
        </p:nvSpPr>
        <p:spPr>
          <a:xfrm>
            <a:off x="4952880" y="4572000"/>
            <a:ext cx="1219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and Group are statistically independen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75" name="Picture 4" descr="orthog"/>
          <p:cNvPicPr/>
          <p:nvPr/>
        </p:nvPicPr>
        <p:blipFill>
          <a:blip r:embed="rId1"/>
          <a:stretch/>
        </p:blipFill>
        <p:spPr>
          <a:xfrm>
            <a:off x="1422360" y="1600200"/>
            <a:ext cx="6299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st-hoc tests (main effec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ukey’s HSD for pairwise comparis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lick post hoc in general linear model:univariat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also use ‘mcneq’ program on UNIX system at CBSU or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TukeyKram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ndard Error in ANOVA based on averaging the variances of the five observations in each of the 12 group/task combin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be best to look at tasks separately in control group as they behave relatively differently than with the pat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vered in post-hoc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ake your design fit your ques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IQ groups, 3 naming tasks, 3 age groups  (A,B,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x 3 Latin 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ask 1     Task 2    Task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 (n=3)  B (n=3)  C (n=3)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B (n=3)  C (n=3)  A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 (n=3)  A (n=3)  B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1/3 of all possible factor combinations by using a single observation in each cel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1 Task 2 Task 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1      19.34  20.45  20.9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2      18.38  22.56  24.2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3      20.82  22.59  24.5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put - main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87" name="Picture 4" descr=""/>
          <p:cNvPicPr/>
          <p:nvPr/>
        </p:nvPicPr>
        <p:blipFill>
          <a:blip r:embed="rId1"/>
          <a:stretch/>
        </p:blipFill>
        <p:spPr>
          <a:xfrm>
            <a:off x="457200" y="1893960"/>
            <a:ext cx="8229600" cy="4137120"/>
          </a:xfrm>
          <a:prstGeom prst="rect">
            <a:avLst/>
          </a:prstGeom>
          <a:ln w="0">
            <a:noFill/>
          </a:ln>
        </p:spPr>
      </p:pic>
      <p:sp>
        <p:nvSpPr>
          <p:cNvPr id="388" name="Oval 5"/>
          <p:cNvSpPr/>
          <p:nvPr/>
        </p:nvSpPr>
        <p:spPr>
          <a:xfrm>
            <a:off x="7238880" y="3429000"/>
            <a:ext cx="1371600" cy="16765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9" name="Line 6"/>
          <p:cNvSpPr/>
          <p:nvPr/>
        </p:nvSpPr>
        <p:spPr>
          <a:xfrm flipV="1">
            <a:off x="7467480" y="4647960"/>
            <a:ext cx="381240" cy="16002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0" name="Text Box 7"/>
          <p:cNvSpPr/>
          <p:nvPr/>
        </p:nvSpPr>
        <p:spPr>
          <a:xfrm>
            <a:off x="5562720" y="594360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 significant main eff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ut…can’t fit interactio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93" name="Picture 4" descr=""/>
          <p:cNvPicPr/>
          <p:nvPr/>
        </p:nvPicPr>
        <p:blipFill>
          <a:blip r:embed="rId1"/>
          <a:stretch/>
        </p:blipFill>
        <p:spPr>
          <a:xfrm>
            <a:off x="1363680" y="1628640"/>
            <a:ext cx="7780320" cy="4724640"/>
          </a:xfrm>
          <a:prstGeom prst="rect">
            <a:avLst/>
          </a:prstGeom>
          <a:ln w="0">
            <a:noFill/>
          </a:ln>
        </p:spPr>
      </p:pic>
      <p:sp>
        <p:nvSpPr>
          <p:cNvPr id="394" name="Oval 5"/>
          <p:cNvSpPr/>
          <p:nvPr/>
        </p:nvSpPr>
        <p:spPr>
          <a:xfrm>
            <a:off x="2743200" y="2971800"/>
            <a:ext cx="2362320" cy="23623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5" name="Line 6"/>
          <p:cNvSpPr/>
          <p:nvPr/>
        </p:nvSpPr>
        <p:spPr>
          <a:xfrm flipH="1" flipV="1">
            <a:off x="3733920" y="4647960"/>
            <a:ext cx="1752480" cy="15238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5257800" y="59436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found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sults: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schoolchildren form each ability randomly allocated to one of the two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Mean Reading scores: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tho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Average   Below Average   Mea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ividual           1.7           4.5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               5.5           5.6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5.5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 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60         5.05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4.375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fewer peo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justs each factor for other two e.g. group differences not due to task or cent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s zero interac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s required are large for bigger designs e.g. 12 x 1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allocation usually has equal numbers of factor combinations (bal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task/group example we have just looked at is a balanced desig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ve people in each group perform each task (5 people x 4 tasks x 3 groups = 60 observa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lance meant task and group were statistically independent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servational studies/surveys have unequal numbers in cells (unbalanc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preadsheet:http://imaging.mrc-cbu.cam.ac.uk/statswiki/FAQ/s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ANOVA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Predicto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3 status of smokers: Current, Don’t, Have Done in the pa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 History of smoking: yes or n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 Blood Pressure influenced by smok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study will not have equal numbers of subjects having smoker/family history combination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genera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ual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Ex  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0.5, n=2    110.5, n=2    127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2.0, n=2    119.0, n=2    132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ies are equally represented for each smoker status. S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mean blood pressures for each smoking status do not need to b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djusted for family histor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12" name="Picture 4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413" name="Oval 6"/>
          <p:cNvSpPr/>
          <p:nvPr/>
        </p:nvSpPr>
        <p:spPr>
          <a:xfrm>
            <a:off x="2514600" y="3886200"/>
            <a:ext cx="22860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16" name="Picture 4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417" name="Oval 5"/>
          <p:cNvSpPr/>
          <p:nvPr/>
        </p:nvSpPr>
        <p:spPr>
          <a:xfrm>
            <a:off x="2438280" y="3886200"/>
            <a:ext cx="2210040" cy="6094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tatus and History are statistically independ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20" name="Picture 4" descr=""/>
          <p:cNvPicPr/>
          <p:nvPr/>
        </p:nvPicPr>
        <p:blipFill>
          <a:blip r:embed="rId1"/>
          <a:stretch/>
        </p:blipFill>
        <p:spPr>
          <a:xfrm>
            <a:off x="457200" y="1967040"/>
            <a:ext cx="8229600" cy="3990960"/>
          </a:xfrm>
          <a:prstGeom prst="rect">
            <a:avLst/>
          </a:prstGeom>
          <a:ln w="0">
            <a:noFill/>
          </a:ln>
        </p:spPr>
      </p:pic>
      <p:sp>
        <p:nvSpPr>
          <p:cNvPr id="421" name="Oval 5"/>
          <p:cNvSpPr/>
          <p:nvPr/>
        </p:nvSpPr>
        <p:spPr>
          <a:xfrm>
            <a:off x="2590920" y="3657600"/>
            <a:ext cx="2286000" cy="6858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2" name="Line 7"/>
          <p:cNvSpPr/>
          <p:nvPr/>
        </p:nvSpPr>
        <p:spPr>
          <a:xfrm flipH="1" flipV="1">
            <a:off x="3809880" y="4190760"/>
            <a:ext cx="1447920" cy="15238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3" name="Text Box 8"/>
          <p:cNvSpPr/>
          <p:nvPr/>
        </p:nvSpPr>
        <p:spPr>
          <a:xfrm>
            <a:off x="4952880" y="56386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haven’t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4" name="Oval 9"/>
          <p:cNvSpPr/>
          <p:nvPr/>
        </p:nvSpPr>
        <p:spPr>
          <a:xfrm>
            <a:off x="2362320" y="5029200"/>
            <a:ext cx="1523880" cy="3808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5" name="Line 10"/>
          <p:cNvSpPr/>
          <p:nvPr/>
        </p:nvSpPr>
        <p:spPr>
          <a:xfrm flipV="1">
            <a:off x="3200400" y="5257800"/>
            <a:ext cx="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6" name="Text Box 11"/>
          <p:cNvSpPr/>
          <p:nvPr/>
        </p:nvSpPr>
        <p:spPr>
          <a:xfrm>
            <a:off x="1828800" y="563868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(for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calculatio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oking Status alon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505.167/2314.667=2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tatus adjusted for Family Hist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75/2314.667 =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Family History adjusted for Stat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balanced study (Boniface,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99"/>
                </a:solidFill>
                <a:latin typeface="Verdana"/>
              </a:rPr>
              <a:t>Uneq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ght expect non-smokers to have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 l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mean blood pressure simp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cause they have a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hig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roportion of people without a fami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ry of smoking. Need to adjust for family hist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Unbalanced study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35" name="Picture 3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436" name="Oval 4"/>
          <p:cNvSpPr/>
          <p:nvPr/>
        </p:nvSpPr>
        <p:spPr>
          <a:xfrm>
            <a:off x="2133720" y="3886200"/>
            <a:ext cx="25146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estions of interes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Teaching styl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dividual mean - Group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Group performan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mean - Below Averag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es teaching style success depend on the ability of the child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average -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below aver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Unbalanced design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39" name="Picture 3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440" name="Oval 4"/>
          <p:cNvSpPr/>
          <p:nvPr/>
        </p:nvSpPr>
        <p:spPr>
          <a:xfrm>
            <a:off x="2362320" y="3886200"/>
            <a:ext cx="243828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and History are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not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statistically independent…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3" name="Text Box 6"/>
          <p:cNvSpPr/>
          <p:nvPr/>
        </p:nvSpPr>
        <p:spPr>
          <a:xfrm>
            <a:off x="3564000" y="5157720"/>
            <a:ext cx="365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TUS AND HISTORY SS HAVE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4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5" name="Oval 15"/>
          <p:cNvSpPr/>
          <p:nvPr/>
        </p:nvSpPr>
        <p:spPr>
          <a:xfrm>
            <a:off x="2556000" y="3284640"/>
            <a:ext cx="1439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46" name="Picture 17" descr=""/>
          <p:cNvPicPr/>
          <p:nvPr/>
        </p:nvPicPr>
        <p:blipFill>
          <a:blip r:embed="rId1"/>
          <a:stretch/>
        </p:blipFill>
        <p:spPr>
          <a:xfrm>
            <a:off x="2079720" y="1700280"/>
            <a:ext cx="4983120" cy="2884320"/>
          </a:xfrm>
          <a:prstGeom prst="rect">
            <a:avLst/>
          </a:prstGeom>
          <a:ln w="0">
            <a:noFill/>
          </a:ln>
        </p:spPr>
      </p:pic>
      <p:sp>
        <p:nvSpPr>
          <p:cNvPr id="447" name="Line 18"/>
          <p:cNvSpPr/>
          <p:nvPr/>
        </p:nvSpPr>
        <p:spPr>
          <a:xfrm flipH="1" flipV="1">
            <a:off x="3634920" y="3499920"/>
            <a:ext cx="792360" cy="15130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8" name="Oval 19"/>
          <p:cNvSpPr/>
          <p:nvPr/>
        </p:nvSpPr>
        <p:spPr>
          <a:xfrm>
            <a:off x="3132000" y="2924280"/>
            <a:ext cx="863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ole is more than the sum of the parts in Unbalanced desig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51" name="Picture 4" descr="synergy_factor.bmp"/>
          <p:cNvPicPr/>
          <p:nvPr/>
        </p:nvPicPr>
        <p:blipFill>
          <a:blip r:embed="rId1"/>
          <a:stretch/>
        </p:blipFill>
        <p:spPr>
          <a:xfrm>
            <a:off x="826920" y="2133720"/>
            <a:ext cx="698508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del for unbalanced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4" name="Rectangle 3"/>
          <p:cNvSpPr/>
          <p:nvPr/>
        </p:nvSpPr>
        <p:spPr>
          <a:xfrm>
            <a:off x="838080" y="3352680"/>
            <a:ext cx="121932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2819520" y="3048120"/>
            <a:ext cx="1066680" cy="17524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6" name="Rectangle 5"/>
          <p:cNvSpPr/>
          <p:nvPr/>
        </p:nvSpPr>
        <p:spPr>
          <a:xfrm>
            <a:off x="4343400" y="3124080"/>
            <a:ext cx="1143000" cy="12193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7" name="Rectangle 6"/>
          <p:cNvSpPr/>
          <p:nvPr/>
        </p:nvSpPr>
        <p:spPr>
          <a:xfrm>
            <a:off x="5867280" y="3276720"/>
            <a:ext cx="1828800" cy="16761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8" name="Text Box 7"/>
          <p:cNvSpPr/>
          <p:nvPr/>
        </p:nvSpPr>
        <p:spPr>
          <a:xfrm>
            <a:off x="990720" y="34290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21.3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9" name="Text Box 8"/>
          <p:cNvSpPr/>
          <p:nvPr/>
        </p:nvSpPr>
        <p:spPr>
          <a:xfrm>
            <a:off x="2971800" y="3352680"/>
            <a:ext cx="7621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2.1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6.3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8.5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0" name="Text Box 9"/>
          <p:cNvSpPr/>
          <p:nvPr/>
        </p:nvSpPr>
        <p:spPr>
          <a:xfrm>
            <a:off x="4419720" y="3429000"/>
            <a:ext cx="990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1" name="Text Box 10"/>
          <p:cNvSpPr/>
          <p:nvPr/>
        </p:nvSpPr>
        <p:spPr>
          <a:xfrm>
            <a:off x="6019920" y="3505320"/>
            <a:ext cx="15238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2.14  -2.1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.44  -1.4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3.57   3.5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Est. BP for smoker with no family history =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121.33+8.54-5.27+3.57=128.1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ected blood pressure for random individual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3" name="Text Box 12"/>
          <p:cNvSpPr/>
          <p:nvPr/>
        </p:nvSpPr>
        <p:spPr>
          <a:xfrm>
            <a:off x="2286000" y="33526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4" name="Text Box 13"/>
          <p:cNvSpPr/>
          <p:nvPr/>
        </p:nvSpPr>
        <p:spPr>
          <a:xfrm>
            <a:off x="3906360" y="35622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5" name="Text Box 14"/>
          <p:cNvSpPr/>
          <p:nvPr/>
        </p:nvSpPr>
        <p:spPr>
          <a:xfrm>
            <a:off x="5562720" y="388620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6" name="Rectangle 15"/>
          <p:cNvSpPr/>
          <p:nvPr/>
        </p:nvSpPr>
        <p:spPr>
          <a:xfrm>
            <a:off x="539280" y="407664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verall Me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7" name="Rectangle 16"/>
          <p:cNvSpPr/>
          <p:nvPr/>
        </p:nvSpPr>
        <p:spPr>
          <a:xfrm>
            <a:off x="2209680" y="487692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8" name="Text Box 17"/>
          <p:cNvSpPr/>
          <p:nvPr/>
        </p:nvSpPr>
        <p:spPr>
          <a:xfrm>
            <a:off x="3851280" y="4437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9" name="Text Box 18"/>
          <p:cNvSpPr/>
          <p:nvPr/>
        </p:nvSpPr>
        <p:spPr>
          <a:xfrm>
            <a:off x="4800600" y="52578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 by 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0" name="Text Box 19"/>
          <p:cNvSpPr/>
          <p:nvPr/>
        </p:nvSpPr>
        <p:spPr>
          <a:xfrm>
            <a:off x="609480" y="2133720"/>
            <a:ext cx="586764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s (as % of Total S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tus alone: 1323.33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1025.71/11086.76=9.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tus (Adjusted for Family History) : 1334.37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Family History (Adjusted for Status): 1036.81/11086.76=9.4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Unbalanced designs need to take into account other predictors when explaining the effect of a particular variable on a respo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nweighted means (Type III SS in SPSS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owell (2002) can approximate SS in ANOVA using unweighte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n                 Ex             Current          weighted  unweight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126.57,n=7   121.67,n=6   131.57,n=7      126.85       126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121.65       121.33 Midpoi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111.75,n=8   108.25,n=4   128.17,n=6      116.44       116.06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(History adjusted for Status and Status by History) : 2 x nH x (126.60-121.33)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1007.35 where nH = 3 x (6/(1/7+1/8+1/6+1/4+1/7+1/6) = 18.1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eighted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S(History) = 20 x (126.85 – 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18 x (116.44-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1026.64 approx = 2 x 18.95 (126.85-121.65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        weighted=arith mean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      126.85     (n=20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121.65    (mean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      116.44    (n=18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weighted means to work out SS(History adjusted for Status)   (convolut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ow do we treat main effects in a model containing interactions involving these main effects?</a:t>
            </a:r>
            <a:br>
              <a:rPr sz="1800"/>
            </a:b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lder (1994) , Langsrud (2003) and others suggest looking at main effect Sums of Squares (SS) after removing interaction terms involving that main effect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vided  those interactions are not significa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e.g. omitting the AxB interaction if it is not significant to look at A or B so using SS(A given B in model) and SS(B given A model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eighted combinations of means can work out SS(A) and SS(A given B)  (and SS(B), SS(B given A));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 unweighted (equal n) combinations of means work out SS(A | B, AxB) and SS(B | A, AxB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are usually evaluated using changes in model fit for addition or deletion of factors of interest by comparing different regression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using weighted combinations of means also called Type II SS; SS using unweighted (equally weighted by sample size) combinations of means are called Type III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/Unbalanced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have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 synerg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cell sizes using Harmonic mean (Type III SS in SPSS) although Nelder (1994) advocates a type II weighted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nergy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sitive or negativ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51814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 apparent contradiction!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89" name="Picture 11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4983120" cy="250524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12" descr=""/>
          <p:cNvPicPr/>
          <p:nvPr/>
        </p:nvPicPr>
        <p:blipFill>
          <a:blip r:embed="rId2"/>
          <a:stretch/>
        </p:blipFill>
        <p:spPr>
          <a:xfrm>
            <a:off x="2700360" y="4437000"/>
            <a:ext cx="5330880" cy="1965240"/>
          </a:xfrm>
          <a:prstGeom prst="rect">
            <a:avLst/>
          </a:prstGeom>
          <a:ln w="0">
            <a:noFill/>
          </a:ln>
        </p:spPr>
      </p:pic>
      <p:sp>
        <p:nvSpPr>
          <p:cNvPr id="491" name="Text Box 13"/>
          <p:cNvSpPr/>
          <p:nvPr/>
        </p:nvSpPr>
        <p:spPr>
          <a:xfrm>
            <a:off x="5796720" y="1989000"/>
            <a:ext cx="260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We have NO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2" name="Oval 14"/>
          <p:cNvSpPr/>
          <p:nvPr/>
        </p:nvSpPr>
        <p:spPr>
          <a:xfrm>
            <a:off x="4859280" y="3357720"/>
            <a:ext cx="576360" cy="43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3" name="Oval 15"/>
          <p:cNvSpPr/>
          <p:nvPr/>
        </p:nvSpPr>
        <p:spPr>
          <a:xfrm>
            <a:off x="4643280" y="3429000"/>
            <a:ext cx="1008360" cy="2872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4" name="Line 16"/>
          <p:cNvSpPr/>
          <p:nvPr/>
        </p:nvSpPr>
        <p:spPr>
          <a:xfrm flipH="1">
            <a:off x="5435280" y="2276640"/>
            <a:ext cx="1081080" cy="1296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5" name="Oval 17"/>
          <p:cNvSpPr/>
          <p:nvPr/>
        </p:nvSpPr>
        <p:spPr>
          <a:xfrm>
            <a:off x="6948360" y="4941720"/>
            <a:ext cx="1079640" cy="1224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6" name="Line 18"/>
          <p:cNvSpPr/>
          <p:nvPr/>
        </p:nvSpPr>
        <p:spPr>
          <a:xfrm>
            <a:off x="7164360" y="3716280"/>
            <a:ext cx="287280" cy="1368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6659640" y="2708280"/>
            <a:ext cx="20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But different results in the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ne tailed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 t(18) for apriori directional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ypotheses called one-tailed tes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.g. Is individual teaching more beneficial than group learn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groups case only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t test is a directional test because it takes both positive and negative valu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*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 F(1, df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61" name="Object 5"/>
          <p:cNvGraphicFramePr/>
          <p:nvPr/>
        </p:nvGraphicFramePr>
        <p:xfrm>
          <a:off x="4648320" y="1781280"/>
          <a:ext cx="4038480" cy="43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81280"/>
                    <a:ext cx="4038480" cy="43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Rectangle 6"/>
          <p:cNvSpPr/>
          <p:nvPr/>
        </p:nvSpPr>
        <p:spPr>
          <a:xfrm>
            <a:off x="6629760" y="320040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imes New Roman"/>
              </a:rPr>
              <a:t>P(&gt;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5486400" y="419112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66"/>
                </a:solidFill>
                <a:latin typeface="Times New Roman"/>
              </a:rPr>
              <a:t>P(&lt;-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5" name="Line 8"/>
          <p:cNvSpPr/>
          <p:nvPr/>
        </p:nvSpPr>
        <p:spPr>
          <a:xfrm>
            <a:off x="8229600" y="3657600"/>
            <a:ext cx="0" cy="2133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6" name="Line 9"/>
          <p:cNvSpPr/>
          <p:nvPr/>
        </p:nvSpPr>
        <p:spPr>
          <a:xfrm>
            <a:off x="6248520" y="4572000"/>
            <a:ext cx="0" cy="121932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Text Box 10"/>
          <p:cNvSpPr/>
          <p:nvPr/>
        </p:nvSpPr>
        <p:spPr>
          <a:xfrm>
            <a:off x="5105520" y="6095880"/>
            <a:ext cx="37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3     -2      -1      0      1      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8" name="Text Box 11"/>
          <p:cNvSpPr/>
          <p:nvPr/>
        </p:nvSpPr>
        <p:spPr>
          <a:xfrm>
            <a:off x="5410080" y="640080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fference in metho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ion is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re is no interaction because all of the differences between English and Japanese are not significantly different from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ven thoug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English syllable scores differ and the Japanese do n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501" name="Object 7"/>
          <p:cNvGraphicFramePr/>
          <p:nvPr/>
        </p:nvGraphicFramePr>
        <p:xfrm>
          <a:off x="4986360" y="2781360"/>
          <a:ext cx="3362400" cy="23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6360" y="2781360"/>
                    <a:ext cx="33624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 to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ference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niface DR (1995) Experiment Design and Statistical methods for behavioural and social research Chapman and Hall:London in CBSU library)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DC (1992, 1997,2002) Statistical Methods for psychologists (Five editions) Wadsworth:London in CBSU libra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. 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peated Measures and Mixed Model ANOV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udy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tween subjects (this talk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one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dom allocation of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r study consists of a single person with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ithin subjects (Repeated measu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&gt; 1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mparing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cc3399"/>
                </a:solidFill>
                <a:latin typeface="Verdana"/>
              </a:rPr>
              <a:t>With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&amp;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betwee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VAR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4" name="Picture 4" descr="ssquares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  <p:sp>
        <p:nvSpPr>
          <p:cNvPr id="275" name="Oval 6"/>
          <p:cNvSpPr/>
          <p:nvPr/>
        </p:nvSpPr>
        <p:spPr>
          <a:xfrm>
            <a:off x="2666880" y="1752480"/>
            <a:ext cx="533520" cy="342900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6" name="Oval 7"/>
          <p:cNvSpPr/>
          <p:nvPr/>
        </p:nvSpPr>
        <p:spPr>
          <a:xfrm>
            <a:off x="6400800" y="1828800"/>
            <a:ext cx="380880" cy="403848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Oval 9"/>
          <p:cNvSpPr/>
          <p:nvPr/>
        </p:nvSpPr>
        <p:spPr>
          <a:xfrm>
            <a:off x="2971800" y="4114800"/>
            <a:ext cx="3581280" cy="304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Text Box 10"/>
          <p:cNvSpPr/>
          <p:nvPr/>
        </p:nvSpPr>
        <p:spPr>
          <a:xfrm>
            <a:off x="3505320" y="1676520"/>
            <a:ext cx="27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0822"/>
                </a:solidFill>
                <a:latin typeface="Verdana"/>
              </a:rPr>
              <a:t>Is the variation between scores only attributable to random variation between the people those scores were measured on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ther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groups: 2 are patient groups (severe and mild); one is a control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person in a group is randomly given one of 4 word naming tasks: five people in each group do each tas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any X. can you name beginning with 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X is animals (Task 1) or household objects (Task 2) or plants (Task 3) or countries (Task 4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main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sk 2 has lower mean than task 4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rror bar length = 95% CI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plot using bar plots in SPSS or using EXC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ee CBSU website for detail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 PLOTS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85" name="Object 6"/>
          <p:cNvGraphicFramePr/>
          <p:nvPr/>
        </p:nvGraphicFramePr>
        <p:xfrm>
          <a:off x="4356000" y="1844640"/>
          <a:ext cx="449604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1844640"/>
                    <a:ext cx="449604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Text Box 7"/>
          <p:cNvSpPr/>
          <p:nvPr/>
        </p:nvSpPr>
        <p:spPr>
          <a:xfrm>
            <a:off x="4419720" y="472428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objects   plants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3:13:22Z</dcterms:created>
  <dc:creator>peter</dc:creator>
  <dc:description/>
  <dc:language>en-US</dc:language>
  <cp:lastModifiedBy>Peter Watson</cp:lastModifiedBy>
  <dcterms:modified xsi:type="dcterms:W3CDTF">2021-10-26T08:08:44Z</dcterms:modified>
  <cp:revision>373</cp:revision>
  <dc:subject/>
  <dc:title>No Slide Title</dc:title>
</cp:coreProperties>
</file>