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DB98-6D40-473E-BF9C-BE29E0EAE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0B8C-98DE-43EB-AB49-EB75A76F3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2AE9-21D2-4750-9F79-5CD4AD60F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4308-20E5-4B19-BB8B-0356E109B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15BC-9A85-4FF9-8551-B3B938626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FF22-4A05-47B9-9D0B-2E4C3F606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229B-2937-4924-98CC-3C062E3B4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03A0-755A-4A6C-B5C6-B31AF948A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0E17-EB0F-4033-8305-F6F0BB28B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2C81-7EDD-4B53-B650-FCFB57D95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2CF0-4315-4D05-8549-C590C2344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A63A-9F37-4EED-B90B-888AF72DC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86209-5D8E-4C32-B50C-229FC4FE9E19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g_name~ 50.tif"/>
          <p:cNvPicPr/>
          <p:nvPr/>
        </p:nvPicPr>
        <p:blipFill>
          <a:blip r:embed="rId1"/>
          <a:stretch/>
        </p:blipFill>
        <p:spPr>
          <a:xfrm>
            <a:off x="585720" y="507960"/>
            <a:ext cx="7959960" cy="63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4:15:07Z</dcterms:created>
  <dc:creator>Peter Watson</dc:creator>
  <dc:description/>
  <dc:language>en-US</dc:language>
  <cp:lastModifiedBy>Peter Watson</cp:lastModifiedBy>
  <dcterms:modified xsi:type="dcterms:W3CDTF">2010-10-04T14:15:07Z</dcterms:modified>
  <cp:revision>1</cp:revision>
  <dc:subject/>
  <dc:title>Slide 1</dc:title>
</cp:coreProperties>
</file>