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00691-62FA-4DCD-96A1-1BAEE48E3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FD5F-63A8-4FD5-879F-04F65A4AB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D1BE5-DFA2-48AD-9E2C-17A77D93A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6222C-49C4-40C2-B30A-FB6C03BAF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507EF-4CDA-47FA-87C0-13F2FB2E3D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E1573-4EB0-42F2-A72C-7A5E537AC7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03D58-A3B6-4D79-B99F-C91C706412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320A0-106D-4F0A-87EF-DEF1BD7E91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4C553-A1E5-4AEB-988B-1DB7218885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297D6-62AB-49C1-A067-5AB16C0702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4C629-38F1-467B-8669-11E7A40CB9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4461-96E0-45EE-8CC6-B035F17AC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2BF35-9B2A-4A86-A06F-AE232397F8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78B32-4821-44B8-AC1F-350239B924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24A28-26DA-4F82-8820-C141782BB1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47543-7AAD-4417-80FB-4D94169440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CB4AF-0AC8-47C3-A481-FDB65EDE07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69CDB-7A51-4718-BB9F-464DF9F00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BDCC9-D4C2-4FA2-B56D-4402E9D91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02A3F-AA6E-4AE5-8724-EC6887535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BBF75-E428-4C5D-91F6-492736098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FBB1-FCF8-49DA-8243-7911839FF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0914C-3E11-4FBA-BB86-C6DB82FEE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FB7BF-8226-4A37-A3A8-E4C575965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C06B6E2-F2F7-4F94-A647-57007A08020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06470BC-4DFB-454E-9A09-FB68C50ECB7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1592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0062DF2-5124-4DAF-8FB1-DB02F9F1BD3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7A1C0BE-77A0-48AB-8416-F2534C0675A0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3C87-C7F2-421A-B830-A5FF792F27F0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21-09-29T12:08:42Z</dcterms:modified>
  <cp:revision>341</cp:revision>
  <dc:subject/>
  <dc:title>No Slide Title</dc:title>
</cp:coreProperties>
</file>