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61961-B2D7-4303-9529-AB89CFC41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F3A99-6F76-44B2-ABA3-14766F721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5EEA1-77F2-4A75-8066-7E2000CE7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4A32F-7DA6-457F-9113-AD5AAD5BC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90EC8-9338-449E-A4E0-22F69B1C83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70059-D6A2-46DD-89D1-653E22EF78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95CD1-F161-4628-823C-4EA986E882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DFA39-7BE9-49C8-ABF5-A06371D83A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B2E2C-B5BA-4950-AB28-4F978900C7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D49F1-997D-403D-966C-EAD80F4310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08802-AA6E-43C2-B7A5-BC3D138C9B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27B9F-6FE3-4D9E-8918-C2209BBFC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720B0-AF6D-45E3-A021-0C1995D785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57A82-9098-4D2D-96FC-8B403EA176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04918-AC88-49C4-9C0B-333BC752DD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BD40F-80C2-426B-94EF-0C1E8D9C93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642C2-9789-4B53-8E13-335EE6B6D9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3ABFC-FDC3-4103-B21E-6FD827CAA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DC9C5-363B-4309-9FFE-E37514445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A02A0-6163-4581-A529-629570F4B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82684-2E16-498F-AE34-B6DB8E7B2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D809A-DEA8-40B8-A50D-448771847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2625A-865A-46B7-B916-BC13B002B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B3869-6B9E-47A6-8FEE-5666155A0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3003C98-D876-440A-97EA-F6C08641E23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1EB6341-5134-474F-A03E-EF121B2F0B47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1592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99D89F5-C09B-4ED5-A284-96A39206A18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8703CF5-8C00-43EA-814D-001875B79416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threshold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BE26-DF7F-4613-8407-179C0E898C34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You can use small 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ou can do factor analysis with small sample sizes (20, 30) provided the factor loadings are high (0.7, 0.8). Hair et al. (1998) give threshold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threshol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di and Williams, 2010 suggest robustness tests for small N e.g. jackknife or bootstrap C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21-09-29T12:08:42Z</dcterms:modified>
  <cp:revision>341</cp:revision>
  <dc:subject/>
  <dc:title>No Slide Title</dc:title>
</cp:coreProperties>
</file>