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309F-92D4-4423-B6B3-DD044D5AB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5F80-75FB-4124-9D79-6C96F7A9499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4A74-A340-4904-9AE2-24A6FF66690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095E-3CB5-41E7-9574-2194180064A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D408-BF51-4DAF-B77D-4BF4827F58D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867F-6043-49C1-8507-81C383D5DAF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8A0E-9E67-4BCC-A0C9-6395FE7B8FD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C483-8EDC-42F9-9FBB-36544ADCF5E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6FE8-C920-4C68-BBE6-0C87D756506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B5ED-9E71-473E-9DA4-804078ECEB1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E2A5-4D53-4CDE-A19D-E421F014C7E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323A-4136-4FD1-BB99-FA5772557EA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A147-FCB2-4229-AFC8-71ABA11B48C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DCFA-74D3-4B57-B700-F6F281249CE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1C33-9FE2-4F10-91C4-3B3E5EE4C69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DD49-5018-49BF-89DE-3EA4762701A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98C9-9C81-4A7E-A394-0F7C2561653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B2C9-B17D-4634-8101-3DAAEF4551B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9401-14E7-403E-8D58-CAB9B923204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769E-B248-4A5F-B5BE-AD2F4602C1E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AB09-DB94-4C2B-9BE8-36F1D72846F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6043-0E92-45C6-A28F-FBC88A56201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082F-9924-4F83-B6C8-84AF7D104E5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4F83-9530-4B94-A1E2-0CDA7CD64CE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C052-8814-4CB2-8DC6-5D053BB0394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19E6-289D-481A-A98A-DC7CF77514C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22EE-2848-4418-BB59-08A86D9B13F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C47E-925A-428E-B105-AF6B446DDFD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80FF-3316-4EC0-B982-8790A5A2B64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08B2-0719-4701-BAD5-A3E23B01A75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454F-E1D2-4548-92BB-582AA64A5EC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0D0E-CE2F-46CD-B4B8-D7C3881A13E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C808-740F-48AB-9D6D-6B0373A64BD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44FC-7B24-4617-AADC-CD35215151E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B6F7-CA17-4BB0-BC19-6D959F19236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834E-756A-4253-ABF3-7FF198A1303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4F97-B9DC-466E-BD1E-505D83E1365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2323-F66E-48C6-98B1-AD2A08FD4D5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2BE2-D0FF-4ACE-B9F9-6D56930A53F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7E78-A203-4AA1-9CDE-1E499204DD3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5408-42BF-47E2-8704-75220DE75FB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DE66-3B62-4515-84E2-ABF03F36925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FB5D-EF5C-4583-AC4A-5627E84DFCB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FC3E-52A4-4B57-A0CE-8603A95D193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53B4-B6F4-4503-BDDB-3ED8BE34B36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0055-186C-4ADB-8676-361E6F6C896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FFE3-A8BD-4D73-850B-EB4780F8C1C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A745-F70F-4924-A2BD-25B746BF64F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8609-E591-43DC-839A-A4D333D780E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FC2F-D7B0-420A-A95E-4F4EFAA0AF6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71CE-2F69-4E12-99FD-B246CE3F9D0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437C-E934-4D0A-B7E3-7C5AA3823F8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CC4D-4DE6-478D-BF71-E2A90A6A6F5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48CB-FE49-4DF5-B8B0-BE667936B74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71CC-E2A9-47A0-A577-2F09D1BA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B22F-7083-4616-81AE-BB729A6E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EB59-8A8A-4F95-B587-B782453A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0C9E-CFD4-4496-A44A-7C7F6F10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3DAE-A0EA-4951-8A72-3B60F35C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7D62-8AC5-4B67-8680-E09E04EA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B8AB-6AEB-43F7-979B-C2BCFFD3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CBB7-3777-45A3-B9AF-735974AE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109C-508A-4117-849F-02C4F1D6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07BF-D1C8-4165-8B84-7BCEE36D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83CB-19CC-4F8E-B0F7-2D94C2C7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F521-B2E1-4521-8A80-5943C19B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B7F6-BC40-4325-8806-69B2CE586E1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 Field (2005, page 336)  using a “more conservative probability level” when using non-orthogonal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r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k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estfall &amp; Young Minimum p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pproach to multiple testing used in genetics more powerful than Bonferroni approaches when lots of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s obtained p-value with minimum of p-values obtained in data sets obtained by randomly allocating people in original data set into groups (bootstrapping); Repe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djusted p-value equals proportion of minimum p-values &lt; observed p (Available in R &amp; SAS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7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23-11-06T09:58:58Z</dcterms:modified>
  <cp:revision>119</cp:revision>
  <dc:subject/>
  <dc:title>Aims and Objectives</dc:title>
</cp:coreProperties>
</file>