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6A5C3-F536-4334-9123-7C72583B75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481D3-9EB6-48EA-8775-3337962942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A851C-D41B-4D95-A5C6-408D91F5EF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041B8-92F9-4C12-A0E9-7FF432EA47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E4022-EA58-451C-A92B-4980F46106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D0ED9-DDF9-4FF4-808C-C491BED4CD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F73FB-4A88-4CF1-B965-CCC69F5991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E81B4-EEE7-44C4-B19C-4DEFFC74E1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5FFF4-C20C-4A07-B6E7-04F1E2298B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E727B-B227-4434-9529-6115BFE718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19ECE-A451-48F8-ACFE-0D9081B5C5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E9C8B-9D7D-43E7-B1CD-D24E94FB53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E0112-C216-4BA5-9713-64F83A4B64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F4F93-585E-4D91-B805-94B04C47B6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66D07-AB86-4165-8E1A-1DFB5AE575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EC52A-E9C7-43FD-8DEF-1162E4ABD3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15D41-DC18-4668-9368-5315EB5B5A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948B9-2260-4711-A7F1-58E540B8A2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6F257-8FD0-4E23-A421-88B4D660F5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FD15F-2DDE-4904-AA92-463793DF8F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9E79A-C28A-4FCE-867E-780D36C292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D3219-D67C-4026-AE36-F4EDE6F787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DCF12-A867-4B66-9B94-CC789A4EEF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B072B-5223-418B-83E8-601CD01185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D550669-157C-490B-BA1F-C44366374AD0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2FE1041-29DE-45EF-88E8-7DDB74546F5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059280" y="77760"/>
            <a:ext cx="558144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556000" y="69228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93EE92F3-6544-447D-A925-E5C62D235A92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F9F77743-870F-412D-A270-69B3E3F66707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kker et al. (2019) Avoid using ‘canned’ effect sizes if possible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 (also has in-built routines added V27+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21-09-29T12:10:00Z</dcterms:modified>
  <cp:revision>262</cp:revision>
  <dc:subject/>
  <dc:title>8: SAMPLE SIZE DETERMINATION</dc:title>
</cp:coreProperties>
</file>