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39DCB-6CAD-42CE-888B-843F8EAEF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3563A-46F7-4435-B5A0-01450CACBC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0ED4D-B6EF-4195-BE84-C455D2125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34799-7B7C-448E-A676-5B685BDA31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36C6A-ADF8-4C7F-83AC-FCEEA058CB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B3E09-4F5F-4833-AD4A-D0A9E3EC88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642CB-C7F9-400C-B723-4AC492E297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31230-16B4-436D-8C49-49148FE98F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CEFDE-E947-4D0B-AAE6-F110A70056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ABB77-1D0C-485A-B3B5-292EE83341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D966A-4703-44E3-853A-46DE4CDFC5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CFFAE-0BA6-4E7A-B5D3-3AF2486F88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41AEB-0BAF-4003-9299-10A6EC472A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92C11-544A-4A6E-A57A-EAC4812E08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218A9-233E-40E5-AA32-72D75D53EE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46085-D96A-4C1F-8232-216356C90A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13502-5485-46D1-82CD-253A4F0F8A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C2474-4079-4495-8055-6B0919866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EE0DB-EEDF-4073-876D-750C6DB03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AF7C0-421F-4BE7-A306-FE048272A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F5092-FBF8-4694-B697-D9E487116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C1A99-DB0F-413D-AEBA-C79171FDFC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76081-81D4-4B23-BED6-AB8917107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0E3BD-19D6-4046-B20F-48BAAA907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5545246-B79F-4479-9D79-A705DE36818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1311483-378E-47F3-9C68-61C8749190E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8448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700360" y="60660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3DE6FC2-47CB-41D6-9CEA-C97ECD0E5BBB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F761FA0-9FD8-4FE9-92FA-1D1A7A6014D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ckward less biased by strong correlations between predictors than forwar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utmacher and Kowalski, 2015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21-09-29T12:11:19Z</dcterms:modified>
  <cp:revision>319</cp:revision>
  <dc:subject/>
  <dc:title>REGRESSION ANALYSIS</dc:title>
</cp:coreProperties>
</file>