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88F2A-13F3-42BB-8ACC-2CAF1AA8C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7A345-647C-41F2-8966-347E76B30B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D1B01-AD1F-4439-8417-4A45BCE20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B84F8-BD97-4FCF-AAA2-54C970F485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31D04-7685-41FE-BF41-EC96B11558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FFB82-52FA-405A-B8F7-ED88026B86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1ABC3-76E5-4776-8A55-DCAD483146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471AC-F601-42E5-9881-982CFCA508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5051B-5C03-4EDE-BC2A-39EFC674A6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B7D10-934C-489B-B2CF-A52C1C4655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D2688-8F32-41FA-8CEC-E3902DB9AE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95EE4-2300-4DF6-AE4D-6F13C9414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48390-8690-429E-952F-78B3064755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691E8-63D0-4852-AEE8-4FD177EB7A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B1278-992D-44FF-9B3A-A65F0182BF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DE46A-1D05-4912-8841-E6E54408FF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00730-BE06-4AC6-B4C7-6CC0BF4204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6B2C3-7DA7-4863-8466-D257F2BCA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E5C0A-7DD0-409B-A780-7F9418C1C6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826EA-C032-4E87-833B-2B2AC2DF0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A7D03-E697-4D0A-922E-46D201BE4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95D67-25DF-4611-8E40-96463CF93F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B3AD4-88F3-41CE-B47A-9DAA743BF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27B71-4893-44BE-B2D5-B4AD3CFD4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8E1E546-CA66-40BC-9B47-8929B83FABF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A3A2DE2-8843-4322-92A1-5615F40523E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8448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700360" y="60660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DF969D7-FC4E-4AF7-A8D1-84C29E0B65DA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55856B3-EC7A-4770-A681-820A92955EF8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ckward less biased by strong correlations between predictors than forwar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utmacher and Kowalski, 2015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21-09-29T12:11:19Z</dcterms:modified>
  <cp:revision>319</cp:revision>
  <dc:subject/>
  <dc:title>REGRESSION ANALYSIS</dc:title>
</cp:coreProperties>
</file>