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3.wmf" ContentType="image/x-wmf"/>
  <Override PartName="/ppt/media/image26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5.wmf" ContentType="image/x-wmf"/>
  <Override PartName="/ppt/media/image2.wmf" ContentType="image/x-wmf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  <p:sldId id="293" r:id="rId45"/>
    <p:sldId id="294" r:id="rId46"/>
    <p:sldId id="295" r:id="rId47"/>
    <p:sldId id="296" r:id="rId48"/>
    <p:sldId id="297" r:id="rId49"/>
    <p:sldId id="298" r:id="rId50"/>
    <p:sldId id="299" r:id="rId51"/>
    <p:sldId id="300" r:id="rId52"/>
    <p:sldId id="301" r:id="rId53"/>
    <p:sldId id="302" r:id="rId54"/>
    <p:sldId id="303" r:id="rId55"/>
    <p:sldId id="304" r:id="rId56"/>
    <p:sldId id="305" r:id="rId57"/>
    <p:sldId id="306" r:id="rId58"/>
    <p:sldId id="307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slide" Target="slides/slide38.xml"/><Relationship Id="rId46" Type="http://schemas.openxmlformats.org/officeDocument/2006/relationships/slide" Target="slides/slide39.xml"/><Relationship Id="rId47" Type="http://schemas.openxmlformats.org/officeDocument/2006/relationships/slide" Target="slides/slide40.xml"/><Relationship Id="rId48" Type="http://schemas.openxmlformats.org/officeDocument/2006/relationships/slide" Target="slides/slide41.xml"/><Relationship Id="rId49" Type="http://schemas.openxmlformats.org/officeDocument/2006/relationships/slide" Target="slides/slide42.xml"/><Relationship Id="rId50" Type="http://schemas.openxmlformats.org/officeDocument/2006/relationships/slide" Target="slides/slide43.xml"/><Relationship Id="rId51" Type="http://schemas.openxmlformats.org/officeDocument/2006/relationships/slide" Target="slides/slide44.xml"/><Relationship Id="rId52" Type="http://schemas.openxmlformats.org/officeDocument/2006/relationships/slide" Target="slides/slide45.xml"/><Relationship Id="rId53" Type="http://schemas.openxmlformats.org/officeDocument/2006/relationships/slide" Target="slides/slide46.xml"/><Relationship Id="rId54" Type="http://schemas.openxmlformats.org/officeDocument/2006/relationships/slide" Target="slides/slide47.xml"/><Relationship Id="rId55" Type="http://schemas.openxmlformats.org/officeDocument/2006/relationships/slide" Target="slides/slide48.xml"/><Relationship Id="rId56" Type="http://schemas.openxmlformats.org/officeDocument/2006/relationships/slide" Target="slides/slide49.xml"/><Relationship Id="rId57" Type="http://schemas.openxmlformats.org/officeDocument/2006/relationships/slide" Target="slides/slide50.xml"/><Relationship Id="rId58" Type="http://schemas.openxmlformats.org/officeDocument/2006/relationships/slide" Target="slides/slide51.xml"/><Relationship Id="rId59" Type="http://schemas.openxmlformats.org/officeDocument/2006/relationships/slide" Target="slides/slide52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dt" idx="1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sldImg"/>
          </p:nvPr>
        </p:nvSpPr>
        <p:spPr>
          <a:xfrm>
            <a:off x="1143000" y="6822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move the slid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ftr" idx="1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 type="sldNum" idx="1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3311F-6463-412A-AEB7-3736ED29767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25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E4834-4133-4723-97B9-B2F48A0F8570}" type="slidenum">
              <a:rPr b="0" lang="en-GB" sz="1200" spc="-1" strike="noStrike">
                <a:solidFill>
                  <a:srgbClr val="9a044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25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9CAB7-A895-4F5A-9665-44E8D46A9050}" type="slidenum">
              <a:rPr b="0" lang="en-GB" sz="1200" spc="-1" strike="noStrike">
                <a:solidFill>
                  <a:srgbClr val="9a044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E159EE-7074-4EDD-9D68-8DD69ADD34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F48F1C-EF91-43DE-B8E8-F567E56284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4800CA-A22E-4363-BF75-3B0EF3AE7B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212F0C-8182-4FF2-8A85-140DDEC293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E98A02-DB91-4B51-A4FA-0B1B7A413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0D771D-42A9-4DEC-9AF5-A4BD46C7A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7D8F60-8D50-4618-82FA-C8BE20709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724409-D224-4C06-B0CE-749C2FCB4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523714-ACF9-4DBA-8E55-5E61D607F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21CAD2-3147-4D40-BDAC-17E7D911D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970417-39AE-4C47-A37F-E0F8CC371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3D4E9F-87D4-458D-BD52-F3B72140BB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DB07B0-2D80-4F81-A83A-C4669DF5E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C66680-B491-41FE-9AF0-40E6E3069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3C4FEE-932E-400F-96BC-014199F33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D9CA97-C4FF-45FB-838A-B6A1979FE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62A0CD-6054-46AE-8BDE-AA034B2AD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0017D9-76BF-4610-B2B0-D015BC8D2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BE5D77-E265-4691-B4FD-77E446984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A6CA61-D851-4916-8D49-026E15A5E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267B26-066F-4D66-8D48-7726F705D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5B62E7-77B8-4731-906C-090A7595C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9F1B54-5886-4C8B-9F6F-10ECAD1B457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8D6DA7-B5A8-4B4B-9A52-D50A43870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6F3965-2C28-4659-9CBE-BE9973733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29646D-6C37-451B-9DFC-491DDE9E5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5FC744-8681-4135-9315-85733E5DE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545F6C-2606-4421-B97C-CDE6FFFC0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3997C8-B1DE-44B0-80C2-63DB38463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D1ECC4-D82C-4F50-B752-F2F4CB9CE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6BF6816-0A9D-4A00-BED5-28621629BF8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6D8CD1C-CFF1-4ED6-AFB9-182E973BBD9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001B788-0DF4-4F7B-BAB2-8B8D10F120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A5BDB1-951B-4EE4-96C4-5023A236286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4AC9EDD-F647-404F-92C2-95659DD6B29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8DBD7D8-DA48-45A6-97D3-78CE22B1B33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ADC6A56-3506-4C31-9DAF-B2FADEF229D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F844092-C932-4A6C-ACCB-354D3A05D76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1E5F3DB-5958-46D1-8AE7-06A8807CD1E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25D6DC3-6F06-4EA9-B402-AB5E431E43B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2BDBF0C-B9D1-4481-982E-B91E58194EB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6C17708-5700-4908-9264-B1E5B4A7A44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B145145-1890-4AFB-8F04-F734BEB4E3F5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038F37-61FD-4D50-8069-24E0C1EE31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0DEF32-ECC1-4ACA-A6CF-C84DF4C3866F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1AD808-8D57-4185-885A-00DEC3759480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15EBBF-40A1-4A8B-8CA1-4C0179D54156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02E8FB-FFAC-41A7-9081-A7EBAAF0E41F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05B452-3B55-4975-8316-28F44B4BDF57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1FA4F0-7B5D-4718-9D76-8F72BC27018E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8A45BA-7AF4-4632-BB87-0CF300B6DCD5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B78B43-8F44-40C9-A7EF-50E1F057DDEA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6ABD48-6E13-4E8F-AA6B-1D7481653AD3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9EE326-38DA-4D46-A708-98FD064B5503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A7079C-5515-466C-B3A9-8118282A89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FCEB20-95BE-4B29-91B3-E168B2967F21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18B2F2-159B-4E0F-A191-83D3E00758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08F0A1-A52A-4452-987A-0F01A42A32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8E925-3AFD-438B-9A73-39575106E1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71EA2F-C77E-4A36-818E-1B28ACC515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A3BE34EA-26FB-4963-9F1E-745E28BD3005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A6F6392A-4BDA-45E6-9E78-CAFFA30B9C1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</p:grpSp>
      <p:pic>
        <p:nvPicPr>
          <p:cNvPr id="20" name="Picture 22" descr="cid:image004.png@01D7B519.9E61D320"/>
          <p:cNvPicPr/>
          <p:nvPr/>
        </p:nvPicPr>
        <p:blipFill>
          <a:blip r:embed="rId2"/>
          <a:stretch/>
        </p:blipFill>
        <p:spPr>
          <a:xfrm>
            <a:off x="3228840" y="95400"/>
            <a:ext cx="558180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2D95C-11D1-4680-BC62-7CD706482F34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7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8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DFD55-A2E5-414C-9235-269DF6B55393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2556000" y="450720"/>
            <a:ext cx="5581440" cy="66672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ftr" idx="9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sldNum" idx="10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1D17C7C8-F5A0-459B-B978-EA33BFEC8159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65CD0522-FD87-452E-B032-8C0627AFEB8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181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82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83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84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85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86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87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88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89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90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91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92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93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94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95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</p:grpSp>
      <p:pic>
        <p:nvPicPr>
          <p:cNvPr id="196" name="Picture 22" descr="cid:image004.png@01D7B519.9E61D320"/>
          <p:cNvPicPr/>
          <p:nvPr/>
        </p:nvPicPr>
        <p:blipFill>
          <a:blip r:embed="rId2"/>
          <a:stretch/>
        </p:blipFill>
        <p:spPr>
          <a:xfrm>
            <a:off x="3228840" y="95400"/>
            <a:ext cx="5581800" cy="6667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23" descr="cid:image004.png@01D7B519.9E61D320"/>
          <p:cNvPicPr/>
          <p:nvPr/>
        </p:nvPicPr>
        <p:blipFill>
          <a:blip r:embed="rId3"/>
          <a:stretch/>
        </p:blipFill>
        <p:spPr>
          <a:xfrm>
            <a:off x="3228840" y="200160"/>
            <a:ext cx="5581800" cy="66672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ftr" idx="1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sldNum" idx="1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 </a:t>
            </a:r>
            <a:fld id="{CDC00FDD-1D0D-47B0-B46D-D373BA2B76ED}" type="datetime"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07/31/26</a:t>
            </a:fld>
            <a:r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 </a:t>
            </a:r>
            <a:fld id="{7E80BEAA-A1EE-4E80-91E7-BBF4875148C2}" type="slidenum"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9a044b"/>
                </a:solidFill>
                <a:latin typeface="Verdana"/>
              </a:rPr>
              <a:t>5. Analysis of Variance </a:t>
            </a:r>
            <a:br>
              <a:rPr sz="2600"/>
            </a:br>
            <a:r>
              <a:rPr b="0" i="1" lang="en-GB" sz="2600" spc="-1" strike="noStrike">
                <a:solidFill>
                  <a:srgbClr val="9a044b"/>
                </a:solidFill>
                <a:latin typeface="Verdana"/>
              </a:rPr>
              <a:t>(Balanced Multifactorial)</a:t>
            </a:r>
            <a:endParaRPr b="1" lang="en-US" sz="2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Between Subjects Desig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Single Subject Studi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anova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48" name="Object 4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1824120" cy="17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quality of task variance assumption: Levene’s tes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0" name="Text Box 6"/>
          <p:cNvSpPr/>
          <p:nvPr/>
        </p:nvSpPr>
        <p:spPr>
          <a:xfrm>
            <a:off x="109440" y="4565520"/>
            <a:ext cx="9039240" cy="18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70c0"/>
                </a:solidFill>
                <a:latin typeface="Verdana"/>
              </a:rPr>
              <a:t>If group variances differ but normal distributions in group use Welch’s df adjustmen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70c0"/>
                </a:solidFill>
                <a:latin typeface="Verdana"/>
              </a:rPr>
              <a:t>https://statisticsbyjim.com/anova/welchs-anova-compared-to-classic-one-way-anova/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70c0"/>
                </a:solidFill>
                <a:latin typeface="Verdana"/>
              </a:rPr>
              <a:t>See also Delacre, M., Lakens, D., &amp; Leys, C. (2017).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70c0"/>
                </a:solidFill>
                <a:latin typeface="Verdana"/>
              </a:rPr>
              <a:t>Why Psychologists Should by Default Use Welch’s t-test Instead of Student’s t-test.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70c0"/>
                </a:solidFill>
                <a:latin typeface="Verdana"/>
              </a:rPr>
              <a:t>International Review of Social Psychology</a:t>
            </a:r>
            <a:r>
              <a:rPr b="0" lang="en-GB" sz="1600" spc="-1" strike="noStrike">
                <a:solidFill>
                  <a:srgbClr val="0070c0"/>
                </a:solidFill>
                <a:latin typeface="Verdana"/>
              </a:rPr>
              <a:t>, 30(1), 92–101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91" name="Picture 8" descr=""/>
          <p:cNvPicPr/>
          <p:nvPr/>
        </p:nvPicPr>
        <p:blipFill>
          <a:blip r:embed="rId1"/>
          <a:stretch/>
        </p:blipFill>
        <p:spPr>
          <a:xfrm>
            <a:off x="507960" y="1995480"/>
            <a:ext cx="8604360" cy="2548080"/>
          </a:xfrm>
          <a:prstGeom prst="rect">
            <a:avLst/>
          </a:prstGeom>
          <a:ln w="0">
            <a:noFill/>
          </a:ln>
        </p:spPr>
      </p:pic>
      <p:sp>
        <p:nvSpPr>
          <p:cNvPr id="292" name="Oval 9"/>
          <p:cNvSpPr/>
          <p:nvPr/>
        </p:nvSpPr>
        <p:spPr>
          <a:xfrm>
            <a:off x="7521480" y="2457360"/>
            <a:ext cx="1440000" cy="22320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3" name="Line 10"/>
          <p:cNvSpPr/>
          <p:nvPr/>
        </p:nvSpPr>
        <p:spPr>
          <a:xfrm flipV="1">
            <a:off x="6800760" y="3217680"/>
            <a:ext cx="1441440" cy="115236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Group by Task interac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96" name="Object 3"/>
          <p:cNvGraphicFramePr/>
          <p:nvPr/>
        </p:nvGraphicFramePr>
        <p:xfrm>
          <a:off x="787320" y="1600200"/>
          <a:ext cx="7567560" cy="472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9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600200"/>
                    <a:ext cx="75675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8" name="Text Box 4"/>
          <p:cNvSpPr/>
          <p:nvPr/>
        </p:nvSpPr>
        <p:spPr>
          <a:xfrm>
            <a:off x="2133720" y="4800600"/>
            <a:ext cx="586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            objects         plants         countries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ask-group scores follow a Normal distribu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1" name="Oval 4"/>
          <p:cNvSpPr/>
          <p:nvPr/>
        </p:nvSpPr>
        <p:spPr>
          <a:xfrm>
            <a:off x="4495680" y="2819520"/>
            <a:ext cx="838440" cy="2133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2" name="Text Box 8"/>
          <p:cNvSpPr/>
          <p:nvPr/>
        </p:nvSpPr>
        <p:spPr>
          <a:xfrm>
            <a:off x="2666880" y="1600200"/>
            <a:ext cx="434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n-significance indicates Normalit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03" name="Picture 10" descr=""/>
          <p:cNvPicPr/>
          <p:nvPr/>
        </p:nvPicPr>
        <p:blipFill>
          <a:blip r:embed="rId1"/>
          <a:stretch/>
        </p:blipFill>
        <p:spPr>
          <a:xfrm>
            <a:off x="1855800" y="2335320"/>
            <a:ext cx="5430960" cy="3254400"/>
          </a:xfrm>
          <a:prstGeom prst="rect">
            <a:avLst/>
          </a:prstGeom>
          <a:ln w="0">
            <a:noFill/>
          </a:ln>
        </p:spPr>
      </p:pic>
      <p:sp>
        <p:nvSpPr>
          <p:cNvPr id="304" name="Line 11"/>
          <p:cNvSpPr/>
          <p:nvPr/>
        </p:nvSpPr>
        <p:spPr>
          <a:xfrm>
            <a:off x="4427640" y="2492280"/>
            <a:ext cx="2303280" cy="14414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5" name="Oval 12"/>
          <p:cNvSpPr/>
          <p:nvPr/>
        </p:nvSpPr>
        <p:spPr>
          <a:xfrm>
            <a:off x="6227640" y="2421000"/>
            <a:ext cx="1081080" cy="287964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sidual check - equal precision of fi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08" name="Picture 4" descr=""/>
          <p:cNvPicPr/>
          <p:nvPr/>
        </p:nvPicPr>
        <p:blipFill>
          <a:blip r:embed="rId1"/>
          <a:stretch/>
        </p:blipFill>
        <p:spPr>
          <a:xfrm>
            <a:off x="1871640" y="1600200"/>
            <a:ext cx="54007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NOVA tab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1" name="Text Box 7"/>
          <p:cNvSpPr/>
          <p:nvPr/>
        </p:nvSpPr>
        <p:spPr>
          <a:xfrm>
            <a:off x="5715000" y="556272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MS Error subjec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2" name="Text Box 10"/>
          <p:cNvSpPr/>
          <p:nvPr/>
        </p:nvSpPr>
        <p:spPr>
          <a:xfrm>
            <a:off x="3733920" y="60199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e error term used for assessing all term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3" name="Rectangle 12"/>
          <p:cNvSpPr/>
          <p:nvPr/>
        </p:nvSpPr>
        <p:spPr>
          <a:xfrm>
            <a:off x="2286000" y="307800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4" name="Rectangle 13"/>
          <p:cNvSpPr/>
          <p:nvPr/>
        </p:nvSpPr>
        <p:spPr>
          <a:xfrm>
            <a:off x="2286000" y="307800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15" name="Picture 14" descr=""/>
          <p:cNvPicPr/>
          <p:nvPr/>
        </p:nvPicPr>
        <p:blipFill>
          <a:blip r:embed="rId1"/>
          <a:stretch/>
        </p:blipFill>
        <p:spPr>
          <a:xfrm>
            <a:off x="826920" y="1844640"/>
            <a:ext cx="7345440" cy="3960720"/>
          </a:xfrm>
          <a:prstGeom prst="rect">
            <a:avLst/>
          </a:prstGeom>
          <a:ln w="0">
            <a:noFill/>
          </a:ln>
        </p:spPr>
      </p:pic>
      <p:sp>
        <p:nvSpPr>
          <p:cNvPr id="316" name="Oval 15"/>
          <p:cNvSpPr/>
          <p:nvPr/>
        </p:nvSpPr>
        <p:spPr>
          <a:xfrm>
            <a:off x="5867280" y="4005360"/>
            <a:ext cx="1009800" cy="7189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7" name="Line 16"/>
          <p:cNvSpPr/>
          <p:nvPr/>
        </p:nvSpPr>
        <p:spPr>
          <a:xfrm flipH="1">
            <a:off x="6732720" y="2276640"/>
            <a:ext cx="576000" cy="15840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8" name="Text Box 17"/>
          <p:cNvSpPr/>
          <p:nvPr/>
        </p:nvSpPr>
        <p:spPr>
          <a:xfrm>
            <a:off x="6443640" y="1989000"/>
            <a:ext cx="22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ac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9" name="Line 18"/>
          <p:cNvSpPr/>
          <p:nvPr/>
        </p:nvSpPr>
        <p:spPr>
          <a:xfrm flipH="1" flipV="1">
            <a:off x="5508360" y="4653000"/>
            <a:ext cx="647640" cy="93672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ofile plo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trols find naming animals relatively easy compared to patient group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trols find naming countries relatively difficult compared to patient grou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ossed interac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23" name="Object 4"/>
          <p:cNvGraphicFramePr/>
          <p:nvPr/>
        </p:nvGraphicFramePr>
        <p:xfrm>
          <a:off x="4038480" y="1600200"/>
          <a:ext cx="5105520" cy="4572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2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1600200"/>
                    <a:ext cx="510552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5" name="Text Box 5"/>
          <p:cNvSpPr/>
          <p:nvPr/>
        </p:nvSpPr>
        <p:spPr>
          <a:xfrm>
            <a:off x="4800600" y="502920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 Objects    Plants   Countri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imple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elp explain an interac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ell (1997) suggests using the Error term from the analysis using all subj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.g. Using </a:t>
            </a:r>
            <a:r>
              <a:rPr b="0" lang="en-GB" sz="1800" spc="-1" strike="noStrike">
                <a:solidFill>
                  <a:srgbClr val="3903e5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Group 1  observations </a:t>
            </a:r>
            <a:r>
              <a:rPr b="0" lang="en-GB" sz="1800" spc="-1" strike="noStrike">
                <a:solidFill>
                  <a:srgbClr val="3903e5"/>
                </a:solidFill>
                <a:latin typeface="Verdana"/>
              </a:rPr>
              <a:t>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903e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903e5"/>
                </a:solidFill>
                <a:latin typeface="Verdana"/>
              </a:rPr>
              <a:t>Simple effect of Task on Group 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S(Task) = 61.38, MS(error)=2.81 (all 4 task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(3,48) = 61.38/2.81 = 21.84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5486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lternatively : </a:t>
            </a:r>
            <a:r>
              <a:rPr b="1" lang="en-GB" sz="2000" spc="-1" strike="noStrike">
                <a:solidFill>
                  <a:srgbClr val="3903e5"/>
                </a:solidFill>
                <a:latin typeface="Verdana"/>
              </a:rPr>
              <a:t>Simple effect of group on animals</a:t>
            </a:r>
            <a:br>
              <a:rPr sz="2000"/>
            </a:br>
            <a:br>
              <a:rPr sz="2000"/>
            </a:b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       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Groups 1 &amp; 2 = Patients;</a:t>
            </a:r>
            <a:br>
              <a:rPr sz="2000"/>
            </a:b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      Group 3 = Control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31" name="Object 3"/>
          <p:cNvGraphicFramePr/>
          <p:nvPr/>
        </p:nvGraphicFramePr>
        <p:xfrm>
          <a:off x="685800" y="1752480"/>
          <a:ext cx="8229600" cy="4489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3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8229600" cy="448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3" name="Text Box 4"/>
          <p:cNvSpPr/>
          <p:nvPr/>
        </p:nvSpPr>
        <p:spPr>
          <a:xfrm>
            <a:off x="2514600" y="4572000"/>
            <a:ext cx="571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ld                      Severe                 Control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Interac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present the difference in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impl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eff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either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mple effects of tasks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mple effects of grou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re on simple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wo methods available in SPSS for simple effects analysi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NOVA : using /CONTRAST subcommand (See post-hoc talk for rules on contrast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LM : /LMATRIX subcommand is also availab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imaging.mrc-cbu.cam.ac.uk/statswiki/FAQ/Interac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nd also mentioned in forthcoming repeated measures tal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a large number of simple effects a Sidak correction should be considered for correcting the p-valu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http://imaging.mrc-cbu.cam.ac.uk/statswiki/FAQ/SpssBonferroni 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BALANCED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andomisation experimen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ppose wish to compare 2 teaching methods (e.g. group/individual learning ) such that each child is taught to read on their own or in a group;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groups of size 10 - “average ability” ; “below average ability”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o remove allocation bia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row a die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each group of 20 children allocate sets of four subjects to a method (A or B) based on number rolled: throw die five tim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ABB ABAB ABBA BBAA BABA BAAB (permutation block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oll a: (‘1’)    (‘2’)   (‘3’)  (‘4’)    (‘5’)   (‘6’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ould also use a minimisation approach to balance e.g. MinimPy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ize of effec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ress Sums of Squares as % Total Sum of squa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sk : 127/1389=9% (small effect according to Cohen, 198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: 640/1389=46% (large effect according to Cohen, 198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sk x group: 487/1389=35%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large effect according to Cohen, 198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se are squared correlations (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; Their square root is the semi-partial (also called part) correl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compare R-squareds from different data sets: http://imaging.mrc-cbu.cam.ac.uk/statswiki/FAQ/rsqdiff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NOVA summar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teraction : Task by Group: F(6,48)=28.89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in Effects: Task:  F(3,48)=15.12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: F(2,48)=113.95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903e5"/>
                </a:solidFill>
                <a:latin typeface="Verdana"/>
              </a:rPr>
              <a:t>Mai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, </a:t>
            </a:r>
            <a:r>
              <a:rPr b="1" lang="en-GB" sz="2000" spc="-1" strike="noStrike">
                <a:solidFill>
                  <a:srgbClr val="fa1c1c"/>
                </a:solidFill>
                <a:latin typeface="Verdana"/>
              </a:rPr>
              <a:t>Simple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, </a:t>
            </a:r>
            <a:r>
              <a:rPr b="1" lang="en-GB" sz="2000" spc="-1" strike="noStrike">
                <a:solidFill>
                  <a:srgbClr val="100822"/>
                </a:solidFill>
                <a:latin typeface="Verdana"/>
              </a:rPr>
              <a:t>interactio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ea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49" name="Object 0"/>
          <p:cNvGraphicFramePr/>
          <p:nvPr/>
        </p:nvGraphicFramePr>
        <p:xfrm>
          <a:off x="611280" y="2133720"/>
          <a:ext cx="8001000" cy="3962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50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133720"/>
                    <a:ext cx="8001000" cy="39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Oval 7"/>
          <p:cNvSpPr/>
          <p:nvPr/>
        </p:nvSpPr>
        <p:spPr>
          <a:xfrm>
            <a:off x="2590920" y="2666880"/>
            <a:ext cx="4876560" cy="2438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2" name="Oval 8"/>
          <p:cNvSpPr/>
          <p:nvPr/>
        </p:nvSpPr>
        <p:spPr>
          <a:xfrm>
            <a:off x="7543800" y="2895480"/>
            <a:ext cx="1066680" cy="198144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3" name="Oval 9"/>
          <p:cNvSpPr/>
          <p:nvPr/>
        </p:nvSpPr>
        <p:spPr>
          <a:xfrm>
            <a:off x="2987640" y="5157720"/>
            <a:ext cx="4724280" cy="68580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4" name="Oval 10"/>
          <p:cNvSpPr/>
          <p:nvPr/>
        </p:nvSpPr>
        <p:spPr>
          <a:xfrm>
            <a:off x="2771640" y="3860640"/>
            <a:ext cx="4496040" cy="7621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5" name="Text Box 11"/>
          <p:cNvSpPr/>
          <p:nvPr/>
        </p:nvSpPr>
        <p:spPr>
          <a:xfrm>
            <a:off x="2514600" y="2133720"/>
            <a:ext cx="617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     Objects     Plants      Countries  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6" name="Text Box 12"/>
          <p:cNvSpPr/>
          <p:nvPr/>
        </p:nvSpPr>
        <p:spPr>
          <a:xfrm>
            <a:off x="1371600" y="3048120"/>
            <a:ext cx="160020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l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eve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trol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s in a 2 Factor desig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0" name="Rectangle 4"/>
          <p:cNvSpPr/>
          <p:nvPr/>
        </p:nvSpPr>
        <p:spPr>
          <a:xfrm>
            <a:off x="1371600" y="1905120"/>
            <a:ext cx="205740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hich Group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1" name="Rectangle 5"/>
          <p:cNvSpPr/>
          <p:nvPr/>
        </p:nvSpPr>
        <p:spPr>
          <a:xfrm>
            <a:off x="4495680" y="1905120"/>
            <a:ext cx="2057400" cy="83808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ype of Task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2" name="Line 6"/>
          <p:cNvSpPr/>
          <p:nvPr/>
        </p:nvSpPr>
        <p:spPr>
          <a:xfrm flipH="1">
            <a:off x="1295280" y="2971800"/>
            <a:ext cx="6098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3" name="Line 8"/>
          <p:cNvSpPr/>
          <p:nvPr/>
        </p:nvSpPr>
        <p:spPr>
          <a:xfrm>
            <a:off x="2895480" y="2895480"/>
            <a:ext cx="99072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4" name="Line 9"/>
          <p:cNvSpPr/>
          <p:nvPr/>
        </p:nvSpPr>
        <p:spPr>
          <a:xfrm flipH="1">
            <a:off x="3962160" y="2895480"/>
            <a:ext cx="106668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5" name="Line 11"/>
          <p:cNvSpPr/>
          <p:nvPr/>
        </p:nvSpPr>
        <p:spPr>
          <a:xfrm>
            <a:off x="6172200" y="2819520"/>
            <a:ext cx="129528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6" name="Rectangle 12"/>
          <p:cNvSpPr/>
          <p:nvPr/>
        </p:nvSpPr>
        <p:spPr>
          <a:xfrm>
            <a:off x="304920" y="4038480"/>
            <a:ext cx="1676160" cy="6858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in effect 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7" name="Rectangle 13"/>
          <p:cNvSpPr/>
          <p:nvPr/>
        </p:nvSpPr>
        <p:spPr>
          <a:xfrm>
            <a:off x="2743200" y="3962520"/>
            <a:ext cx="2514600" cy="60948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nteraction betwee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8" name="Rectangle 14"/>
          <p:cNvSpPr/>
          <p:nvPr/>
        </p:nvSpPr>
        <p:spPr>
          <a:xfrm>
            <a:off x="6934320" y="3733920"/>
            <a:ext cx="1676160" cy="60948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in effect 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9" name="Rectangle 15"/>
          <p:cNvSpPr/>
          <p:nvPr/>
        </p:nvSpPr>
        <p:spPr>
          <a:xfrm>
            <a:off x="685800" y="4952880"/>
            <a:ext cx="3048120" cy="11430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IMPLE EFFECT 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group=control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group=mild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0" name="Rectangle 16"/>
          <p:cNvSpPr/>
          <p:nvPr/>
        </p:nvSpPr>
        <p:spPr>
          <a:xfrm>
            <a:off x="4419720" y="5029200"/>
            <a:ext cx="3352680" cy="13716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IMPLE EFFECT 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task=naming animal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task=naming countrie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1" name="Line 17"/>
          <p:cNvSpPr/>
          <p:nvPr/>
        </p:nvSpPr>
        <p:spPr>
          <a:xfrm flipH="1">
            <a:off x="3352680" y="4648320"/>
            <a:ext cx="15264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2" name="Line 18"/>
          <p:cNvSpPr/>
          <p:nvPr/>
        </p:nvSpPr>
        <p:spPr>
          <a:xfrm>
            <a:off x="4952880" y="4572000"/>
            <a:ext cx="121932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ask and Group are statistically independent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75" name="Picture 4" descr="orthog"/>
          <p:cNvPicPr/>
          <p:nvPr/>
        </p:nvPicPr>
        <p:blipFill>
          <a:blip r:embed="rId1"/>
          <a:stretch/>
        </p:blipFill>
        <p:spPr>
          <a:xfrm>
            <a:off x="1422360" y="1600200"/>
            <a:ext cx="62992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st-hoc tests (main effect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ukey’s HSD for pairwise comparison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lick post hoc in general linear model:univariate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also use ‘mcneq’ program on UNIX system at CBSU or 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imaging.mrc-cbu.cam.ac.uk/statswiki/FAQ/TukeyKram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andard Error in ANOVA based on averaging the variances of the five observations in each of the 12 group/task combin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be best to look at tasks separately in control group as they behave relatively differently than with the patien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vered in post-hoc tal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ake your design fit your ques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IQ groups, 3 naming tasks, 3 age groups  (A,B,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a044b"/>
                </a:solidFill>
                <a:latin typeface="Verdana"/>
              </a:rPr>
              <a:t>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x 3 Latin Squa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Task 1     Task 2    Task 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 1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A (n=3)  B (n=3)  C (n=3)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 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B (n=3)  C (n=3)  A (n=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 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C (n=3)  A (n=3)  B (n=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Use 1/3 of all possible factor combinations by using a single observation in each cel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atin Square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sk 1 Task 2 Task 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1      19.34  20.45  20.9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2      18.38  22.56  24.2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3      20.82  22.59  24.5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utput - main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87" name="Picture 4" descr=""/>
          <p:cNvPicPr/>
          <p:nvPr/>
        </p:nvPicPr>
        <p:blipFill>
          <a:blip r:embed="rId1"/>
          <a:stretch/>
        </p:blipFill>
        <p:spPr>
          <a:xfrm>
            <a:off x="457200" y="1893960"/>
            <a:ext cx="8229600" cy="4137120"/>
          </a:xfrm>
          <a:prstGeom prst="rect">
            <a:avLst/>
          </a:prstGeom>
          <a:ln w="0">
            <a:noFill/>
          </a:ln>
        </p:spPr>
      </p:pic>
      <p:sp>
        <p:nvSpPr>
          <p:cNvPr id="388" name="Oval 5"/>
          <p:cNvSpPr/>
          <p:nvPr/>
        </p:nvSpPr>
        <p:spPr>
          <a:xfrm>
            <a:off x="7238880" y="3429000"/>
            <a:ext cx="1371600" cy="16765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89" name="Line 6"/>
          <p:cNvSpPr/>
          <p:nvPr/>
        </p:nvSpPr>
        <p:spPr>
          <a:xfrm flipV="1">
            <a:off x="7467480" y="4647960"/>
            <a:ext cx="381240" cy="16002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0" name="Text Box 7"/>
          <p:cNvSpPr/>
          <p:nvPr/>
        </p:nvSpPr>
        <p:spPr>
          <a:xfrm>
            <a:off x="5562720" y="5943600"/>
            <a:ext cx="289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No significant main effec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ut…can’t fit interactions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93" name="Picture 4" descr=""/>
          <p:cNvPicPr/>
          <p:nvPr/>
        </p:nvPicPr>
        <p:blipFill>
          <a:blip r:embed="rId1"/>
          <a:stretch/>
        </p:blipFill>
        <p:spPr>
          <a:xfrm>
            <a:off x="1363680" y="1628640"/>
            <a:ext cx="7780320" cy="4724640"/>
          </a:xfrm>
          <a:prstGeom prst="rect">
            <a:avLst/>
          </a:prstGeom>
          <a:ln w="0">
            <a:noFill/>
          </a:ln>
        </p:spPr>
      </p:pic>
      <p:sp>
        <p:nvSpPr>
          <p:cNvPr id="394" name="Oval 5"/>
          <p:cNvSpPr/>
          <p:nvPr/>
        </p:nvSpPr>
        <p:spPr>
          <a:xfrm>
            <a:off x="2743200" y="2971800"/>
            <a:ext cx="2362320" cy="23623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5" name="Line 6"/>
          <p:cNvSpPr/>
          <p:nvPr/>
        </p:nvSpPr>
        <p:spPr>
          <a:xfrm flipH="1" flipV="1">
            <a:off x="3733920" y="4647960"/>
            <a:ext cx="1752480" cy="152388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6" name="Text Box 7"/>
          <p:cNvSpPr/>
          <p:nvPr/>
        </p:nvSpPr>
        <p:spPr>
          <a:xfrm>
            <a:off x="5257800" y="594360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onfounded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sults: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0 schoolchildren form each ability randomly allocated to one of the two metho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1" i="1" lang="en-GB" sz="1800" spc="-1" strike="noStrike">
                <a:solidFill>
                  <a:srgbClr val="3299cc"/>
                </a:solidFill>
                <a:latin typeface="Verdana"/>
              </a:rPr>
              <a:t>Mean Reading scores: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Method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Average   Below Average   Mea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dividual           1.7           4.5         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3.1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               5.5           5.6         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5.5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           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3.60         5.05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          </a:t>
            </a:r>
            <a:r>
              <a:rPr b="1" i="1" lang="en-GB" sz="1800" spc="-1" strike="noStrike">
                <a:solidFill>
                  <a:srgbClr val="3299cc"/>
                </a:solidFill>
                <a:latin typeface="Verdana"/>
              </a:rPr>
              <a:t>4.375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atin squar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Pro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ed fewer peopl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djusts each factor for other two e.g. group differences not due to task or cent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ssumes zero interac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mbers required are large for bigger designs e.g. 12 x 1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ndom allocation usually has equal numbers of factor combinations (balanc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.g. task/group example we have just looked at is a balanced design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ve people in each group perform each task (5 people x 4 tasks x 3 groups = 60 observatio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alance meant task and group were statistically independent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bservational studies/surveys have unequal numbers in cells (unbalance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spreadsheet:http://imaging.mrc-cbu.cam.ac.uk/statswiki/FAQ/s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BALANCED.ANOVA.X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d study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Predictor 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3 status of smokers: Current, Don’t, Have Done in the pas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 History of smoking: yes or n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s Blood Pressure influenced by smoking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is study will not have equal numbers of subjects having smoker/family history combinations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in general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d stud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qual numbers in group combination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Mean Blood Pressure (BP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ry             Smoker Statu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</a:t>
            </a: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n               Ex               Curr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40.5, n=2    110.5, n=2    127.5, n=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112.0, n=2    119.0, n=2    132.5, n=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mily histories are equally represented for each smoker status. So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 mean blood pressures for each smoking status do not need to b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djusted for family history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istory only (Balance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412" name="Picture 4" descr=""/>
          <p:cNvPicPr/>
          <p:nvPr/>
        </p:nvPicPr>
        <p:blipFill>
          <a:blip r:embed="rId1"/>
          <a:stretch/>
        </p:blipFill>
        <p:spPr>
          <a:xfrm>
            <a:off x="457200" y="2187720"/>
            <a:ext cx="8229600" cy="3549600"/>
          </a:xfrm>
          <a:prstGeom prst="rect">
            <a:avLst/>
          </a:prstGeom>
          <a:ln w="0">
            <a:noFill/>
          </a:ln>
        </p:spPr>
      </p:pic>
      <p:sp>
        <p:nvSpPr>
          <p:cNvPr id="413" name="Oval 6"/>
          <p:cNvSpPr/>
          <p:nvPr/>
        </p:nvSpPr>
        <p:spPr>
          <a:xfrm>
            <a:off x="2514600" y="3886200"/>
            <a:ext cx="2286000" cy="533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tus ONLY (Balance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416" name="Picture 4" descr=""/>
          <p:cNvPicPr/>
          <p:nvPr/>
        </p:nvPicPr>
        <p:blipFill>
          <a:blip r:embed="rId1"/>
          <a:stretch/>
        </p:blipFill>
        <p:spPr>
          <a:xfrm>
            <a:off x="457200" y="2179800"/>
            <a:ext cx="8229600" cy="3563640"/>
          </a:xfrm>
          <a:prstGeom prst="rect">
            <a:avLst/>
          </a:prstGeom>
          <a:ln w="0">
            <a:noFill/>
          </a:ln>
        </p:spPr>
      </p:pic>
      <p:sp>
        <p:nvSpPr>
          <p:cNvPr id="417" name="Oval 5"/>
          <p:cNvSpPr/>
          <p:nvPr/>
        </p:nvSpPr>
        <p:spPr>
          <a:xfrm>
            <a:off x="2438280" y="3886200"/>
            <a:ext cx="2210040" cy="6094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tatus and History are statistically independen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420" name="Picture 4" descr=""/>
          <p:cNvPicPr/>
          <p:nvPr/>
        </p:nvPicPr>
        <p:blipFill>
          <a:blip r:embed="rId1"/>
          <a:stretch/>
        </p:blipFill>
        <p:spPr>
          <a:xfrm>
            <a:off x="457200" y="1967040"/>
            <a:ext cx="8229600" cy="3990960"/>
          </a:xfrm>
          <a:prstGeom prst="rect">
            <a:avLst/>
          </a:prstGeom>
          <a:ln w="0">
            <a:noFill/>
          </a:ln>
        </p:spPr>
      </p:pic>
      <p:sp>
        <p:nvSpPr>
          <p:cNvPr id="421" name="Oval 5"/>
          <p:cNvSpPr/>
          <p:nvPr/>
        </p:nvSpPr>
        <p:spPr>
          <a:xfrm>
            <a:off x="2590920" y="3657600"/>
            <a:ext cx="2286000" cy="6858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22" name="Line 7"/>
          <p:cNvSpPr/>
          <p:nvPr/>
        </p:nvSpPr>
        <p:spPr>
          <a:xfrm flipH="1" flipV="1">
            <a:off x="3809880" y="4190760"/>
            <a:ext cx="1447920" cy="152388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23" name="Text Box 8"/>
          <p:cNvSpPr/>
          <p:nvPr/>
        </p:nvSpPr>
        <p:spPr>
          <a:xfrm>
            <a:off x="4952880" y="5638680"/>
            <a:ext cx="30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haven’t changed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24" name="Oval 9"/>
          <p:cNvSpPr/>
          <p:nvPr/>
        </p:nvSpPr>
        <p:spPr>
          <a:xfrm>
            <a:off x="2362320" y="5029200"/>
            <a:ext cx="1523880" cy="3808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25" name="Line 10"/>
          <p:cNvSpPr/>
          <p:nvPr/>
        </p:nvSpPr>
        <p:spPr>
          <a:xfrm flipV="1">
            <a:off x="3200400" y="5257800"/>
            <a:ext cx="0" cy="53352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26" name="Text Box 11"/>
          <p:cNvSpPr/>
          <p:nvPr/>
        </p:nvSpPr>
        <p:spPr>
          <a:xfrm>
            <a:off x="1828800" y="5638680"/>
            <a:ext cx="320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tal (for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calculation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1" lang="en-GB" sz="20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moking Status alone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= 505.167/2314.667=22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Status adjusted for Family Histor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mily History alone 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= 75/2314.667 =3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Family History adjusted for Statu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nbalanced study (Boniface,1995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3399"/>
                </a:solidFill>
                <a:latin typeface="Verdana"/>
              </a:rPr>
              <a:t>Unequ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numbers in group combination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Mean Blood Pressure (BP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ry          Smoker Statu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n                 Ex             Curr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26.57,n=7   121.67,n=6   131.57,n=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111.75,n=8   108.25,n=4   128.17,n=6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ght expect non-smokers to have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 low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mean blood pressure simpl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ecause they have a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high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proportion of people without a famil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istory of smoking. Need to adjust for family histor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istory ONLY (Unbalanced study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435" name="Picture 3" descr=""/>
          <p:cNvPicPr/>
          <p:nvPr/>
        </p:nvPicPr>
        <p:blipFill>
          <a:blip r:embed="rId1"/>
          <a:stretch/>
        </p:blipFill>
        <p:spPr>
          <a:xfrm>
            <a:off x="457200" y="2179800"/>
            <a:ext cx="8229600" cy="3563640"/>
          </a:xfrm>
          <a:prstGeom prst="rect">
            <a:avLst/>
          </a:prstGeom>
          <a:ln w="0">
            <a:noFill/>
          </a:ln>
        </p:spPr>
      </p:pic>
      <p:sp>
        <p:nvSpPr>
          <p:cNvPr id="436" name="Oval 4"/>
          <p:cNvSpPr/>
          <p:nvPr/>
        </p:nvSpPr>
        <p:spPr>
          <a:xfrm>
            <a:off x="2133720" y="3886200"/>
            <a:ext cx="2514600" cy="533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Questions of interest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Teaching styl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dividual mean - Group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Group performance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verage mean - Below Average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es teaching style success depend on the ability of the child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dividual mean - Group mean) in average -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dividual mean - Group mean) in below averag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tus ONLY (Unbalanced design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439" name="Picture 3" descr=""/>
          <p:cNvPicPr/>
          <p:nvPr/>
        </p:nvPicPr>
        <p:blipFill>
          <a:blip r:embed="rId1"/>
          <a:stretch/>
        </p:blipFill>
        <p:spPr>
          <a:xfrm>
            <a:off x="457200" y="2187720"/>
            <a:ext cx="8229600" cy="3549600"/>
          </a:xfrm>
          <a:prstGeom prst="rect">
            <a:avLst/>
          </a:prstGeom>
          <a:ln w="0">
            <a:noFill/>
          </a:ln>
        </p:spPr>
      </p:pic>
      <p:sp>
        <p:nvSpPr>
          <p:cNvPr id="440" name="Oval 4"/>
          <p:cNvSpPr/>
          <p:nvPr/>
        </p:nvSpPr>
        <p:spPr>
          <a:xfrm>
            <a:off x="2362320" y="3886200"/>
            <a:ext cx="2438280" cy="533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tus and History are </a:t>
            </a:r>
            <a:r>
              <a:rPr b="1" lang="en-GB" sz="2000" spc="-1" strike="noStrike">
                <a:solidFill>
                  <a:srgbClr val="3299cc"/>
                </a:solidFill>
                <a:latin typeface="Verdana"/>
              </a:rPr>
              <a:t>not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 statistically independent…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3" name="Text Box 6"/>
          <p:cNvSpPr/>
          <p:nvPr/>
        </p:nvSpPr>
        <p:spPr>
          <a:xfrm>
            <a:off x="3564000" y="5157720"/>
            <a:ext cx="365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ATUS AND HISTORY SS HAVE CHANGED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4" name="Rectangle 12"/>
          <p:cNvSpPr/>
          <p:nvPr/>
        </p:nvSpPr>
        <p:spPr>
          <a:xfrm>
            <a:off x="2286000" y="307800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5" name="Oval 15"/>
          <p:cNvSpPr/>
          <p:nvPr/>
        </p:nvSpPr>
        <p:spPr>
          <a:xfrm>
            <a:off x="2556000" y="3284640"/>
            <a:ext cx="1439640" cy="6490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446" name="Picture 17" descr=""/>
          <p:cNvPicPr/>
          <p:nvPr/>
        </p:nvPicPr>
        <p:blipFill>
          <a:blip r:embed="rId1"/>
          <a:stretch/>
        </p:blipFill>
        <p:spPr>
          <a:xfrm>
            <a:off x="2079720" y="1700280"/>
            <a:ext cx="4983120" cy="2884320"/>
          </a:xfrm>
          <a:prstGeom prst="rect">
            <a:avLst/>
          </a:prstGeom>
          <a:ln w="0">
            <a:noFill/>
          </a:ln>
        </p:spPr>
      </p:pic>
      <p:sp>
        <p:nvSpPr>
          <p:cNvPr id="447" name="Line 18"/>
          <p:cNvSpPr/>
          <p:nvPr/>
        </p:nvSpPr>
        <p:spPr>
          <a:xfrm flipH="1" flipV="1">
            <a:off x="3634920" y="3499920"/>
            <a:ext cx="792360" cy="151308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8" name="Oval 19"/>
          <p:cNvSpPr/>
          <p:nvPr/>
        </p:nvSpPr>
        <p:spPr>
          <a:xfrm>
            <a:off x="3132000" y="2924280"/>
            <a:ext cx="863640" cy="6490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Whole is more than the sum of the parts in Unbalanced designs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451" name="Picture 4" descr="synergy_factor.bmp"/>
          <p:cNvPicPr/>
          <p:nvPr/>
        </p:nvPicPr>
        <p:blipFill>
          <a:blip r:embed="rId1"/>
          <a:stretch/>
        </p:blipFill>
        <p:spPr>
          <a:xfrm>
            <a:off x="826920" y="2133720"/>
            <a:ext cx="698508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odel for unbalanced data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4" name="Rectangle 3"/>
          <p:cNvSpPr/>
          <p:nvPr/>
        </p:nvSpPr>
        <p:spPr>
          <a:xfrm>
            <a:off x="838080" y="3352680"/>
            <a:ext cx="121932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5" name="Rectangle 4"/>
          <p:cNvSpPr/>
          <p:nvPr/>
        </p:nvSpPr>
        <p:spPr>
          <a:xfrm>
            <a:off x="2819520" y="3048120"/>
            <a:ext cx="1066680" cy="17524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6" name="Rectangle 5"/>
          <p:cNvSpPr/>
          <p:nvPr/>
        </p:nvSpPr>
        <p:spPr>
          <a:xfrm>
            <a:off x="4343400" y="3124080"/>
            <a:ext cx="1143000" cy="12193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7" name="Rectangle 6"/>
          <p:cNvSpPr/>
          <p:nvPr/>
        </p:nvSpPr>
        <p:spPr>
          <a:xfrm>
            <a:off x="5867280" y="3276720"/>
            <a:ext cx="1828800" cy="16761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8" name="Text Box 7"/>
          <p:cNvSpPr/>
          <p:nvPr/>
        </p:nvSpPr>
        <p:spPr>
          <a:xfrm>
            <a:off x="990720" y="342900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121.3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9" name="Text Box 8"/>
          <p:cNvSpPr/>
          <p:nvPr/>
        </p:nvSpPr>
        <p:spPr>
          <a:xfrm>
            <a:off x="2971800" y="3352680"/>
            <a:ext cx="7621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2.1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6.3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8.5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0" name="Text Box 9"/>
          <p:cNvSpPr/>
          <p:nvPr/>
        </p:nvSpPr>
        <p:spPr>
          <a:xfrm>
            <a:off x="4419720" y="3429000"/>
            <a:ext cx="9903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5.2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5.2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1" name="Text Box 10"/>
          <p:cNvSpPr/>
          <p:nvPr/>
        </p:nvSpPr>
        <p:spPr>
          <a:xfrm>
            <a:off x="6019920" y="3505320"/>
            <a:ext cx="152388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2.14  -2.1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1.44  -1.4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3.57   3.5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Est. BP for smoker with no family history =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121.33+8.54-5.27+3.57=128.1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ected blood pressure for random individual =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3" name="Text Box 12"/>
          <p:cNvSpPr/>
          <p:nvPr/>
        </p:nvSpPr>
        <p:spPr>
          <a:xfrm>
            <a:off x="2286000" y="335268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4" name="Text Box 13"/>
          <p:cNvSpPr/>
          <p:nvPr/>
        </p:nvSpPr>
        <p:spPr>
          <a:xfrm>
            <a:off x="3906360" y="3562200"/>
            <a:ext cx="3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5" name="Text Box 14"/>
          <p:cNvSpPr/>
          <p:nvPr/>
        </p:nvSpPr>
        <p:spPr>
          <a:xfrm>
            <a:off x="5562720" y="3886200"/>
            <a:ext cx="2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6" name="Rectangle 15"/>
          <p:cNvSpPr/>
          <p:nvPr/>
        </p:nvSpPr>
        <p:spPr>
          <a:xfrm>
            <a:off x="539280" y="4076640"/>
            <a:ext cx="18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Overall Mea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7" name="Rectangle 16"/>
          <p:cNvSpPr/>
          <p:nvPr/>
        </p:nvSpPr>
        <p:spPr>
          <a:xfrm>
            <a:off x="2209680" y="4876920"/>
            <a:ext cx="210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moking Statu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8" name="Text Box 17"/>
          <p:cNvSpPr/>
          <p:nvPr/>
        </p:nvSpPr>
        <p:spPr>
          <a:xfrm>
            <a:off x="3851280" y="44370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Family History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9" name="Text Box 18"/>
          <p:cNvSpPr/>
          <p:nvPr/>
        </p:nvSpPr>
        <p:spPr>
          <a:xfrm>
            <a:off x="4800600" y="525780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moking Status by Family History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0" name="Text Box 19"/>
          <p:cNvSpPr/>
          <p:nvPr/>
        </p:nvSpPr>
        <p:spPr>
          <a:xfrm>
            <a:off x="609480" y="2133720"/>
            <a:ext cx="586764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s (as % of Total S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atus alone: 1323.33/11086.76=12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mily History alone : 1025.71/11086.76=9.3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tatus (Adjusted for Family History) : 1334.37/11086.76=12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Family History (Adjusted for Status): 1036.81/11086.76=9.4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In Unbalanced designs need to take into account other predictors when explaining the effect of a particular variable on a respons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Unweighted means (Type III SS in SPSS)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owell (2002) can approximate SS in ANOVA using unweighted me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istory          Smoker Status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ANS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Non                 Ex             Current          weighted  unweight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126.57,n=7   121.67,n=6   131.57,n=7      126.85       126.6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                                                      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121.65       121.33 Midpoin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111.75,n=8   108.25,n=4   128.17,n=6      116.44       116.06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(History adjusted for Status and Status by History) : 2 x nH x (126.60-121.33)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1007.35 where nH = 3 x (6/(1/7+1/8+1/6+1/4+1/7+1/6) = 18.11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Weighted mea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S(History) = 20 x (126.85 – 121.65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+ 18 x (116.44-121.65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           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1026.64 approx = 2 x 18.95 (126.85-121.65) 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ry          Smoker Statu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n                 Ex             Current        weighted=arith mean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26.57,n=7   121.67,n=6   131.57,n=7      126.85     (n=20)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                                 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121.65    (mean)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111.75,n=8   108.25,n=4   128.17,n=6      116.44    (n=18)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use weighted means to work out SS(History adjusted for Status)   (convolute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How do we treat main effects in a model containing interactions involving these main effects?</a:t>
            </a:r>
            <a:br>
              <a:rPr sz="1800"/>
            </a:b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lder (1994) , Langsrud (2003) and others suggest looking at main effect Sums of Squares (SS) after removing interaction terms involving that main effect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provided  those interactions are not significan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e.g. omitting the AxB interaction if it is not significant to look at A or B so using SS(A given B in model) and SS(B given A model)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eighted combinations of means can work out SS(A) and SS(A given B)  (and SS(B), SS(B given A));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ly unweighted (equal n) combinations of means work out SS(A | B, AxB) and SS(B | A, AxB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are usually evaluated using changes in model fit for addition or deletion of factors of interest by comparing different regressions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using weighted combinations of means also called Type II SS; SS using unweighted (equally weighted by sample size) combinations of means are called Type III 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d/Unbalanced summar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lanc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lanned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combination siz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n’t have to adjust at analysis stage to examine an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 synerg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lanc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lann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combination siz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verage cell sizes using Harmonic mean (Type III SS in SPSS) although Nelder (1994) advocates a type II weighted 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ed to adjust at analysis stage to examine an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ynergy presen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positive or negativ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10920" y="404640"/>
            <a:ext cx="518148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 apparent contradiction!</a:t>
            </a:r>
            <a:br>
              <a:rPr sz="2000"/>
            </a:br>
            <a:br>
              <a:rPr sz="2000"/>
            </a:b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489" name="Picture 11" descr=""/>
          <p:cNvPicPr/>
          <p:nvPr/>
        </p:nvPicPr>
        <p:blipFill>
          <a:blip r:embed="rId1"/>
          <a:stretch/>
        </p:blipFill>
        <p:spPr>
          <a:xfrm>
            <a:off x="684360" y="1989000"/>
            <a:ext cx="4983120" cy="250524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12" descr=""/>
          <p:cNvPicPr/>
          <p:nvPr/>
        </p:nvPicPr>
        <p:blipFill>
          <a:blip r:embed="rId2"/>
          <a:stretch/>
        </p:blipFill>
        <p:spPr>
          <a:xfrm>
            <a:off x="2700360" y="4437000"/>
            <a:ext cx="5330880" cy="1965240"/>
          </a:xfrm>
          <a:prstGeom prst="rect">
            <a:avLst/>
          </a:prstGeom>
          <a:ln w="0">
            <a:noFill/>
          </a:ln>
        </p:spPr>
      </p:pic>
      <p:sp>
        <p:nvSpPr>
          <p:cNvPr id="491" name="Text Box 13"/>
          <p:cNvSpPr/>
          <p:nvPr/>
        </p:nvSpPr>
        <p:spPr>
          <a:xfrm>
            <a:off x="5796720" y="1989000"/>
            <a:ext cx="260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We have NO interac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2" name="Oval 14"/>
          <p:cNvSpPr/>
          <p:nvPr/>
        </p:nvSpPr>
        <p:spPr>
          <a:xfrm>
            <a:off x="4859280" y="3357720"/>
            <a:ext cx="576360" cy="431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3" name="Oval 15"/>
          <p:cNvSpPr/>
          <p:nvPr/>
        </p:nvSpPr>
        <p:spPr>
          <a:xfrm>
            <a:off x="4643280" y="3429000"/>
            <a:ext cx="1008360" cy="2872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4" name="Line 16"/>
          <p:cNvSpPr/>
          <p:nvPr/>
        </p:nvSpPr>
        <p:spPr>
          <a:xfrm flipH="1">
            <a:off x="5435280" y="2276640"/>
            <a:ext cx="1081080" cy="129672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5" name="Oval 17"/>
          <p:cNvSpPr/>
          <p:nvPr/>
        </p:nvSpPr>
        <p:spPr>
          <a:xfrm>
            <a:off x="6948360" y="4941720"/>
            <a:ext cx="1079640" cy="12240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6" name="Line 18"/>
          <p:cNvSpPr/>
          <p:nvPr/>
        </p:nvSpPr>
        <p:spPr>
          <a:xfrm>
            <a:off x="7164360" y="3716280"/>
            <a:ext cx="287280" cy="136836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7" name="Text Box 19"/>
          <p:cNvSpPr/>
          <p:nvPr/>
        </p:nvSpPr>
        <p:spPr>
          <a:xfrm>
            <a:off x="6659640" y="2708280"/>
            <a:ext cx="2089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But different results in the grou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ne tailed testing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 t(18) for apriori directional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ypotheses called one-tailed tes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.g. Is individual teaching more beneficial than group learning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 groups case only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 t test is a directional test because it takes both positive and negative valu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</a:t>
            </a:r>
            <a:r>
              <a:rPr b="0" lang="en-GB" sz="1400" spc="-1" strike="noStrike" baseline="-25000">
                <a:solidFill>
                  <a:srgbClr val="9a044b"/>
                </a:solidFill>
                <a:latin typeface="Verdana"/>
              </a:rPr>
              <a:t>df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 *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</a:t>
            </a:r>
            <a:r>
              <a:rPr b="0" lang="en-GB" sz="1400" spc="-1" strike="noStrike" baseline="-25000">
                <a:solidFill>
                  <a:srgbClr val="9a044b"/>
                </a:solidFill>
                <a:latin typeface="Verdana"/>
              </a:rPr>
              <a:t>df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  F(1, df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61" name="Object 5"/>
          <p:cNvGraphicFramePr/>
          <p:nvPr/>
        </p:nvGraphicFramePr>
        <p:xfrm>
          <a:off x="4648320" y="1781280"/>
          <a:ext cx="4038480" cy="436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781280"/>
                    <a:ext cx="4038480" cy="436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3" name="Rectangle 6"/>
          <p:cNvSpPr/>
          <p:nvPr/>
        </p:nvSpPr>
        <p:spPr>
          <a:xfrm>
            <a:off x="6629760" y="3200400"/>
            <a:ext cx="198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a044b"/>
                </a:solidFill>
                <a:latin typeface="Times New Roman"/>
              </a:rPr>
              <a:t>P(&gt;1.73)=0.05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4" name="Rectangle 7"/>
          <p:cNvSpPr/>
          <p:nvPr/>
        </p:nvSpPr>
        <p:spPr>
          <a:xfrm>
            <a:off x="5486400" y="4191120"/>
            <a:ext cx="20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66"/>
                </a:solidFill>
                <a:latin typeface="Times New Roman"/>
              </a:rPr>
              <a:t>P(&lt;-1.73)=0.05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5" name="Line 8"/>
          <p:cNvSpPr/>
          <p:nvPr/>
        </p:nvSpPr>
        <p:spPr>
          <a:xfrm>
            <a:off x="8229600" y="3657600"/>
            <a:ext cx="0" cy="21337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6" name="Line 9"/>
          <p:cNvSpPr/>
          <p:nvPr/>
        </p:nvSpPr>
        <p:spPr>
          <a:xfrm>
            <a:off x="6248520" y="4572000"/>
            <a:ext cx="0" cy="1219320"/>
          </a:xfrm>
          <a:prstGeom prst="line">
            <a:avLst/>
          </a:prstGeom>
          <a:ln w="93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7" name="Text Box 10"/>
          <p:cNvSpPr/>
          <p:nvPr/>
        </p:nvSpPr>
        <p:spPr>
          <a:xfrm>
            <a:off x="5105520" y="6095880"/>
            <a:ext cx="373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3     -2      -1      0      1       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8" name="Text Box 11"/>
          <p:cNvSpPr/>
          <p:nvPr/>
        </p:nvSpPr>
        <p:spPr>
          <a:xfrm>
            <a:off x="5410080" y="6400800"/>
            <a:ext cx="373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ifference in method me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xplanation is…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re is no interaction because all of the differences between English and Japanese are not significantly different from zer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ven though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 English syllable scores differ and the Japanese do no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501" name="Object 7"/>
          <p:cNvGraphicFramePr/>
          <p:nvPr/>
        </p:nvGraphicFramePr>
        <p:xfrm>
          <a:off x="4986360" y="2781360"/>
          <a:ext cx="3362400" cy="23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2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86360" y="2781360"/>
                    <a:ext cx="336240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hanks to..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avid Boniface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an Nimmo-Smit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ference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niface DR (1995) Experiment Design and Statistical methods for behavioural and social research Chapman and Hall:London in CBSU library)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ell DC (1992, 1997,2002) Statistical Methods for psychologists (Five editions) Wadsworth:London in CBSU librar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ext week…. 11a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peated Measures and Mixed Model ANOV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udy typ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Between subjects (this talk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e source of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person has one outcom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dom allocation of subjec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r study consists of a single person with multiple outcom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Within subjects (Repeated measur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&gt; 1 source of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person has multiple outcom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mparing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cc3399"/>
                </a:solidFill>
                <a:latin typeface="Verdana"/>
              </a:rPr>
              <a:t>Withi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&amp;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3299cc"/>
                </a:solidFill>
                <a:latin typeface="Verdana"/>
              </a:rPr>
              <a:t>betwee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group </a:t>
            </a:r>
            <a:r>
              <a:rPr b="1" lang="en-GB" sz="2000" spc="-1" strike="noStrike">
                <a:solidFill>
                  <a:srgbClr val="fa1c1c"/>
                </a:solidFill>
                <a:latin typeface="Verdana"/>
              </a:rPr>
              <a:t>VARI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74" name="Picture 4" descr="ssquares"/>
          <p:cNvPicPr/>
          <p:nvPr/>
        </p:nvPicPr>
        <p:blipFill>
          <a:blip r:embed="rId1"/>
          <a:stretch/>
        </p:blipFill>
        <p:spPr>
          <a:xfrm>
            <a:off x="1619280" y="1600200"/>
            <a:ext cx="5905440" cy="4724280"/>
          </a:xfrm>
          <a:prstGeom prst="rect">
            <a:avLst/>
          </a:prstGeom>
          <a:ln w="0">
            <a:noFill/>
          </a:ln>
        </p:spPr>
      </p:pic>
      <p:sp>
        <p:nvSpPr>
          <p:cNvPr id="275" name="Oval 6"/>
          <p:cNvSpPr/>
          <p:nvPr/>
        </p:nvSpPr>
        <p:spPr>
          <a:xfrm>
            <a:off x="2666880" y="1752480"/>
            <a:ext cx="533520" cy="3429000"/>
          </a:xfrm>
          <a:prstGeom prst="ellipse">
            <a:avLst/>
          </a:prstGeom>
          <a:noFill/>
          <a:ln w="381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6" name="Oval 7"/>
          <p:cNvSpPr/>
          <p:nvPr/>
        </p:nvSpPr>
        <p:spPr>
          <a:xfrm>
            <a:off x="6400800" y="1828800"/>
            <a:ext cx="380880" cy="4038480"/>
          </a:xfrm>
          <a:prstGeom prst="ellipse">
            <a:avLst/>
          </a:prstGeom>
          <a:noFill/>
          <a:ln w="381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7" name="Oval 9"/>
          <p:cNvSpPr/>
          <p:nvPr/>
        </p:nvSpPr>
        <p:spPr>
          <a:xfrm>
            <a:off x="2971800" y="4114800"/>
            <a:ext cx="3581280" cy="3049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8" name="Text Box 10"/>
          <p:cNvSpPr/>
          <p:nvPr/>
        </p:nvSpPr>
        <p:spPr>
          <a:xfrm>
            <a:off x="3505320" y="1676520"/>
            <a:ext cx="27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00822"/>
                </a:solidFill>
                <a:latin typeface="Verdana"/>
              </a:rPr>
              <a:t>Is the variation between scores only attributable to random variation between the people those scores were measured on?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nother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groups: 2 are patient groups (severe and mild); one is a control grou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ach person in a group is randomly given one of 4 word naming tasks: five people in each group do each tas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 many X. can you name beginning with s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X is animals (Task 1) or household objects (Task 2) or plants (Task 3) or countries (Task 4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ask main effec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ask 2 has lower mean than task 4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Error bar length = 95% CI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plot using bar plots in SPSS or using EXC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see CBSU website for detail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: PLOTS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85" name="Object 6"/>
          <p:cNvGraphicFramePr/>
          <p:nvPr/>
        </p:nvGraphicFramePr>
        <p:xfrm>
          <a:off x="4356000" y="1844640"/>
          <a:ext cx="449604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8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56000" y="1844640"/>
                    <a:ext cx="449604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7" name="Text Box 7"/>
          <p:cNvSpPr/>
          <p:nvPr/>
        </p:nvSpPr>
        <p:spPr>
          <a:xfrm>
            <a:off x="4419720" y="472428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objects   plants countri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4T13:13:22Z</dcterms:created>
  <dc:creator>peter</dc:creator>
  <dc:description/>
  <dc:language>en-US</dc:language>
  <cp:lastModifiedBy>Peter Watson</cp:lastModifiedBy>
  <dcterms:modified xsi:type="dcterms:W3CDTF">2021-10-26T08:08:44Z</dcterms:modified>
  <cp:revision>373</cp:revision>
  <dc:subject/>
  <dc:title>No Slide Title</dc:title>
</cp:coreProperties>
</file>