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png" ContentType="image/png"/>
  <Override PartName="/ppt/media/image27.wmf" ContentType="image/x-wmf"/>
  <Override PartName="/ppt/media/image4.wmf" ContentType="image/x-wmf"/>
  <Override PartName="/ppt/media/image10.wmf" ContentType="image/x-wmf"/>
  <Override PartName="/ppt/media/image11.png" ContentType="image/png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AF18-A802-4753-AE29-FFE80BFE60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744D-B99A-4D54-B48F-94228B8917B4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5B73-CC6D-4161-BBC0-5700B643D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AF228-B49E-4A51-8924-0F3F3A6F5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0E439-5A9F-43C0-8188-542115F38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CAEB7-A6C5-44F4-BB76-05E914809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09946-8F67-4681-BD6C-53B84F830E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84F46-A17C-4937-AE8D-8FE878F45E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A2B25-4E40-41E4-81B5-1184762E0C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020D2-2FCA-4562-896E-BCCF2B22CF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EF870-FD6D-48EB-8A0E-82203C7439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D1D4C-F510-4EC6-B4DD-9425032BE9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B6CDE-FC3F-4E92-85FC-9AEC171987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3E55-0361-4191-B03B-91476ABB8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D5A3D-D00B-4B9A-8417-F3DD5FB88A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A48C3-00B8-4FE9-9C88-6E87D22EE2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60BC9-7A03-445D-8493-5BBD3849DB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2ED61-2109-4B62-9B36-D453524B02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D6662-BC49-4825-99A9-CA4BEF88D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FCAF-B184-45B9-872F-EF72581AD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54F6-4446-4FB3-827D-EAD8DBB95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AF4A-F0FA-4786-A919-DF55FEDBEE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524F2-1706-44D8-9015-3FBA9CC6A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8CF6-5BB8-4BCE-AF6B-3A1FF6A6C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2D316-1FB9-4A78-8559-691FE5D3C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54A3-2B57-4FFE-ABD2-B6BF9C6D5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1A7F1B4-7C26-4B4B-82B3-615928B8D204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D5B609F-2854-47D6-90F1-CBA07532A3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908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9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51264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ABB24F9-31BB-4026-A967-F47A78BF0F86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1DD3944-339F-4CD5-A360-E1B66133ABF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http://onlinestatbook.com/stat_sim/sampling_dist/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andomisation p-value on cost cent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n-Whitne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ed W = 201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lower part of sampling distribution (1000 bootstra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0" name="Chart Placeholder 5" descr=""/>
          <p:cNvPicPr/>
          <p:nvPr/>
        </p:nvPicPr>
        <p:blipFill>
          <a:blip r:embed="rId1"/>
          <a:stretch/>
        </p:blipFill>
        <p:spPr>
          <a:xfrm>
            <a:off x="4648320" y="194616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33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"/>
          <p:cNvSpPr/>
          <p:nvPr/>
        </p:nvSpPr>
        <p:spPr>
          <a:xfrm>
            <a:off x="236520" y="5910120"/>
            <a:ext cx="882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Bland JM, Altman DG. Statistical methods for assessing agreement between two methods of 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clinical measurement. </a:t>
            </a:r>
            <a:r>
              <a:rPr b="0" i="1" lang="en-GB" sz="1600" spc="-1" strike="noStrike">
                <a:solidFill>
                  <a:srgbClr val="9a044b"/>
                </a:solidFill>
                <a:latin typeface="Times New Roman"/>
              </a:rPr>
              <a:t>Lancet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 1986; </a:t>
            </a:r>
            <a:r>
              <a:rPr b="1" lang="en-GB" sz="1600" spc="-1" strike="noStrike">
                <a:solidFill>
                  <a:srgbClr val="9a044b"/>
                </a:solidFill>
                <a:latin typeface="Times New Roman"/>
              </a:rPr>
              <a:t>i</a:t>
            </a:r>
            <a:r>
              <a:rPr b="0" lang="en-GB" sz="1600" spc="-1" strike="noStrike">
                <a:solidFill>
                  <a:srgbClr val="9a044b"/>
                </a:solidFill>
                <a:latin typeface="Times New Roman"/>
              </a:rPr>
              <a:t>: 307-10. </a:t>
            </a:r>
            <a:r>
              <a:rPr b="0" lang="en-GB" sz="1600" spc="-1" strike="noStrike">
                <a:solidFill>
                  <a:srgbClr val="0070c0"/>
                </a:solidFill>
                <a:latin typeface="Times New Roman"/>
              </a:rPr>
              <a:t>Comparing within subject using paired t-test on deviations</a:t>
            </a:r>
            <a:endParaRPr b="0" lang="en-US" sz="16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24-02-01T12:33:12Z</dcterms:modified>
  <cp:revision>357</cp:revision>
  <dc:subject/>
  <dc:title>Exploratory Data Analysis</dc:title>
</cp:coreProperties>
</file>