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7.wmf" ContentType="image/x-wmf"/>
  <Override PartName="/ppt/media/image4.wmf" ContentType="image/x-wmf"/>
  <Override PartName="/ppt/media/image10.wmf" ContentType="image/x-wmf"/>
  <Override PartName="/ppt/media/image11.png" ContentType="image/png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9DEB-D6D6-447E-845A-36566121E9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440D-079A-46FD-B260-96A21352D70C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86E47-B659-4A4D-8C75-F40892372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CC6B7-B17C-4A53-BC46-1C5DB3210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D6ABF-5460-46B4-8BA0-508B81130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7B56B-1D39-4615-8230-10FC5BAF8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17AB6-E52B-46A0-8080-2F8E72BFF0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DF99B-5F1F-4482-8FCD-80D8B71C6A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B8D92-0CC0-4874-89D4-45A0EF94F0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CD3DF-68C6-4A18-9E6E-791ABC816F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9030B-1047-4F64-B501-A568D2319F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E9138-FD30-483B-80C1-6E63FB6151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F5200-E6BC-4CAB-9D70-C55FE90A90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1E1A8-FD41-4D5E-9C70-C1B5D83EE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1C141-4FE9-4282-9FB8-EA1A7DF729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27F21-BFE9-473F-A157-226DC940CC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144AA-479C-47E5-9580-CE1CDB4337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6A152-23E8-4C28-8C57-2E7AACB2DA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2A4FF-F33A-49CD-9698-7A9045BAF8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2BE68-BCCB-4D5D-A889-C86CE039F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98818-69EC-425A-BF39-B285E5D2E3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14E2F-8D78-4FCD-A7BF-E7FBFC8AB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A55AC-C084-4A29-A590-A8ADF3A8B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62C0D-4466-4065-B430-4A07C2085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1F55E-75CC-4AD6-B99E-0C27E0542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BC906-3319-47E8-BA58-2E5E1E910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1CA3A4B-C578-4D3E-AB74-F686A474C4E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813E7AD-B1AB-4B9A-9219-74638169018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908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9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51264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8D9E9B7-67A1-4295-8502-060373052CC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5A5FEAE-8EEB-48EC-972E-254EBBB66D4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http://onlinestatbook.com/stat_sim/sampling_dist/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andomisation p-value on cost cent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n-Whitne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ed W = 201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lower part of sampling distribution (1000 bootstra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0" name="Chart Placeholder 5" descr=""/>
          <p:cNvPicPr/>
          <p:nvPr/>
        </p:nvPicPr>
        <p:blipFill>
          <a:blip r:embed="rId1"/>
          <a:stretch/>
        </p:blipFill>
        <p:spPr>
          <a:xfrm>
            <a:off x="4648320" y="1946160"/>
            <a:ext cx="4038480" cy="4032360"/>
          </a:xfrm>
          <a:prstGeom prst="rect">
            <a:avLst/>
          </a:prstGeom>
          <a:ln w="0">
            <a:noFill/>
          </a:ln>
        </p:spPr>
      </p:pic>
      <p:sp>
        <p:nvSpPr>
          <p:cNvPr id="33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"/>
          <p:cNvSpPr/>
          <p:nvPr/>
        </p:nvSpPr>
        <p:spPr>
          <a:xfrm>
            <a:off x="236520" y="5910120"/>
            <a:ext cx="88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Bland JM, Altman DG. Statistical methods for assessing agreement between two methods of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clinical measurement. </a:t>
            </a:r>
            <a:r>
              <a:rPr b="0" i="1" lang="en-GB" sz="1600" spc="-1" strike="noStrike">
                <a:solidFill>
                  <a:srgbClr val="9a044b"/>
                </a:solidFill>
                <a:latin typeface="Times New Roman"/>
              </a:rPr>
              <a:t>Lancet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 1986; </a:t>
            </a:r>
            <a:r>
              <a:rPr b="1" lang="en-GB" sz="1600" spc="-1" strike="noStrike">
                <a:solidFill>
                  <a:srgbClr val="9a044b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: 307-10. </a:t>
            </a:r>
            <a:r>
              <a:rPr b="0" lang="en-GB" sz="1600" spc="-1" strike="noStrike">
                <a:solidFill>
                  <a:srgbClr val="0070c0"/>
                </a:solidFill>
                <a:latin typeface="Times New Roman"/>
              </a:rPr>
              <a:t>Comparing within subject using paired t-test on deviatio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24-02-01T12:33:12Z</dcterms:modified>
  <cp:revision>357</cp:revision>
  <dc:subject/>
  <dc:title>Exploratory Data Analysis</dc:title>
</cp:coreProperties>
</file>