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FEE3752B-9E92-458B-A625-5312316E9418}"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342D59DD-ED24-4025-B1E7-61BEF27693BA}"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FF5D9A-EFFB-4C5E-9565-2F0D16027C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F74CB-9F4A-4161-891B-58885B371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49D2E-66DF-4A0E-AFA1-2C14CC8120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1E3DC7-66CD-471F-A7A7-7A0B7E6C4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A1421-9167-4728-AB48-CFE68D764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BA56C-6E31-4FBD-958B-E12E0B29E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B1C66-57DA-45BE-837B-5C8A5BFCE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2EC3A-A03E-479E-92E3-8507B720E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9B151-1742-438B-BF41-81711E7E9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F8E76-0B33-4872-B046-9C8F62CB4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9544B-02F5-4F36-8EA9-D78EEAB7F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695FB-4B5A-423D-B434-4ED0284299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423B2-854D-45DC-8F42-1403F380A238}"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2" descr="cid:image004.png@01D7B519.9E61D320"/>
          <p:cNvPicPr/>
          <p:nvPr/>
        </p:nvPicPr>
        <p:blipFill>
          <a:blip r:embed="rId2"/>
          <a:stretch/>
        </p:blipFill>
        <p:spPr>
          <a:xfrm>
            <a:off x="3090960" y="476280"/>
            <a:ext cx="558144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3FF28-ED6E-4867-8AE0-416165B5175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E2422-70BD-422E-B6EB-9FF584B000D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660D8-CD0F-4298-BD1E-561F1C042FA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88556-3AC6-44BA-AE21-FB8A5563482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397E4-2AF1-4DA8-B67C-97F4D3AA33E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2987A-F33F-43BB-BE4F-1FF949AC8A4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B1CB7-9288-4569-AA29-4B4DB5ECEEC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11E0D-1661-4E1F-B754-745211AF266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8EC62-AD14-4F37-8712-917346D8983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D9257-A3D7-46A9-B7AF-44EB68C477A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6E4A5-96CF-4F2D-8D8C-75FD1072220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C757E-0A1E-4903-A81F-F2300C3F594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3A66F-65D8-4E09-875E-8545F33A105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2F7D6-D6ED-469A-BCE3-639CCF1944B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47A23-B25E-41F3-AAB3-FDE646185D5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0CEDB-C5E4-4237-A705-CA69DBBF95A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1625D-EAC3-4665-AF31-8D1152E322F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7E8DA-6543-433F-9917-FB6B24569DF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FDC7A-F6CD-4799-9107-879ED85EC3F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E758C-F0BA-4946-83AE-9344BDBCDEE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F5E7F-E871-44F1-8D43-FC0C93A1630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62F90-3084-48B7-859E-E54481ECDDC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316A1-BDFC-4EA8-96DF-A02AAE2B5E2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D8296-9C0B-4358-9CF9-E60AB7FFCEE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13CF5-F3CB-41DD-A7B3-4954F70D545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732E2-C35E-4A38-B6EB-CD87EA771DD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5D0F2-5DA4-4745-87D7-61FC0B50F14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995B8-F9B0-4C5D-8A2A-4C23C52F91C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2FBF9-D183-4A48-B07C-0C767E10B56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EF720-D95B-4FF1-8873-FD019DF1F03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09E4D-A320-4984-B6E7-9DEEA02C7A3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2EAB0-949D-4238-B0D3-173B442FD35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49C56-369B-40B1-8EEE-ECC2D03DBB6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B1AFB-08B1-4A44-81DE-C99C0CB4560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44684-5F32-462D-AA53-6C0029D0746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7CB96-BD50-4453-AE04-136EED532E1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2</a:t>
            </a:r>
            <a:r>
              <a:rPr b="0" lang="en-GB" sz="3600" spc="-1" strike="noStrike" baseline="30000">
                <a:solidFill>
                  <a:srgbClr val="515f7b"/>
                </a:solidFill>
                <a:latin typeface="Albertus Medium"/>
              </a:rPr>
              <a:t>nd</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8F49F-95F0-4238-BEB5-5A36E714CD3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0D205-52A8-4F84-9F55-17B9909EDDE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648CA-A32D-4D90-98F8-D4AB192B29B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48A06-F0C1-4BE7-B7D8-39A5CB42C88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24C0C-0916-48F0-AD4D-84B7D56F060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21-09-29T12:19:34Z</dcterms:modified>
  <cp:revision>74</cp:revision>
  <dc:subject/>
  <dc:title>Aims and Objectives</dc:title>
</cp:coreProperties>
</file>