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F16122E-2517-410D-8639-405CFBBE47E2}"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C44B6E0B-5414-4B27-9DB0-EEFFE8350784}"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95741-B901-48DB-A8D7-56414F91C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E8E0E-E99A-4EC4-ADF3-C86CF8110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FBD1A-1A4A-4198-B0E3-76190BAFB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E1D3F-DCEE-410C-84A4-F616BB377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5AD35-E799-4D3D-A6BB-C60F97DCD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BB438-B56B-4EC0-A813-C3110C1C8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9061A-CCC8-4BD7-97E0-5E1ACF15B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B1D2D-0C28-46DE-AC0A-9EAB45A7B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596E2-43B0-4F9E-B80E-4E2559984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E518A-3FEA-45B7-A621-45388481F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AA393-7B65-41EA-95BC-453507D65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89368-04C3-407A-A884-5032B8FB82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FD328-1BF8-4168-89DC-E86321B8C645}"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090960" y="47628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68DDC-B0C8-4073-B8F2-76AC40FC4FF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67E2A-2BB1-482B-B4A3-5800CB3092A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C4C60-9037-40B4-A2A0-9FE1DCF63DB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4BE29-3C06-4B84-ACFC-1F06A6D5D95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3200D-CCA6-49D6-8E07-1534727C92C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F42C1-B4C0-4FFD-A42C-4DB8AD4CF6D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60C50-27B9-44F8-95E0-8F7F589F63F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381E7-52BC-4C64-9135-330BEA626BF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82ABB-9068-48D7-8314-C71A96CFEB0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AE203-5480-4FC0-888C-A01AA4E1E08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D7B21-D0D4-4E5E-A60C-E0B15C58ECE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72BCA-2DB4-4E98-93AC-FB509FE9E66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1A91D-851A-4A9B-99AF-AABD75BE68B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0B320-CF68-4CFF-BC5C-3E394933739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17A40-0104-45D5-A697-EC28E9921AA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FC1D2-7B6E-421E-BF72-767520F6BEF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F0A4D-8740-45AB-B0F2-E10FE707146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A0AFC-3DD0-45C9-A629-3CF99726F4B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00D41-4CB4-44EC-9948-A90953139DC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D20B0-CC50-4D51-9982-E2426341E20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57FDC-F8E1-41AE-89CE-9D3AF7BB165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34C82-7128-4803-9716-2BD50679A7B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DF879-898C-4E6C-8EE6-B7B09179E7F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C337E-BBAE-4614-9DDF-CCBA99B947A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5A696-2960-4F9C-9249-251BD8F4EA1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3D032-9137-44E2-B995-9379AA2D5F9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A08BF-F709-401B-8CEB-D8361D9CEDC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C297F-DF8E-4380-827D-FE6BB2E7613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118F7-D5B2-4AB8-B1DB-D39CBA80D8E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29A95-546E-426E-A495-4381729D414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2D980-EE56-4B16-9EEF-8703F1F6E26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102D7-74A0-4861-AE3C-23E23E8F038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A7A75-9D8C-479F-8643-A29EADB2D2B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3DFE-5B6C-47AF-9F4C-921F80893DD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0FFE9-43BE-49FD-97B2-43006E0F2A7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53B1C-B298-4D9A-951C-DD494E4C4A7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8EBFD-D494-445B-855F-43FC4E03A13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C618B-F215-4D46-AD8C-F9295F25803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8D40C-5B49-412D-8DD9-FB09CCA3390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5C0E2-10DC-4304-8903-DF31C02D3BD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F0830-A79B-4563-9ADB-1CF75E52578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1-09-29T12:19:34Z</dcterms:modified>
  <cp:revision>74</cp:revision>
  <dc:subject/>
  <dc:title>Aims and Objectives</dc:title>
</cp:coreProperties>
</file>