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AF1-C110-44C0-903C-2C442A50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A365-B074-4837-94A0-C94698A4945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062D-8B89-4CD2-9DF5-E106289DD84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A24-1FF7-415B-B432-2C4FE9F13EB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90C-E6CD-4823-9476-DC3BBA3DE7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308-2341-426B-B4BD-2E58D4E0D6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6926-DDE4-4C3C-9690-CAD6FCAF68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282D-0ED5-4EDF-A52A-698442C5A4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EF34-EAF9-4A53-8DAA-0A21A625063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BC54-9BED-4F11-A172-8B8AECEF627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D3A6-8346-4B87-82D8-D6B8083937A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6D7F-2CA2-4316-BFEE-26C9D5FE11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72F-17D1-4E25-A2FD-8A509318BF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1B34-B70D-4C45-896A-C5B6FD7D46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48F-F493-4361-B245-B75EAE0238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30AF-5D02-4663-A1B7-58AF07A2F4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D033-BF91-49AA-B0DA-9B7C1A8EAFA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85AF-9CB6-4C5A-8A5C-5164694C7C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7E9E-2EA1-49DF-A5D4-7601EAAB15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8F3-D8B6-48DA-A14E-B27943240A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B332-B6CE-487A-BB06-93BC83B817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925-4796-4BB9-9776-DFC589BD7A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AC11-1903-40AC-9E2D-609BD42AF6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6F1-567F-4D2B-B6E6-D136E3A53E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22D-2A80-48ED-88B2-5D24A68CBA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771-26B6-4208-B674-9F7E6B8AFC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8A8D-FCAC-49E5-8B91-0C3168C13D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B859-5F6E-4453-A00A-932CC9133D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092-F839-457A-8D6F-F18D3E31DC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B36E-6EB6-4AC9-AFDB-E9DEB5BE7A7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AAF-0249-4BF3-97A7-201F98F63C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306A-F16A-4D2A-9C3B-28F3AB9617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2D3-CC29-4E54-99FA-78B6B3D1D4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CDF9-E16F-4CAE-87F4-A8722A376F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406-6F1A-49EE-A2A0-85099546F9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4147-0C8E-4422-B530-0D1691082B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14BC-9778-4591-9FD5-773EDAED9F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4FE-9A82-4EE2-B9FF-0B690E78A0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FC4-0E51-408E-AF2F-8651F0D2B0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966B-16E3-405D-A1C3-9DE47E8F86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227-F2A5-4D71-A985-F4B08E5469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7B4-F3BC-42F9-A096-AB1067EBF9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1DDF-B83E-4C95-8698-AB57029C28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2BC1-F5B4-4E42-ACBD-3C7BF405F8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9F4-838C-4332-A6C0-DF05EA3C74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270-796F-4733-958F-380BBA69710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140-1F5B-41BE-A17C-82AB9DF832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BB7-CC3F-4394-82A0-F9967937CD5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AC18-7CB9-4133-88D2-E6F2E60CD85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958-4738-493D-B2C6-3DED364843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AF0-28FA-40D6-8F5B-B61BE6A3AC1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C732-E3FE-4C83-8FDE-F9B269E5EC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A70B-6213-4F66-96AF-3FA7AC9875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DBB7-AD68-49E2-8AF7-B4C71BB3BE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5CC-CF23-4ED2-8F70-1FCA573C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77A2-BA62-494B-A8BC-B198FEE7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D19-A3FD-4227-B526-CDE93093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839-FF20-49EB-8957-C0A97D60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45C-72EF-402F-BC43-982BF97C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9BB-09A4-49D0-A9B1-9AADE84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430-5C85-44AE-8B0D-845D028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06E-70BE-40F6-BDBA-CC84110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275-B72E-4A6B-BCD7-12B1F8AF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14E-437B-4A20-BBFF-D20CA2E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2A2-06CA-402E-A50B-1819E2AD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4EF-6F58-42AF-B487-B138A43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E7E4-BB96-40AF-B7EF-3CAAFCA117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proportion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3-11-06T09:58:58Z</dcterms:modified>
  <cp:revision>119</cp:revision>
  <dc:subject/>
  <dc:title>Aims and Objectives</dc:title>
</cp:coreProperties>
</file>