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44D1-68E4-4747-A721-BCBC65509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BCC4-AFEB-4172-8830-D2227E3A5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C53C-5A6A-4399-B11C-CEBEC3AB8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C504-B8DD-4344-A032-BCAE3175C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1EB79-3B06-4ADE-A498-19E6C8A97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807B0-0A4F-4C1B-AAA4-DF277BB04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C864-B8B6-4610-A939-7EE344D16A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88332-CEB4-4218-9496-85AB92241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186E8-0614-4E47-B8AF-32D616644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CCD85-2879-4318-A23F-B4D0F7F14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73B31-BBDA-4B7C-8750-791D217B1B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FA14-CF0E-480B-BEB3-D284D81D0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FB80-AA53-47CF-8BE8-EFC80CABD1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E9173-F737-4E24-A2F6-8858632F5C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0AB7-9624-475B-ADDC-148A56B834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4A26-4C32-49E4-B2E3-BCB617C51E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2FFB8-BFC3-4C5E-BD5F-2954DECE5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F8DB-426A-455D-9845-6018D9E95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0BE6-82FA-482A-B73F-7164ABE8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66A6-73BB-4CB4-8C8B-30BED4119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C792-F475-45D9-BD3E-39E4C88F3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72DAB-B496-4721-AB52-CA0B9A442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1CE2-D5E0-48F7-8FBD-41A4252C6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4C43-7609-4B8C-BD49-1B2C012EE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DCC4D27-98DF-4DB1-AB22-42063FDFC2A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EF332AF-48C3-42F9-81E5-DCD0F75231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79880BB-C892-4E7E-B729-51FD6616C80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B8DC9E5-DF15-4E83-A556-C4C8566F732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andling Collinear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regression (Tibshirani, 1996): minimised sum of regression coefficients so that sum tend to and reach zer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 regression (Hoerl and Kennard, 1970) minimises the squares of the regression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astic net regression (Zou and Hastie, 2005) is a hybrid of LASSO ans Ridg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net in R parameter alpha=1 (LASSO), alpha=0 (Ridge) otherwise Elastic n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indi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ssess regression models using fit indices such 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Sum (observed – predicted)^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E = Sum Abs(observed – predic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PE = Sum( [observed – predicted]/predicted) * 1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-squared = 1 - MSE / Total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Kovac et al (2024)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, LASSO, and Elastic Net regression gave very similar model fits on a linear regression of emotional competency (EC), Distress tolerance, cognitive flexibility, alexithymia and childhood trauma (TRAU) to predict internal sha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42920" y="3314880"/>
          <a:ext cx="6481800" cy="2989080"/>
        </p:xfrm>
        <a:graphic>
          <a:graphicData uri="http://schemas.openxmlformats.org/drawingml/2006/table">
            <a:tbl>
              <a:tblPr/>
              <a:tblGrid>
                <a:gridCol w="1838520"/>
                <a:gridCol w="1403280"/>
                <a:gridCol w="1619280"/>
                <a:gridCol w="162072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erf. metric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Ridg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lastic Net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S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4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5.8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0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5.37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P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.2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R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3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2.7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6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4-02-14T16:36:22Z</dcterms:modified>
  <cp:revision>323</cp:revision>
  <dc:subject/>
  <dc:title>REGRESSION ANALYSIS</dc:title>
</cp:coreProperties>
</file>